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lt;#&gt;</a:t>
            </a:r>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536400" y="479520"/>
            <a:ext cx="6242400" cy="4681440"/>
          </a:xfrm>
          <a:prstGeom prst="rect">
            <a:avLst/>
          </a:prstGeom>
          <a:ln w="0">
            <a:noFill/>
          </a:ln>
        </p:spPr>
      </p:sp>
      <p:sp>
        <p:nvSpPr>
          <p:cNvPr id="578"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536400" y="479520"/>
            <a:ext cx="6242400" cy="4681440"/>
          </a:xfrm>
          <a:prstGeom prst="rect">
            <a:avLst/>
          </a:prstGeom>
          <a:ln w="0">
            <a:noFill/>
          </a:ln>
        </p:spPr>
      </p:sp>
      <p:sp>
        <p:nvSpPr>
          <p:cNvPr id="6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fields and the constructor for the Clothing superclass.</a:t>
            </a:r>
            <a:endParaRPr b="1" lang="en-US" sz="1200" spc="-1" strike="noStrike">
              <a:solidFill>
                <a:srgbClr val="000000"/>
              </a:solidFill>
              <a:latin typeface="Arial"/>
            </a:endParaRPr>
          </a:p>
        </p:txBody>
      </p:sp>
      <p:sp>
        <p:nvSpPr>
          <p:cNvPr id="6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B8D0D55-C1F2-498C-BB1A-585CB54D44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536400" y="479520"/>
            <a:ext cx="6242400" cy="4681440"/>
          </a:xfrm>
          <a:prstGeom prst="rect">
            <a:avLst/>
          </a:prstGeom>
          <a:ln w="0">
            <a:noFill/>
          </a:ln>
        </p:spPr>
      </p:sp>
      <p:sp>
        <p:nvSpPr>
          <p:cNvPr id="6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methods for the Clothing superclass.</a:t>
            </a:r>
            <a:endParaRPr b="1" lang="en-US" sz="1200" spc="-1" strike="noStrike">
              <a:solidFill>
                <a:srgbClr val="000000"/>
              </a:solidFill>
              <a:latin typeface="Arial"/>
            </a:endParaRPr>
          </a:p>
        </p:txBody>
      </p:sp>
      <p:sp>
        <p:nvSpPr>
          <p:cNvPr id="60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87D5DF1-5D78-414D-AC20-D12BCCC5E2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536400" y="479520"/>
            <a:ext cx="6242400" cy="4681440"/>
          </a:xfrm>
          <a:prstGeom prst="rect">
            <a:avLst/>
          </a:prstGeom>
          <a:ln w="0">
            <a:noFill/>
          </a:ln>
        </p:spPr>
      </p:sp>
      <p:sp>
        <p:nvSpPr>
          <p:cNvPr id="6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remaining methods of the Clothing superclass.</a:t>
            </a:r>
            <a:endParaRPr b="1" lang="en-US" sz="1200" spc="-1" strike="noStrike">
              <a:solidFill>
                <a:srgbClr val="000000"/>
              </a:solidFill>
              <a:latin typeface="Arial"/>
            </a:endParaRPr>
          </a:p>
        </p:txBody>
      </p:sp>
      <p:sp>
        <p:nvSpPr>
          <p:cNvPr id="61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FBE639B-F6CD-4F7C-AA7D-627F03FE63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536400" y="479520"/>
            <a:ext cx="6242400" cy="4681440"/>
          </a:xfrm>
          <a:prstGeom prst="rect">
            <a:avLst/>
          </a:prstGeom>
          <a:ln w="0">
            <a:noFill/>
          </a:ln>
        </p:spPr>
      </p:sp>
      <p:sp>
        <p:nvSpPr>
          <p:cNvPr id="61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D297C2D-FABC-4F1C-9F85-A44F357651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536400" y="479520"/>
            <a:ext cx="6242400" cy="4681440"/>
          </a:xfrm>
          <a:prstGeom prst="rect">
            <a:avLst/>
          </a:prstGeom>
          <a:ln w="0">
            <a:noFill/>
          </a:ln>
        </p:spPr>
      </p:sp>
      <p:sp>
        <p:nvSpPr>
          <p:cNvPr id="6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cod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de declares attributes and methods that are unique to this class. Attributes and methods that are common with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are inherited and do not need to be decla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also includes two useful keywords and shows a common way of implementing constructors in a sub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per</a:t>
            </a:r>
            <a:r>
              <a:rPr b="1" lang="en-US" sz="1200" spc="-1" strike="noStrike">
                <a:solidFill>
                  <a:srgbClr val="000000"/>
                </a:solidFill>
                <a:latin typeface="Arial"/>
              </a:rPr>
              <a:t> refers to the superclass. Even if a method of the superclass has been overridden in the sub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llows you to invoke the method of the superclass. In the example in the slide, it is used to invoke the constructor on the superclass. By using this technique, the constructor on the superclass can be invoked to set all the common attributes of the object being constructed. Then, as in the example here, additional attributes can be set in following stat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nly additional attribute that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has is the </a:t>
            </a:r>
            <a:r>
              <a:rPr b="1" lang="en-US" sz="1200" spc="-1" strike="noStrike">
                <a:solidFill>
                  <a:srgbClr val="000000"/>
                </a:solidFill>
                <a:latin typeface="Courier New"/>
                <a:ea typeface="Courier New"/>
              </a:rPr>
              <a:t>fit</a:t>
            </a:r>
            <a:r>
              <a:rPr b="1" lang="en-US" sz="1200" spc="-1" strike="noStrike">
                <a:solidFill>
                  <a:srgbClr val="000000"/>
                </a:solidFill>
                <a:latin typeface="Arial"/>
              </a:rPr>
              <a:t> attribute, and it is set after the invocation of the superclass constructor. Note the use of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In contrast to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object of this class. It is not necessary to use it in the example in the slide, but it is common to do so in constructors to help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1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0C8FA42-24DC-4BCA-B761-2A4E02732F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536400" y="479520"/>
            <a:ext cx="6242400" cy="4681440"/>
          </a:xfrm>
          <a:prstGeom prst="rect">
            <a:avLst/>
          </a:prstGeom>
          <a:ln w="0">
            <a:noFill/>
          </a:ln>
        </p:spPr>
      </p:sp>
      <p:sp>
        <p:nvSpPr>
          <p:cNvPr id="6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f the superclass and is more specific to the Shir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wise,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f the superclass to check whether a valid value is being used for this class. (The code is not shown here, but remember that this is one of the advantages of encapsulating fields, as discussed in the lesson titled “Using Encapsulation and Construc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2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AFF2111-21BE-4257-8D4E-145AEC659C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536400" y="479520"/>
            <a:ext cx="6242400" cy="4681440"/>
          </a:xfrm>
          <a:prstGeom prst="rect">
            <a:avLst/>
          </a:prstGeom>
          <a:ln w="0">
            <a:noFill/>
          </a:ln>
        </p:spPr>
      </p:sp>
      <p:sp>
        <p:nvSpPr>
          <p:cNvPr id="6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a superclass makes sense as an object, and sometimes it does not. Duke's Choice carries shirts, socks, and trousers, but it does not have an individual item called a “clothing.” Also, in the application, the superclass Clothing may declare some methods that may be required in each subclass (and thus can be in the superclass), but cannot really be implemented in the superclass.</a:t>
            </a:r>
            <a:endParaRPr b="1" lang="en-US" sz="1200" spc="-1" strike="noStrike">
              <a:solidFill>
                <a:srgbClr val="000000"/>
              </a:solidFill>
              <a:latin typeface="Arial"/>
            </a:endParaRPr>
          </a:p>
        </p:txBody>
      </p:sp>
      <p:sp>
        <p:nvSpPr>
          <p:cNvPr id="62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6ECABA7-9161-42EA-8AA8-AE05D4EE93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536400" y="479520"/>
            <a:ext cx="6242400" cy="4681440"/>
          </a:xfrm>
          <a:prstGeom prst="rect">
            <a:avLst/>
          </a:prstGeom>
          <a:ln w="0">
            <a:noFill/>
          </a:ln>
        </p:spPr>
      </p:sp>
      <p:sp>
        <p:nvSpPr>
          <p:cNvPr id="6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Abstraction</a:t>
            </a:r>
            <a:r>
              <a:rPr b="1" lang="en-US" sz="1200" spc="-1" strike="noStrike">
                <a:solidFill>
                  <a:srgbClr val="000000"/>
                </a:solidFill>
                <a:latin typeface="Arial"/>
              </a:rPr>
              <a:t> refers to creating classes that are general and may contain methods without particular implementation or method body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an abstract class is the Clothing class as coded in this slide and the following slides. Clothing is an abstract concept that can refer to anything. (You usually do not go to a store and say, “I want to buy a clothing i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ll clothing items have some similar characteristics in the context of an order entry system, such as an ID or a method to display information about the item. Classes that are generic and cannot be fully defined, such as an Item class, are referred to as </a:t>
            </a:r>
            <a:r>
              <a:rPr b="1" i="1" lang="en-US" sz="1200" spc="-1" strike="noStrike">
                <a:solidFill>
                  <a:srgbClr val="000000"/>
                </a:solidFill>
                <a:latin typeface="Arial"/>
              </a:rPr>
              <a:t>abstract</a:t>
            </a:r>
            <a:r>
              <a:rPr b="1" lang="en-US" sz="1200" spc="-1" strike="noStrike">
                <a:solidFill>
                  <a:srgbClr val="000000"/>
                </a:solidFill>
                <a:latin typeface="Arial"/>
              </a:rPr>
              <a:t> classes. Classes that extend an abstract class must implement the empty methods of the abstract class with code specific to the subclass. You should spend time on your analysis and design to make sure that your solution has enough abstraction to ensure flexibility.</a:t>
            </a:r>
            <a:endParaRPr b="1" lang="en-US" sz="1200" spc="-1" strike="noStrike">
              <a:solidFill>
                <a:srgbClr val="000000"/>
              </a:solidFill>
              <a:latin typeface="Arial"/>
            </a:endParaRPr>
          </a:p>
        </p:txBody>
      </p:sp>
      <p:sp>
        <p:nvSpPr>
          <p:cNvPr id="6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10F964E-6A02-44F6-B950-373F3460DD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536400" y="479520"/>
            <a:ext cx="6242400" cy="4681440"/>
          </a:xfrm>
          <a:prstGeom prst="rect">
            <a:avLst/>
          </a:prstGeom>
          <a:ln w="0">
            <a:noFill/>
          </a:ln>
        </p:spPr>
      </p:sp>
      <p:sp>
        <p:nvSpPr>
          <p:cNvPr id="6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t and set methods for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re abstract to ensure that they are implemented appropriately in each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shown previously will compile correctly as a subclass of this abstract class because it already has implementations of these two methods. But if the implementations of </a:t>
            </a:r>
            <a:r>
              <a:rPr b="1" lang="en-US" sz="1200" spc="-1" strike="noStrike">
                <a:solidFill>
                  <a:srgbClr val="000000"/>
                </a:solidFill>
                <a:latin typeface="Courier New"/>
                <a:ea typeface="Courier New"/>
              </a:rPr>
              <a:t>ge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are removed from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mpile will fail because abstract methods in the superclass must be implemented in the subclass.</a:t>
            </a:r>
            <a:endParaRPr b="1" lang="en-US" sz="1200" spc="-1" strike="noStrike">
              <a:solidFill>
                <a:srgbClr val="000000"/>
              </a:solidFill>
              <a:latin typeface="Arial"/>
            </a:endParaRPr>
          </a:p>
        </p:txBody>
      </p:sp>
      <p:sp>
        <p:nvSpPr>
          <p:cNvPr id="6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81D3848-6E27-43A2-8431-915B973CC7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536400" y="479520"/>
            <a:ext cx="6242400" cy="4681440"/>
          </a:xfrm>
          <a:prstGeom prst="rect">
            <a:avLst/>
          </a:prstGeom>
          <a:ln w="0">
            <a:noFill/>
          </a:ln>
        </p:spPr>
      </p:sp>
      <p:sp>
        <p:nvSpPr>
          <p:cNvPr id="6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s in this course, shirts, trousers, hats, and socks are all types of clothing. So Clothing is a good name for the superclass to these subclasses (types) of clothing.</a:t>
            </a:r>
            <a:endParaRPr b="1" lang="en-US" sz="1200" spc="-1" strike="noStrike">
              <a:solidFill>
                <a:srgbClr val="000000"/>
              </a:solidFill>
              <a:latin typeface="Arial"/>
            </a:endParaRPr>
          </a:p>
        </p:txBody>
      </p:sp>
      <p:sp>
        <p:nvSpPr>
          <p:cNvPr id="6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DEED93A-4497-4516-8676-F76820B5C0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422958B-F69A-4420-9FD7-8AAFDC727F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0" name="PlaceHolder 1"/>
          <p:cNvSpPr>
            <a:spLocks noGrp="1"/>
          </p:cNvSpPr>
          <p:nvPr>
            <p:ph type="sldImg"/>
          </p:nvPr>
        </p:nvSpPr>
        <p:spPr>
          <a:xfrm>
            <a:off x="536400" y="479520"/>
            <a:ext cx="6242400" cy="4681440"/>
          </a:xfrm>
          <a:prstGeom prst="rect">
            <a:avLst/>
          </a:prstGeom>
          <a:ln w="0">
            <a:noFill/>
          </a:ln>
        </p:spPr>
      </p:sp>
      <p:sp>
        <p:nvSpPr>
          <p:cNvPr id="5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536400" y="479520"/>
            <a:ext cx="6242400" cy="4681440"/>
          </a:xfrm>
          <a:prstGeom prst="rect">
            <a:avLst/>
          </a:prstGeom>
          <a:ln w="0">
            <a:noFill/>
          </a:ln>
        </p:spPr>
      </p:sp>
      <p:sp>
        <p:nvSpPr>
          <p:cNvPr id="6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nother set of superclasses and subclasses. In this case, there are more than two levels. The base superclass is Employee, and Employee currently has two subclasses. One of the big advantages of inheritance is that it is easy at any future time to create a new class that extends Employee, and that class inherits all the functionality that Employee ha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Employee subclasses is SkilledEmployee, and the diagram shows that it has three subclasses of its own: Editor, GraphicIllustrator, and TechnicalWri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e of these classes are abstract. There is such a thing as an employee and some processes in an application using these classes may work with the Employee class. </a:t>
            </a:r>
            <a:endParaRPr b="1" lang="en-US" sz="1200" spc="-1" strike="noStrike">
              <a:solidFill>
                <a:srgbClr val="000000"/>
              </a:solidFill>
              <a:latin typeface="Arial"/>
            </a:endParaRPr>
          </a:p>
        </p:txBody>
      </p:sp>
      <p:sp>
        <p:nvSpPr>
          <p:cNvPr id="6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DC0A1FC-5621-4202-9FE4-EC86729983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536400" y="479520"/>
            <a:ext cx="6242400" cy="4681440"/>
          </a:xfrm>
          <a:prstGeom prst="rect">
            <a:avLst/>
          </a:prstGeom>
          <a:ln w="0">
            <a:noFill/>
          </a:ln>
        </p:spPr>
      </p:sp>
      <p:sp>
        <p:nvSpPr>
          <p:cNvPr id="637"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BA09F2A-8AB3-44AA-B7DE-6BABDB4301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3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536400" y="479520"/>
            <a:ext cx="6242400" cy="4681440"/>
          </a:xfrm>
          <a:prstGeom prst="rect">
            <a:avLst/>
          </a:prstGeom>
          <a:ln w="0">
            <a:noFill/>
          </a:ln>
        </p:spPr>
      </p:sp>
      <p:sp>
        <p:nvSpPr>
          <p:cNvPr id="6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y important feature of Java is this ability to use not only the class itself but any superclass of the class as its reference type. In the example shown in the slide, notice that you can refer to both a Shirt object and a Trousers object with a Clothing reference. This means that a reference to a Shirt or Trousers object can be passed into a method that requires a Clothing reference. Or a Clothing array can contain references to Shirt, Trousers, or Socks objects.</a:t>
            </a:r>
            <a:endParaRPr b="1" lang="en-US" sz="1200" spc="-1" strike="noStrike">
              <a:solidFill>
                <a:srgbClr val="000000"/>
              </a:solidFill>
              <a:latin typeface="Arial"/>
            </a:endParaRPr>
          </a:p>
        </p:txBody>
      </p:sp>
      <p:sp>
        <p:nvSpPr>
          <p:cNvPr id="64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FB03CE7-ED99-4042-8228-30530F3F27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536400" y="479520"/>
            <a:ext cx="6242400" cy="4681440"/>
          </a:xfrm>
          <a:prstGeom prst="rect">
            <a:avLst/>
          </a:prstGeom>
          <a:ln w="0">
            <a:noFill/>
          </a:ln>
        </p:spPr>
      </p:sp>
      <p:sp>
        <p:nvSpPr>
          <p:cNvPr id="6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ing the methods of a class using a superclass reference is a little like accessing the controls of an electronic device using a remote control instead of the controls on the device itself. Often a device such as a video camera has a comprehensive set of controls for recording, playing, editing, and otherwise accessing every available function of the camera. This is a lot like using the class of the object as the reference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ome combinations of video camera and remote, the remote may give you exactly the same controls, and this can also be the case when using a superclass as reference for an object (the superclass gives you access to all the methods of the object; the object's class does not add any new methods). But it is often the case that the remote control does not have the full set of controls available on the camera itself. Again, this is common when using the superclass as reference. </a:t>
            </a:r>
            <a:br>
              <a:rPr sz="1200"/>
            </a:br>
            <a:r>
              <a:rPr b="1" lang="en-US" sz="1200" spc="-1" strike="noStrike">
                <a:solidFill>
                  <a:srgbClr val="000000"/>
                </a:solidFill>
                <a:latin typeface="Arial"/>
              </a:rPr>
              <a:t>The superclass has access only to the methods of the object that are declared on the superclass</a:t>
            </a:r>
            <a:br>
              <a:rPr sz="1200"/>
            </a:br>
            <a:r>
              <a:rPr b="1" lang="en-US" sz="1200" spc="-1" strike="noStrike">
                <a:solidFill>
                  <a:srgbClr val="000000"/>
                </a:solidFill>
                <a:latin typeface="Arial"/>
              </a:rPr>
              <a:t>even if the object has a number of other methods.</a:t>
            </a:r>
            <a:endParaRPr b="1" lang="en-US" sz="1200" spc="-1" strike="noStrike">
              <a:solidFill>
                <a:srgbClr val="000000"/>
              </a:solidFill>
              <a:latin typeface="Arial"/>
            </a:endParaRPr>
          </a:p>
        </p:txBody>
      </p:sp>
      <p:sp>
        <p:nvSpPr>
          <p:cNvPr id="64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13EA029-BE19-466F-AC7E-A679818012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536400" y="479520"/>
            <a:ext cx="6242400" cy="4681440"/>
          </a:xfrm>
          <a:prstGeom prst="rect">
            <a:avLst/>
          </a:prstGeom>
          <a:ln w="0">
            <a:noFill/>
          </a:ln>
        </p:spPr>
      </p:sp>
      <p:sp>
        <p:nvSpPr>
          <p:cNvPr id="6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reference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does not allow access to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or </a:t>
            </a:r>
            <a:r>
              <a:rPr b="1" lang="en-US" sz="1200" spc="-1" strike="noStrike">
                <a:solidFill>
                  <a:srgbClr val="000000"/>
                </a:solidFill>
                <a:latin typeface="Courier New"/>
                <a:ea typeface="Courier New"/>
              </a:rPr>
              <a:t>getGender() </a:t>
            </a:r>
            <a:r>
              <a:rPr b="1" lang="en-US" sz="1200" spc="-1" strike="noStrike">
                <a:solidFill>
                  <a:srgbClr val="000000"/>
                </a:solidFill>
                <a:latin typeface="Arial"/>
              </a:rPr>
              <a:t>method of the </a:t>
            </a:r>
            <a:r>
              <a:rPr b="1" lang="en-US" sz="1200" spc="-1" strike="noStrike">
                <a:solidFill>
                  <a:srgbClr val="000000"/>
                </a:solidFill>
                <a:latin typeface="Courier New"/>
                <a:ea typeface="Courier New"/>
              </a:rPr>
              <a:t>Trouser</a:t>
            </a:r>
            <a:r>
              <a:rPr b="1" lang="en-US" sz="1200" spc="-1" strike="noStrike">
                <a:solidFill>
                  <a:srgbClr val="000000"/>
                </a:solidFill>
                <a:latin typeface="Arial"/>
              </a:rPr>
              <a:t> object. Usually, this is not a problem because you are most likely to be passing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s to methods that do not require access to these methods. For example, a </a:t>
            </a:r>
            <a:r>
              <a:rPr b="1" lang="en-US" sz="1200" spc="-1" strike="noStrike">
                <a:solidFill>
                  <a:srgbClr val="000000"/>
                </a:solidFill>
                <a:latin typeface="Courier New"/>
                <a:ea typeface="Courier New"/>
              </a:rPr>
              <a:t>purchase()</a:t>
            </a:r>
            <a:r>
              <a:rPr b="1" lang="en-US" sz="1200" spc="-1" strike="noStrike">
                <a:solidFill>
                  <a:srgbClr val="000000"/>
                </a:solidFill>
                <a:latin typeface="Arial"/>
              </a:rPr>
              <a:t> method could receive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rgument because it needs access only to the </a:t>
            </a:r>
            <a:r>
              <a:rPr b="1" lang="en-US" sz="1200" spc="-1" strike="noStrike">
                <a:solidFill>
                  <a:srgbClr val="000000"/>
                </a:solidFill>
                <a:latin typeface="Courier New"/>
                <a:ea typeface="Courier New"/>
              </a:rPr>
              <a:t>getPric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4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57E732E-F299-41A8-863E-BD6C9EF879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536400" y="479520"/>
            <a:ext cx="6242400" cy="4681440"/>
          </a:xfrm>
          <a:prstGeom prst="rect">
            <a:avLst/>
          </a:prstGeom>
          <a:ln w="0">
            <a:noFill/>
          </a:ln>
        </p:spPr>
      </p:sp>
      <p:sp>
        <p:nvSpPr>
          <p:cNvPr id="6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that a superclass may not have access to all the methods of the object it is referring to, how can you access those methods? The answer is that you can do so by replacing the superclass reference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ference that is the same type as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nterface that declares the methods in question and is implemented by the class of th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covered in the next topic of this lesson.)</a:t>
            </a:r>
            <a:endParaRPr b="1" lang="en-US" sz="1200" spc="-1" strike="noStrike">
              <a:solidFill>
                <a:srgbClr val="000000"/>
              </a:solidFill>
              <a:latin typeface="Arial"/>
            </a:endParaRPr>
          </a:p>
        </p:txBody>
      </p:sp>
      <p:sp>
        <p:nvSpPr>
          <p:cNvPr id="65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2E3567F-032F-4597-9508-412858378F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536400" y="479520"/>
            <a:ext cx="6242400" cy="4681440"/>
          </a:xfrm>
          <a:prstGeom prst="rect">
            <a:avLst/>
          </a:prstGeom>
          <a:ln w="0">
            <a:noFill/>
          </a:ln>
        </p:spPr>
      </p:sp>
      <p:sp>
        <p:nvSpPr>
          <p:cNvPr id="6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being cast to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reference to access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method, which is not accessible via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Note that the inner parentheses around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re part of the cast syntax, and the outer parentheses around </a:t>
            </a:r>
            <a:r>
              <a:rPr b="1" lang="en-US" sz="1200" spc="-1" strike="noStrike">
                <a:solidFill>
                  <a:srgbClr val="000000"/>
                </a:solidFill>
                <a:latin typeface="Courier New"/>
                <a:ea typeface="Courier New"/>
              </a:rPr>
              <a:t>(Trousers)cl</a:t>
            </a:r>
            <a:r>
              <a:rPr b="1" lang="en-US" sz="1200" spc="-1" strike="noStrike">
                <a:solidFill>
                  <a:srgbClr val="000000"/>
                </a:solidFill>
                <a:latin typeface="Arial"/>
              </a:rPr>
              <a:t> are there to apply the cast to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type.</a:t>
            </a:r>
            <a:endParaRPr b="1" lang="en-US" sz="1200" spc="-1" strike="noStrike">
              <a:solidFill>
                <a:srgbClr val="000000"/>
              </a:solidFill>
              <a:latin typeface="Arial"/>
            </a:endParaRPr>
          </a:p>
        </p:txBody>
      </p:sp>
      <p:sp>
        <p:nvSpPr>
          <p:cNvPr id="65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924295B-6A9B-4167-98EB-B5D69A0E6D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536400" y="479520"/>
            <a:ext cx="6242400" cy="4681440"/>
          </a:xfrm>
          <a:prstGeom prst="rect">
            <a:avLst/>
          </a:prstGeom>
          <a:ln w="0">
            <a:noFill/>
          </a:ln>
        </p:spPr>
      </p:sp>
      <p:sp>
        <p:nvSpPr>
          <p:cNvPr id="6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code example in the slide shows a method that is designed to receive an argument of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then cast it to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to invoke a method that exists only on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object. But it is not possible to know what object type the reference </a:t>
            </a:r>
            <a:r>
              <a:rPr b="1" lang="en-US" sz="1200" spc="-1" strike="noStrike">
                <a:solidFill>
                  <a:srgbClr val="000000"/>
                </a:solidFill>
                <a:latin typeface="Courier New"/>
                <a:ea typeface="Courier New"/>
              </a:rPr>
              <a:t>cl</a:t>
            </a:r>
            <a:r>
              <a:rPr b="1" lang="en-US" sz="1200" spc="-1" strike="noStrike">
                <a:solidFill>
                  <a:srgbClr val="000000"/>
                </a:solidFill>
                <a:latin typeface="Arial"/>
              </a:rPr>
              <a:t> points to. And if it is, say,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the attempt to cast it will cause a problem. (It will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 Throwing exceptions is covered in the lesson titled “Handling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de around this potential problem with the code shown in the second code example in the slide. Here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s used to ensure that </a:t>
            </a:r>
            <a:r>
              <a:rPr b="1" lang="en-US" sz="1200" spc="-1" strike="noStrike">
                <a:solidFill>
                  <a:srgbClr val="000000"/>
                </a:solidFill>
                <a:latin typeface="Courier New"/>
                <a:ea typeface="Courier New"/>
              </a:rPr>
              <a:t>cl</a:t>
            </a:r>
            <a:r>
              <a:rPr b="1" lang="en-US" sz="1200" spc="-1" strike="noStrike">
                <a:solidFill>
                  <a:srgbClr val="000000"/>
                </a:solidFill>
                <a:latin typeface="Arial"/>
              </a:rPr>
              <a:t> is referencing an object of type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before the cast is attem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your code requires casting, be aware that there are often ways to design code so that casting is not necessary, and this is usually preferable. But if you do need to cast, you should us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o ensure that the cast does not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5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5D691E9-BAB4-4881-8C05-5E475E83C4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536400" y="479520"/>
            <a:ext cx="6242400" cy="4681440"/>
          </a:xfrm>
          <a:prstGeom prst="rect">
            <a:avLst/>
          </a:prstGeom>
          <a:ln w="0">
            <a:noFill/>
          </a:ln>
        </p:spPr>
      </p:sp>
      <p:sp>
        <p:nvSpPr>
          <p:cNvPr id="65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B311877-2385-4271-B5E9-E74C3F5A2B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6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lymorphic behavior displayed by a statement may invoke one of the methods of Clothing. This is a polymorphic method call because the invocation does not know or need to know the type of the object (sometimes called the </a:t>
            </a:r>
            <a:r>
              <a:rPr b="1" i="1" lang="en-US" sz="1200" spc="-1" strike="noStrike">
                <a:solidFill>
                  <a:srgbClr val="000000"/>
                </a:solidFill>
                <a:latin typeface="Arial"/>
              </a:rPr>
              <a:t>runtime</a:t>
            </a:r>
            <a:r>
              <a:rPr b="1" lang="en-US" sz="1200" spc="-1" strike="noStrike">
                <a:solidFill>
                  <a:srgbClr val="000000"/>
                </a:solidFill>
                <a:latin typeface="Arial"/>
              </a:rPr>
              <a:t> type), but the correct method―that is, the method of the actual object―will be invoked. In the example in the slide, the object is Trousers, but it could be any subclass of Clothing.</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BF86B0A-945C-4114-A4A7-ADE36BE209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3" name="PlaceHolder 2"/>
          <p:cNvSpPr>
            <a:spLocks noGrp="1"/>
          </p:cNvSpPr>
          <p:nvPr>
            <p:ph type="sldImg"/>
          </p:nvPr>
        </p:nvSpPr>
        <p:spPr>
          <a:xfrm>
            <a:off x="536400" y="479520"/>
            <a:ext cx="6242400" cy="4681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536400" y="479520"/>
            <a:ext cx="6242400" cy="4681440"/>
          </a:xfrm>
          <a:prstGeom prst="rect">
            <a:avLst/>
          </a:prstGeom>
          <a:ln w="0">
            <a:noFill/>
          </a:ln>
        </p:spPr>
      </p:sp>
      <p:sp>
        <p:nvSpPr>
          <p:cNvPr id="58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6A9174F-6E2D-419F-B682-E4495D3187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536400" y="479520"/>
            <a:ext cx="6242400" cy="4681440"/>
          </a:xfrm>
          <a:prstGeom prst="rect">
            <a:avLst/>
          </a:prstGeom>
          <a:ln w="0">
            <a:noFill/>
          </a:ln>
        </p:spPr>
      </p:sp>
      <p:sp>
        <p:nvSpPr>
          <p:cNvPr id="66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5346356-E545-426F-B466-F19884091C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536400" y="479520"/>
            <a:ext cx="6242400" cy="4681440"/>
          </a:xfrm>
          <a:prstGeom prst="rect">
            <a:avLst/>
          </a:prstGeom>
          <a:ln w="0">
            <a:noFill/>
          </a:ln>
        </p:spPr>
      </p:sp>
      <p:sp>
        <p:nvSpPr>
          <p:cNvPr id="6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ore complex set of classes may have items in two different hierarchies. If Duke's Choice starts selling outdoors gear, it may have a completely different superclass called Outdoors, with its own set of subclasses (for example, </a:t>
            </a:r>
            <a:r>
              <a:rPr b="1" lang="en-US" sz="1200" spc="-1" strike="noStrike">
                <a:solidFill>
                  <a:srgbClr val="000000"/>
                </a:solidFill>
                <a:latin typeface="Courier New"/>
                <a:ea typeface="Courier New"/>
              </a:rPr>
              <a:t>getWeight()</a:t>
            </a:r>
            <a:r>
              <a:rPr b="1" lang="en-US" sz="1200" spc="-1" strike="noStrike">
                <a:solidFill>
                  <a:srgbClr val="000000"/>
                </a:solidFill>
                <a:latin typeface="Arial"/>
              </a:rPr>
              <a:t> as an Outdoors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cenario, there may be some classes from each hierarchy that have something in common. For example, the custom shirt item in Clothing is not returnable (because it is made by hand for a particular person), and neither is the Stove fuel item in the Outdoors hierarchy. All other items are retur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can this be modeled? Here are some things to consid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superclass will not work because a class can extend only one superclass, and all items are currently extending either Outdoors or Cloth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field named returnable, added to every class, could be used to determine if an item can be returned. This is certainly possible, but then there is no single reference type to pass to a method that initiates or processes a retur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a special type called an </a:t>
            </a:r>
            <a:r>
              <a:rPr b="1" i="1" lang="en-US" sz="1200" spc="-1" strike="noStrike">
                <a:solidFill>
                  <a:srgbClr val="000000"/>
                </a:solidFill>
                <a:latin typeface="Arial"/>
              </a:rPr>
              <a:t>Interface</a:t>
            </a:r>
            <a:r>
              <a:rPr b="1" lang="en-US" sz="1200" spc="-1" strike="noStrike">
                <a:solidFill>
                  <a:srgbClr val="000000"/>
                </a:solidFill>
                <a:latin typeface="Arial"/>
              </a:rPr>
              <a:t> that can be implemented by any class. This Interface type can then be used to pass a reference of any class that implements it.</a:t>
            </a:r>
            <a:endParaRPr b="1" lang="en-US" sz="1200" spc="-1" strike="noStrike">
              <a:solidFill>
                <a:srgbClr val="000000"/>
              </a:solidFill>
              <a:latin typeface="Arial"/>
            </a:endParaRPr>
          </a:p>
        </p:txBody>
      </p:sp>
      <p:sp>
        <p:nvSpPr>
          <p:cNvPr id="6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4D3BDB3-45AA-4A6F-96E9-A84A2A64D3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536400" y="479520"/>
            <a:ext cx="6242400" cy="4681440"/>
          </a:xfrm>
          <a:prstGeom prst="rect">
            <a:avLst/>
          </a:prstGeom>
          <a:ln w="0">
            <a:noFill/>
          </a:ln>
        </p:spPr>
      </p:sp>
      <p:sp>
        <p:nvSpPr>
          <p:cNvPr id="6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returnable items implementing the Returnable interface with its single method,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s can be declared in an interface, but they cannot be implemented in an interface. Therefore, each class that implements Returnable must implement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for itself.  All returnable items could be passed to a </a:t>
            </a:r>
            <a:r>
              <a:rPr b="1" lang="en-US" sz="1200" spc="-1" strike="noStrike">
                <a:solidFill>
                  <a:srgbClr val="000000"/>
                </a:solidFill>
                <a:latin typeface="Courier New"/>
                <a:ea typeface="Courier New"/>
              </a:rPr>
              <a:t>processReturns() </a:t>
            </a:r>
            <a:r>
              <a:rPr b="1" lang="en-US" sz="1200" spc="-1" strike="noStrike">
                <a:solidFill>
                  <a:srgbClr val="000000"/>
                </a:solidFill>
                <a:latin typeface="Arial"/>
              </a:rPr>
              <a:t>method of a Returns class, and then have their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called.</a:t>
            </a:r>
            <a:endParaRPr b="1" lang="en-US" sz="1200" spc="-1" strike="noStrike">
              <a:solidFill>
                <a:srgbClr val="000000"/>
              </a:solidFill>
              <a:latin typeface="Arial"/>
            </a:endParaRPr>
          </a:p>
        </p:txBody>
      </p:sp>
      <p:sp>
        <p:nvSpPr>
          <p:cNvPr id="67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D9D2685-247B-4F83-86F5-2AEB217B5D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the Returnable</a:t>
            </a:r>
            <a:r>
              <a:rPr b="1" lang="en-US" sz="1200" spc="-1" strike="noStrike">
                <a:solidFill>
                  <a:srgbClr val="000000"/>
                </a:solidFill>
                <a:latin typeface="Courier New"/>
                <a:ea typeface="Courier New"/>
              </a:rPr>
              <a:t> </a:t>
            </a:r>
            <a:r>
              <a:rPr b="1" lang="en-US" sz="1200" spc="-1" strike="noStrike">
                <a:solidFill>
                  <a:srgbClr val="000000"/>
                </a:solidFill>
                <a:latin typeface="Arial"/>
              </a:rPr>
              <a:t>interface and the </a:t>
            </a:r>
            <a:r>
              <a:rPr b="1" lang="en-US" sz="1200" spc="-1" strike="noStrike">
                <a:solidFill>
                  <a:srgbClr val="000000"/>
                </a:solidFill>
                <a:latin typeface="Courier New"/>
                <a:ea typeface="Courier New"/>
              </a:rPr>
              <a:t>Shirt </a:t>
            </a:r>
            <a:r>
              <a:rPr b="1" lang="en-US" sz="1200" spc="-1" strike="noStrike">
                <a:solidFill>
                  <a:srgbClr val="000000"/>
                </a:solidFill>
                <a:latin typeface="Arial"/>
              </a:rPr>
              <a:t>class. Only the constructor and the </a:t>
            </a:r>
            <a:r>
              <a:rPr b="1" lang="en-US" sz="1200" spc="-1" strike="noStrike">
                <a:solidFill>
                  <a:srgbClr val="000000"/>
                </a:solidFill>
                <a:latin typeface="Courier New"/>
                <a:ea typeface="Courier New"/>
              </a:rPr>
              <a:t>doReturn() </a:t>
            </a:r>
            <a:r>
              <a:rPr b="1" lang="en-US" sz="1200" spc="-1" strike="noStrike">
                <a:solidFill>
                  <a:srgbClr val="000000"/>
                </a:solidFill>
                <a:latin typeface="Arial"/>
              </a:rPr>
              <a:t>method are sh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implementation, </a:t>
            </a:r>
            <a:r>
              <a:rPr b="1" lang="en-US" sz="1200" spc="-1" strike="noStrike">
                <a:solidFill>
                  <a:srgbClr val="000000"/>
                </a:solidFill>
                <a:latin typeface="Courier New"/>
                <a:ea typeface="Courier New"/>
              </a:rPr>
              <a:t>Returnable </a:t>
            </a:r>
            <a:r>
              <a:rPr b="1" lang="en-US" sz="1200" spc="-1" strike="noStrike">
                <a:solidFill>
                  <a:srgbClr val="000000"/>
                </a:solidFill>
                <a:latin typeface="Arial"/>
              </a:rPr>
              <a:t>provides a marker to indicate that the item can be returned, and ensures that the developer of Shirt must implement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returns a String describing the conditions for returning the item.</a:t>
            </a:r>
            <a:endParaRPr b="1" lang="en-US" sz="1200" spc="-1" strike="noStrike">
              <a:solidFill>
                <a:srgbClr val="000000"/>
              </a:solidFill>
              <a:latin typeface="Arial"/>
            </a:endParaRPr>
          </a:p>
        </p:txBody>
      </p:sp>
      <p:sp>
        <p:nvSpPr>
          <p:cNvPr id="67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75A772E-7C9F-46F2-A7AD-02111C38C5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75" name="PlaceHolder 2"/>
          <p:cNvSpPr>
            <a:spLocks noGrp="1"/>
          </p:cNvSpPr>
          <p:nvPr>
            <p:ph type="sldImg"/>
          </p:nvPr>
        </p:nvSpPr>
        <p:spPr>
          <a:xfrm>
            <a:off x="536400" y="479520"/>
            <a:ext cx="6242400" cy="46814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536400" y="479520"/>
            <a:ext cx="6242400" cy="4681440"/>
          </a:xfrm>
          <a:prstGeom prst="rect">
            <a:avLst/>
          </a:prstGeom>
          <a:ln w="0">
            <a:noFill/>
          </a:ln>
        </p:spPr>
      </p:sp>
      <p:sp>
        <p:nvSpPr>
          <p:cNvPr id="6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in a previous slide, the reference used to access an object determines the methods that can be called on it. So in the case of the Interface reference shown in the slide, only the </a:t>
            </a:r>
            <a:r>
              <a:rPr b="1" lang="en-US" sz="1200" spc="-1" strike="noStrike">
                <a:solidFill>
                  <a:srgbClr val="000000"/>
                </a:solidFill>
                <a:latin typeface="Courier New"/>
                <a:ea typeface="Courier New"/>
              </a:rPr>
              <a:t>getReturn()</a:t>
            </a:r>
            <a:r>
              <a:rPr b="1" lang="en-US" sz="1200" spc="-1" strike="noStrike">
                <a:solidFill>
                  <a:srgbClr val="000000"/>
                </a:solidFill>
                <a:latin typeface="Arial"/>
              </a:rPr>
              <a:t> method can be called. If a method receives a Returnable reference, however, and needs access to methods on Clothing or methods on Trousers, the reference can be cast to the appropriate reference type.</a:t>
            </a:r>
            <a:endParaRPr b="1" lang="en-US" sz="1200" spc="-1" strike="noStrike">
              <a:solidFill>
                <a:srgbClr val="000000"/>
              </a:solidFill>
              <a:latin typeface="Arial"/>
            </a:endParaRPr>
          </a:p>
        </p:txBody>
      </p:sp>
      <p:sp>
        <p:nvSpPr>
          <p:cNvPr id="67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8FEA758-F46B-4ACF-A351-E91F95FF63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536400" y="479520"/>
            <a:ext cx="6242400" cy="4681440"/>
          </a:xfrm>
          <a:prstGeom prst="rect">
            <a:avLst/>
          </a:prstGeom>
          <a:ln w="0">
            <a:noFill/>
          </a:ln>
        </p:spPr>
      </p:sp>
      <p:sp>
        <p:nvSpPr>
          <p:cNvPr id="6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best examples of inheritance and the utility of Interface and Abstract types can be found in the Java API. For example,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class extends the </a:t>
            </a:r>
            <a:r>
              <a:rPr b="1" lang="en-US" sz="1200" spc="-1" strike="noStrike">
                <a:solidFill>
                  <a:srgbClr val="000000"/>
                </a:solidFill>
                <a:latin typeface="Courier New"/>
                <a:ea typeface="Courier New"/>
              </a:rPr>
              <a:t>AbstractList</a:t>
            </a:r>
            <a:r>
              <a:rPr b="1" lang="en-US" sz="1200" spc="-1" strike="noStrike">
                <a:solidFill>
                  <a:srgbClr val="000000"/>
                </a:solidFill>
                <a:latin typeface="Arial"/>
              </a:rPr>
              <a:t> class, which itself extends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implements the List interface, which means that ArrayList also implements the List interf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the ArrayList as a List, use the List interface as the reference type.</a:t>
            </a:r>
            <a:endParaRPr b="1" lang="en-US" sz="1200" spc="-1" strike="noStrike">
              <a:solidFill>
                <a:srgbClr val="000000"/>
              </a:solidFill>
              <a:latin typeface="Arial"/>
            </a:endParaRPr>
          </a:p>
        </p:txBody>
      </p:sp>
      <p:sp>
        <p:nvSpPr>
          <p:cNvPr id="68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39E5109-BF54-4612-A346-0BFBCB788E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536400" y="479520"/>
            <a:ext cx="6242400" cy="4681440"/>
          </a:xfrm>
          <a:prstGeom prst="rect">
            <a:avLst/>
          </a:prstGeom>
          <a:ln w="0">
            <a:noFill/>
          </a:ln>
        </p:spPr>
      </p:sp>
      <p:sp>
        <p:nvSpPr>
          <p:cNvPr id="6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 interface is implemented by many classes. This means that any method that requires a List may actually be passed a List reference to any objects of these types (but not the abstract classes, because they cannot be instantiated).</a:t>
            </a:r>
            <a:endParaRPr b="1" lang="en-US" sz="1200" spc="-1" strike="noStrike">
              <a:solidFill>
                <a:srgbClr val="000000"/>
              </a:solidFill>
              <a:latin typeface="Arial"/>
            </a:endParaRPr>
          </a:p>
        </p:txBody>
      </p:sp>
      <p:sp>
        <p:nvSpPr>
          <p:cNvPr id="68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D302C1B-BF7A-45EA-8B04-A810B36AE2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536400" y="479520"/>
            <a:ext cx="6242400" cy="4681440"/>
          </a:xfrm>
          <a:prstGeom prst="rect">
            <a:avLst/>
          </a:prstGeom>
          <a:ln w="0">
            <a:noFill/>
          </a:ln>
        </p:spPr>
      </p:sp>
      <p:sp>
        <p:nvSpPr>
          <p:cNvPr id="68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77695A9-4D30-4EC7-94E8-3935718B5F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536400" y="479520"/>
            <a:ext cx="6242400" cy="4681440"/>
          </a:xfrm>
          <a:prstGeom prst="rect">
            <a:avLst/>
          </a:prstGeom>
          <a:ln w="0">
            <a:noFill/>
          </a:ln>
        </p:spPr>
      </p:sp>
      <p:sp>
        <p:nvSpPr>
          <p:cNvPr id="6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have at the very top of their hierarchy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t is so central to how Java works that all classes that do not explicitly extend another class automatically extend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a:r>
            <a:br>
              <a:rPr sz="1200"/>
            </a:br>
            <a:r>
              <a:rPr b="1" lang="en-US" sz="1200" spc="-1" strike="noStrike">
                <a:solidFill>
                  <a:srgbClr val="000000"/>
                </a:solidFill>
                <a:latin typeface="Arial"/>
              </a:rPr>
              <a:t>So all classes hav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the root of their hierarchy. This means that all classes have access to the methods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eing the root of the object hierarchy,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oes not have many methods―only very basic ones that all objects must hav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esting method i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e </a:t>
            </a:r>
            <a:r>
              <a:rPr b="1" lang="en-US" sz="1200" spc="-1" strike="noStrike">
                <a:solidFill>
                  <a:srgbClr val="000000"/>
                </a:solidFill>
                <a:latin typeface="Courier New"/>
                <a:ea typeface="Courier New"/>
              </a:rPr>
              <a:t>Object toString()</a:t>
            </a:r>
            <a:r>
              <a:rPr b="1" lang="en-US" sz="1200" spc="-1" strike="noStrike">
                <a:solidFill>
                  <a:srgbClr val="000000"/>
                </a:solidFill>
                <a:latin typeface="Arial"/>
              </a:rPr>
              <a:t> method gives very basic information about the object; generally classes will override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o provide more useful outp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us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an object passed to it to output a string representation.</a:t>
            </a:r>
            <a:endParaRPr b="1" lang="en-US" sz="1200" spc="-1" strike="noStrike">
              <a:solidFill>
                <a:srgbClr val="000000"/>
              </a:solidFill>
              <a:latin typeface="Arial"/>
            </a:endParaRPr>
          </a:p>
        </p:txBody>
      </p:sp>
      <p:sp>
        <p:nvSpPr>
          <p:cNvPr id="69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5B16818-2E20-4CBE-B3EC-F1EAAB32B1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536400" y="479520"/>
            <a:ext cx="6242400" cy="4681440"/>
          </a:xfrm>
          <a:prstGeom prst="rect">
            <a:avLst/>
          </a:prstGeom>
          <a:ln w="0">
            <a:noFill/>
          </a:ln>
        </p:spPr>
      </p:sp>
      <p:sp>
        <p:nvSpPr>
          <p:cNvPr id="6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bjects have a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because it exists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But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may return different results depending on whether or not that method has been overridden. In the example in the slid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is called (via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on f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bject:</a:t>
            </a:r>
            <a:r>
              <a:rPr b="1" lang="en-US" sz="1200" spc="-1" strike="noStrike">
                <a:solidFill>
                  <a:srgbClr val="000000"/>
                </a:solidFill>
                <a:latin typeface="Arial"/>
              </a:rPr>
              <a:t> 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f the base class. It returns the name of the class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and a hash value of the object (a unique number associated with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tringBuilder object: </a:t>
            </a:r>
            <a:r>
              <a:rPr b="1" lang="en-US" sz="1200" spc="-1" strike="noStrike">
                <a:solidFill>
                  <a:srgbClr val="000000"/>
                </a:solidFill>
                <a:latin typeface="Arial"/>
              </a:rPr>
              <a:t>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the StringBuilder object. StringBuilder overrid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at it inherits from Object to return a String object of the set of characters it is represen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First, a test class: </a:t>
            </a:r>
            <a:r>
              <a:rPr b="1" lang="en-US" sz="1200" spc="-1" strike="noStrike">
                <a:solidFill>
                  <a:srgbClr val="000000"/>
                </a:solidFill>
                <a:latin typeface="Arial"/>
              </a:rPr>
              <a:t>First is a class with no code, so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called is the one that is inherited from the Objec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Second, a test class:</a:t>
            </a:r>
            <a:r>
              <a:rPr b="1" lang="en-US" sz="1200" spc="-1" strike="noStrike">
                <a:solidFill>
                  <a:srgbClr val="000000"/>
                </a:solidFill>
                <a:latin typeface="Arial"/>
              </a:rPr>
              <a:t> Second is a class with one method named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so this overridden method will be the one that is ca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 case for reimplementing the </a:t>
            </a:r>
            <a:r>
              <a:rPr b="1" lang="en-US" sz="1200" spc="-1" strike="noStrike">
                <a:solidFill>
                  <a:srgbClr val="000000"/>
                </a:solidFill>
                <a:latin typeface="Courier New"/>
                <a:ea typeface="Courier New"/>
              </a:rPr>
              <a:t>getDescription()</a:t>
            </a:r>
            <a:r>
              <a:rPr b="1" lang="en-US" sz="1200" spc="-1" strike="noStrike">
                <a:solidFill>
                  <a:srgbClr val="000000"/>
                </a:solidFill>
                <a:latin typeface="Arial"/>
              </a:rPr>
              <a:t> method used by the Clothing classes to instead use an overridden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DF137FB-F5AF-4107-B888-B9D13BBCA1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536400" y="479520"/>
            <a:ext cx="6242400" cy="4681440"/>
          </a:xfrm>
          <a:prstGeom prst="rect">
            <a:avLst/>
          </a:prstGeom>
          <a:ln w="0">
            <a:noFill/>
          </a:ln>
        </p:spPr>
      </p:sp>
      <p:sp>
        <p:nvSpPr>
          <p:cNvPr id="5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results in a class hierarchy of Java technology classes similar to the taxonomies found in biology, such as “Blue Whale is a subclass of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 hierarchy for whales. “Warm blooded” is an attribute of the Mammal superclass. The phrase “breathes air” represents some operation that is also a part of the Mammal superclass. Flukes and flippers are attributes that are specific to the Whale class, which is a subclass of the Mammal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7745787-038E-4C42-B612-5E7D99A48B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6210F62-217D-476D-A53D-EDFE014ED8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96" name="PlaceHolder 2"/>
          <p:cNvSpPr>
            <a:spLocks noGrp="1"/>
          </p:cNvSpPr>
          <p:nvPr>
            <p:ph type="sldImg"/>
          </p:nvPr>
        </p:nvSpPr>
        <p:spPr>
          <a:xfrm>
            <a:off x="536400" y="479520"/>
            <a:ext cx="6242400" cy="4681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536400" y="479520"/>
            <a:ext cx="6242400" cy="4681440"/>
          </a:xfrm>
          <a:prstGeom prst="rect">
            <a:avLst/>
          </a:prstGeom>
          <a:ln w="0">
            <a:noFill/>
          </a:ln>
        </p:spPr>
      </p:sp>
      <p:sp>
        <p:nvSpPr>
          <p:cNvPr id="698"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98FDC45-2376-4D87-BE5D-F9426F282E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7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enables programmers to put common members (variables and methods) in one class and have other classes </a:t>
            </a:r>
            <a:r>
              <a:rPr b="1" i="1" lang="en-US" sz="1200" spc="-1" strike="noStrike">
                <a:solidFill>
                  <a:srgbClr val="000000"/>
                </a:solidFill>
                <a:latin typeface="Arial"/>
              </a:rPr>
              <a:t>inherit these common members</a:t>
            </a:r>
            <a:r>
              <a:rPr b="1" lang="en-US" sz="1200" spc="-1" strike="noStrike">
                <a:solidFill>
                  <a:srgbClr val="000000"/>
                </a:solidFill>
                <a:latin typeface="Arial"/>
              </a:rPr>
              <a:t>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 containing members common to several other classes is called the </a:t>
            </a:r>
            <a:r>
              <a:rPr b="1" i="1" lang="en-US" sz="1200" spc="-1" strike="noStrike">
                <a:solidFill>
                  <a:srgbClr val="000000"/>
                </a:solidFill>
                <a:latin typeface="Arial"/>
              </a:rPr>
              <a:t>superclass</a:t>
            </a:r>
            <a:r>
              <a:rPr b="1" lang="en-US" sz="1200" spc="-1" strike="noStrike">
                <a:solidFill>
                  <a:srgbClr val="000000"/>
                </a:solidFill>
                <a:latin typeface="Arial"/>
              </a:rPr>
              <a:t> or the </a:t>
            </a:r>
            <a:r>
              <a:rPr b="1" i="1" lang="en-US" sz="1200" spc="-1" strike="noStrike">
                <a:solidFill>
                  <a:srgbClr val="000000"/>
                </a:solidFill>
                <a:latin typeface="Arial"/>
              </a:rPr>
              <a:t>parent class</a:t>
            </a:r>
            <a:r>
              <a:rPr b="1" lang="en-US" sz="1200" spc="-1" strike="noStrike">
                <a:solidFill>
                  <a:srgbClr val="000000"/>
                </a:solidFill>
                <a:latin typeface="Arial"/>
              </a:rPr>
              <a:t>. The classes that inherit from, or extend, the superclass are called </a:t>
            </a:r>
            <a:r>
              <a:rPr b="1" i="1" lang="en-US" sz="1200" spc="-1" strike="noStrike">
                <a:solidFill>
                  <a:srgbClr val="000000"/>
                </a:solidFill>
                <a:latin typeface="Arial"/>
              </a:rPr>
              <a:t>subclasses</a:t>
            </a:r>
            <a:r>
              <a:rPr b="1" lang="en-US" sz="1200" spc="-1" strike="noStrike">
                <a:solidFill>
                  <a:srgbClr val="000000"/>
                </a:solidFill>
                <a:latin typeface="Arial"/>
              </a:rPr>
              <a:t> or </a:t>
            </a:r>
            <a:r>
              <a:rPr b="1" i="1" lang="en-US" sz="1200" spc="-1" strike="noStrike">
                <a:solidFill>
                  <a:srgbClr val="000000"/>
                </a:solidFill>
                <a:latin typeface="Arial"/>
              </a:rPr>
              <a:t>child class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also allows object methods and fields to be referred to by a reference that is the type of the object, the type of any of its superclasses, or an interface that it imp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inheritance enables polymorphism.</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536400" y="479520"/>
            <a:ext cx="6242400" cy="4681440"/>
          </a:xfrm>
          <a:prstGeom prst="rect">
            <a:avLst/>
          </a:prstGeom>
          <a:ln w="0">
            <a:noFill/>
          </a:ln>
        </p:spPr>
      </p:sp>
      <p:sp>
        <p:nvSpPr>
          <p:cNvPr id="7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70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0FEC8E0-260D-4E9A-86FC-BA57A35F6E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536400" y="479520"/>
            <a:ext cx="6242400" cy="4681440"/>
          </a:xfrm>
          <a:prstGeom prst="rect">
            <a:avLst/>
          </a:prstGeom>
          <a:ln w="0">
            <a:noFill/>
          </a:ln>
        </p:spPr>
      </p:sp>
      <p:sp>
        <p:nvSpPr>
          <p:cNvPr id="58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A22B856-1AE0-4F6D-9236-AD0BDF8AE9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536400" y="479520"/>
            <a:ext cx="6242400" cy="4681440"/>
          </a:xfrm>
          <a:prstGeom prst="rect">
            <a:avLst/>
          </a:prstGeom>
          <a:ln w="0">
            <a:noFill/>
          </a:ln>
        </p:spPr>
      </p:sp>
      <p:sp>
        <p:nvSpPr>
          <p:cNvPr id="5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a set of behaviors for the Shirt class and for a new class: Trousers. The classes are shown fully encapsulated so that all field values are accessible only through setter and getter methods. Notice how both classes use many of the same methods; this may result in code duplication, making maintenance and further expansion more difficult and error prone.</a:t>
            </a:r>
            <a:endParaRPr b="1" lang="en-US" sz="1200" spc="-1" strike="noStrike">
              <a:solidFill>
                <a:srgbClr val="000000"/>
              </a:solidFill>
              <a:latin typeface="Arial"/>
            </a:endParaRPr>
          </a:p>
        </p:txBody>
      </p:sp>
      <p:sp>
        <p:nvSpPr>
          <p:cNvPr id="5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25E2899-81B6-4AC3-BF66-B32AB3ABDC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536400" y="479520"/>
            <a:ext cx="6242400" cy="4681440"/>
          </a:xfrm>
          <a:prstGeom prst="rect">
            <a:avLst/>
          </a:prstGeom>
          <a:ln w="0">
            <a:noFill/>
          </a:ln>
        </p:spPr>
      </p:sp>
      <p:sp>
        <p:nvSpPr>
          <p:cNvPr id="5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uke's Choice decides to add a third item, socks, as well as  trousers and shirts, you may find even greater code duplication. The diagram in the slide shows only the getter methods for accessing the properties of the new objects.</a:t>
            </a:r>
            <a:endParaRPr b="1" lang="en-US" sz="1200" spc="-1" strike="noStrike">
              <a:solidFill>
                <a:srgbClr val="000000"/>
              </a:solidFill>
              <a:latin typeface="Arial"/>
            </a:endParaRPr>
          </a:p>
        </p:txBody>
      </p:sp>
      <p:sp>
        <p:nvSpPr>
          <p:cNvPr id="59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E62A98B-D928-4E34-A0CB-A061A55DDF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536400" y="479520"/>
            <a:ext cx="6242400" cy="4681440"/>
          </a:xfrm>
          <a:prstGeom prst="rect">
            <a:avLst/>
          </a:prstGeom>
          <a:ln w="0">
            <a:noFill/>
          </a:ln>
        </p:spPr>
      </p:sp>
      <p:sp>
        <p:nvSpPr>
          <p:cNvPr id="5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liminate code duplication in the classes by implementing inheritance. Inheritance enables programmers to put common members (fields and methods) in one class (the superclass) and have other classes (the subclasses) inherit these common members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instantiated from a subclass behaves as if the fields and methods of the subclass were in the object. For example, the Trousers class can be instantiated and have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called even though the Trousers class does not contain a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t is inherited from the Clothing class.</a:t>
            </a:r>
            <a:endParaRPr b="1" lang="en-US" sz="1200" spc="-1" strike="noStrike">
              <a:solidFill>
                <a:srgbClr val="000000"/>
              </a:solidFill>
              <a:latin typeface="Arial"/>
            </a:endParaRPr>
          </a:p>
        </p:txBody>
      </p:sp>
      <p:sp>
        <p:nvSpPr>
          <p:cNvPr id="59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98B07A7-3BAB-43B9-B229-36A33F4247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536400" y="479520"/>
            <a:ext cx="6242400" cy="4681440"/>
          </a:xfrm>
          <a:prstGeom prst="rect">
            <a:avLst/>
          </a:prstGeom>
          <a:ln w="0">
            <a:noFill/>
          </a:ln>
        </p:spPr>
      </p:sp>
      <p:sp>
        <p:nvSpPr>
          <p:cNvPr id="6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classes may implement methods that already have implementations in the superclass. In this case, the method implementations in the subclass are said to override the method implementation from the superclass.  For example, although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nd its accessor methods) is in the superclass, the color choices may be different in each subclass. So, it may be necessary to override the get and set methods for this field in the individual subclasses.</a:t>
            </a:r>
            <a:endParaRPr b="1" lang="en-US" sz="1200" spc="-1" strike="noStrike">
              <a:solidFill>
                <a:srgbClr val="000000"/>
              </a:solidFill>
              <a:latin typeface="Arial"/>
            </a:endParaRPr>
          </a:p>
        </p:txBody>
      </p:sp>
      <p:sp>
        <p:nvSpPr>
          <p:cNvPr id="60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37AD8D0-AFC0-490D-B888-3D0AFE44B0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0D465-AE7C-44A4-A53A-30E6D8E59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8AFED-6AF3-491D-8C81-5C41A1CA1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11E66-75D1-4899-B3B4-D6C67DB09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1E530-5770-4978-BDF7-4D729DB47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B38B6-9DBA-4262-8614-5AF9E0A29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67EAE-F304-4A88-A99C-3358D9F76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EDC20-5286-4BC6-BB21-00008BE34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409AD-4D48-40C6-9A08-1C0F43923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C6B47-F133-4058-84B2-98BBC95E3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588F6-C04D-4C61-A5F8-8E8BB1BAE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0DFB-209D-4FCB-B7A7-FECD846A5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EA17A-A8DA-4796-B17D-F73E88FF4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C78B-6411-4E4F-BC61-FE865E5CA8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Lesson 11</a:t>
            </a:r>
            <a:br>
              <a:rPr sz="4000"/>
            </a:br>
            <a:r>
              <a:rPr b="0" lang="en-US" sz="4000" spc="-1" strike="noStrike">
                <a:solidFill>
                  <a:srgbClr val="000000"/>
                </a:solidFill>
                <a:latin typeface="Calibri"/>
                <a:ea typeface="ＭＳ Ｐゴシック"/>
              </a:rPr>
              <a:t>Using Advanced Object-Oriented Concep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1</a:t>
            </a:r>
            <a:br>
              <a:rPr sz="4000"/>
            </a:br>
            <a:endParaRPr b="0" lang="en-US" sz="4000" spc="-1" strike="noStrike">
              <a:solidFill>
                <a:srgbClr val="000000"/>
              </a:solidFill>
              <a:latin typeface="Calibri"/>
            </a:endParaRPr>
          </a:p>
        </p:txBody>
      </p:sp>
      <p:sp>
        <p:nvSpPr>
          <p:cNvPr id="137" name=""/>
          <p:cNvSpPr txBox="1"/>
          <p:nvPr/>
        </p:nvSpPr>
        <p:spPr>
          <a:xfrm>
            <a:off x="609480" y="1401480"/>
            <a:ext cx="7918560" cy="36018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2</a:t>
            </a:r>
            <a:br>
              <a:rPr sz="4000"/>
            </a:br>
            <a:endParaRPr b="0" lang="en-US" sz="4000" spc="-1" strike="noStrike">
              <a:solidFill>
                <a:srgbClr val="000000"/>
              </a:solidFill>
              <a:latin typeface="Calibri"/>
            </a:endParaRPr>
          </a:p>
        </p:txBody>
      </p:sp>
      <p:sp>
        <p:nvSpPr>
          <p:cNvPr id="140" name=""/>
          <p:cNvSpPr txBox="1"/>
          <p:nvPr/>
        </p:nvSpPr>
        <p:spPr>
          <a:xfrm>
            <a:off x="609480" y="1401840"/>
            <a:ext cx="7918560" cy="42256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display()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ID: " + get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description: "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price: " + get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get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get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double getPric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getItemID()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3</a:t>
            </a:r>
            <a:br>
              <a:rPr sz="4000"/>
            </a:br>
            <a:endParaRPr b="0" lang="en-US" sz="4000" spc="-1" strike="noStrike">
              <a:solidFill>
                <a:srgbClr val="000000"/>
              </a:solidFill>
              <a:latin typeface="Calibri"/>
            </a:endParaRPr>
          </a:p>
        </p:txBody>
      </p:sp>
      <p:sp>
        <p:nvSpPr>
          <p:cNvPr id="143"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ItemID(int itemID)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Description(String descriptio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ColorCode(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Price(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09480" y="16765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a:t>
            </a:r>
            <a:br>
              <a:rPr sz="4000"/>
            </a:br>
            <a:endParaRPr b="0" lang="en-US" sz="4000" spc="-1" strike="noStrike">
              <a:solidFill>
                <a:srgbClr val="000000"/>
              </a:solidFill>
              <a:latin typeface="Calibri"/>
            </a:endParaRPr>
          </a:p>
        </p:txBody>
      </p:sp>
      <p:sp>
        <p:nvSpPr>
          <p:cNvPr id="146" name=""/>
          <p:cNvSpPr txBox="1"/>
          <p:nvPr/>
        </p:nvSpPr>
        <p:spPr>
          <a:xfrm>
            <a:off x="568080" y="1698120"/>
            <a:ext cx="7918200" cy="77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class_modifier] class class_identifier extends superclass_identifie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7" name="Text Box 7"/>
          <p:cNvSpPr/>
          <p:nvPr/>
        </p:nvSpPr>
        <p:spPr>
          <a:xfrm>
            <a:off x="527040" y="1211400"/>
            <a:ext cx="94284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223920" y="274320"/>
            <a:ext cx="872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Declaring a Subclass  </a:t>
            </a:r>
            <a:br>
              <a:rPr sz="3600"/>
            </a:br>
            <a:r>
              <a:rPr b="0" lang="en-US" sz="3600" spc="-1" strike="noStrike">
                <a:solidFill>
                  <a:srgbClr val="000000"/>
                </a:solidFill>
                <a:latin typeface="Calibri"/>
                <a:ea typeface="ＭＳ Ｐゴシック"/>
              </a:rPr>
              <a:t>(</a:t>
            </a:r>
            <a:r>
              <a:rPr b="0" lang="en-US" sz="3600" spc="-1" strike="noStrike">
                <a:solidFill>
                  <a:srgbClr val="000000"/>
                </a:solidFill>
                <a:latin typeface="Courier New"/>
                <a:ea typeface="ＭＳ Ｐゴシック"/>
              </a:rPr>
              <a:t>extends</a:t>
            </a:r>
            <a:r>
              <a:rPr b="0" lang="en-US" sz="3600" spc="-1" strike="noStrike">
                <a:solidFill>
                  <a:srgbClr val="000000"/>
                </a:solidFill>
                <a:latin typeface="Calibri"/>
                <a:ea typeface="ＭＳ Ｐゴシック"/>
              </a:rPr>
              <a:t>, </a:t>
            </a:r>
            <a:r>
              <a:rPr b="0" lang="en-US" sz="3600" spc="-1" strike="noStrike">
                <a:solidFill>
                  <a:srgbClr val="000000"/>
                </a:solidFill>
                <a:latin typeface="Courier New"/>
                <a:ea typeface="ＭＳ Ｐゴシック"/>
              </a:rPr>
              <a:t>super</a:t>
            </a:r>
            <a:r>
              <a:rPr b="0" lang="en-US" sz="3600" spc="-1" strike="noStrike">
                <a:solidFill>
                  <a:srgbClr val="000000"/>
                </a:solidFill>
                <a:latin typeface="Calibri"/>
                <a:ea typeface="ＭＳ Ｐゴシック"/>
              </a:rPr>
              <a:t>, and </a:t>
            </a:r>
            <a:r>
              <a:rPr b="0" lang="en-US" sz="3600" spc="-1" strike="noStrike">
                <a:solidFill>
                  <a:srgbClr val="000000"/>
                </a:solidFill>
                <a:latin typeface="Courier New"/>
                <a:ea typeface="ＭＳ Ｐゴシック"/>
              </a:rPr>
              <a:t>this</a:t>
            </a:r>
            <a:r>
              <a:rPr b="0" lang="en-US" sz="3600" spc="-1" strike="noStrike">
                <a:solidFill>
                  <a:srgbClr val="000000"/>
                </a:solidFill>
                <a:latin typeface="Calibri"/>
                <a:ea typeface="ＭＳ Ｐゴシック"/>
              </a:rPr>
              <a:t> keywords)</a:t>
            </a:r>
            <a:br>
              <a:rPr sz="4000"/>
            </a:br>
            <a:endParaRPr b="0" lang="en-US" sz="3600" spc="-1" strike="noStrike">
              <a:solidFill>
                <a:srgbClr val="000000"/>
              </a:solidFill>
              <a:latin typeface="Calibri"/>
            </a:endParaRPr>
          </a:p>
        </p:txBody>
      </p:sp>
      <p:sp>
        <p:nvSpPr>
          <p:cNvPr id="150" name=""/>
          <p:cNvSpPr txBox="1"/>
          <p:nvPr/>
        </p:nvSpPr>
        <p:spPr>
          <a:xfrm>
            <a:off x="609480" y="1486080"/>
            <a:ext cx="7918560" cy="4635360"/>
          </a:xfrm>
          <a:prstGeom prst="rect">
            <a:avLst/>
          </a:prstGeom>
          <a:noFill/>
          <a:ln w="0">
            <a:noFill/>
          </a:ln>
        </p:spPr>
        <p:txBody>
          <a:bodyPr anchor="t">
            <a:normAutofit/>
          </a:bodyPr>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Shirt extends Clothing {</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fit = 'U'; //'U' is Unset, other codes 'S', 'M', or 'L'</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Fit(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1" name="Rectangle 5"/>
          <p:cNvSpPr/>
          <p:nvPr/>
        </p:nvSpPr>
        <p:spPr>
          <a:xfrm>
            <a:off x="2722680" y="1460520"/>
            <a:ext cx="833400" cy="33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41"/>
          <p:cNvSpPr/>
          <p:nvPr/>
        </p:nvSpPr>
        <p:spPr>
          <a:xfrm>
            <a:off x="4267080" y="3323520"/>
            <a:ext cx="2370240" cy="731520"/>
          </a:xfrm>
          <a:prstGeom prst="wedgeRectCallout">
            <a:avLst>
              <a:gd name="adj1" fmla="val -152671"/>
              <a:gd name="adj2" fmla="val -5919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uper</a:t>
            </a:r>
            <a:r>
              <a:rPr b="0" lang="en-US" sz="1400" spc="-1" strike="noStrike">
                <a:solidFill>
                  <a:srgbClr val="000000"/>
                </a:solidFill>
                <a:latin typeface="Arial"/>
              </a:rPr>
              <a:t> is a reference to methods and attributes of the superclass.</a:t>
            </a:r>
            <a:endParaRPr b="0" lang="en-US" sz="1400" spc="-1" strike="noStrike">
              <a:solidFill>
                <a:srgbClr val="000000"/>
              </a:solidFill>
              <a:latin typeface="Arial"/>
            </a:endParaRPr>
          </a:p>
        </p:txBody>
      </p:sp>
      <p:sp>
        <p:nvSpPr>
          <p:cNvPr id="153" name="Rectangle 5"/>
          <p:cNvSpPr/>
          <p:nvPr/>
        </p:nvSpPr>
        <p:spPr>
          <a:xfrm>
            <a:off x="1263600" y="3541680"/>
            <a:ext cx="488880" cy="266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41"/>
          <p:cNvSpPr/>
          <p:nvPr/>
        </p:nvSpPr>
        <p:spPr>
          <a:xfrm>
            <a:off x="4071960" y="4216320"/>
            <a:ext cx="1273320" cy="731520"/>
          </a:xfrm>
          <a:prstGeom prst="wedgeRectCallout">
            <a:avLst>
              <a:gd name="adj1" fmla="val -240754"/>
              <a:gd name="adj2" fmla="val -108629"/>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a:t>
            </a:r>
            <a:r>
              <a:rPr b="0" lang="en-US" sz="1400" spc="-1" strike="noStrike">
                <a:solidFill>
                  <a:srgbClr val="000000"/>
                </a:solidFill>
                <a:latin typeface="Arial"/>
              </a:rPr>
              <a:t> is a reference to this object.</a:t>
            </a:r>
            <a:endParaRPr b="0" lang="en-US" sz="1400" spc="-1" strike="noStrike">
              <a:solidFill>
                <a:srgbClr val="000000"/>
              </a:solidFill>
              <a:latin typeface="Arial"/>
            </a:endParaRPr>
          </a:p>
        </p:txBody>
      </p:sp>
      <p:sp>
        <p:nvSpPr>
          <p:cNvPr id="155" name="AutoShape 41"/>
          <p:cNvSpPr/>
          <p:nvPr/>
        </p:nvSpPr>
        <p:spPr>
          <a:xfrm>
            <a:off x="5364000" y="1246320"/>
            <a:ext cx="1606680" cy="731520"/>
          </a:xfrm>
          <a:prstGeom prst="wedgeRectCallout">
            <a:avLst>
              <a:gd name="adj1" fmla="val -164851"/>
              <a:gd name="adj2" fmla="val -1434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that Shirt inherits members of Clothing</a:t>
            </a:r>
            <a:endParaRPr b="0" lang="en-US" sz="1400" spc="-1" strike="noStrike">
              <a:solidFill>
                <a:srgbClr val="000000"/>
              </a:solidFill>
              <a:latin typeface="Arial"/>
            </a:endParaRPr>
          </a:p>
        </p:txBody>
      </p:sp>
      <p:sp>
        <p:nvSpPr>
          <p:cNvPr id="156" name="Rectangle 5"/>
          <p:cNvSpPr/>
          <p:nvPr/>
        </p:nvSpPr>
        <p:spPr>
          <a:xfrm>
            <a:off x="1279440" y="3043080"/>
            <a:ext cx="588960" cy="284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 2 </a:t>
            </a:r>
            <a:br>
              <a:rPr sz="4000"/>
            </a:br>
            <a:endParaRPr b="0" lang="en-US" sz="4000" spc="-1" strike="noStrike">
              <a:solidFill>
                <a:srgbClr val="000000"/>
              </a:solidFill>
              <a:latin typeface="Calibri"/>
            </a:endParaRPr>
          </a:p>
        </p:txBody>
      </p:sp>
      <p:sp>
        <p:nvSpPr>
          <p:cNvPr id="159" name=""/>
          <p:cNvSpPr txBox="1"/>
          <p:nvPr/>
        </p:nvSpPr>
        <p:spPr>
          <a:xfrm>
            <a:off x="609480" y="1486080"/>
            <a:ext cx="791856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 method overrides display in the Clothing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ID: " + get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description: "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price: " + get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Fit: " + getFi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end of display metho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This method overrides the methods in the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setColorCode(char colorCod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include code here to check that correct codes us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bstract Classes</a:t>
            </a:r>
            <a:endParaRPr b="0" lang="en-US" sz="4400" spc="-1" strike="noStrike">
              <a:solidFill>
                <a:srgbClr val="000000"/>
              </a:solidFill>
              <a:latin typeface="Calibri"/>
            </a:endParaRPr>
          </a:p>
        </p:txBody>
      </p:sp>
      <p:grpSp>
        <p:nvGrpSpPr>
          <p:cNvPr id="161" name="Group 35"/>
          <p:cNvGrpSpPr/>
          <p:nvPr/>
        </p:nvGrpSpPr>
        <p:grpSpPr>
          <a:xfrm>
            <a:off x="1031760" y="2050920"/>
            <a:ext cx="1400400" cy="858600"/>
            <a:chOff x="1031760" y="2050920"/>
            <a:chExt cx="1400400" cy="858600"/>
          </a:xfrm>
        </p:grpSpPr>
        <p:sp>
          <p:nvSpPr>
            <p:cNvPr id="162" name="Round Same Side Corner Rectangle 3"/>
            <p:cNvSpPr/>
            <p:nvPr/>
          </p:nvSpPr>
          <p:spPr>
            <a:xfrm>
              <a:off x="1077480" y="2060280"/>
              <a:ext cx="1244880" cy="660600"/>
            </a:xfrm>
            <a:custGeom>
              <a:avLst/>
              <a:gdLst>
                <a:gd name="textAreaLeft" fmla="*/ 34200 w 1244880"/>
                <a:gd name="textAreaRight" fmla="*/ 1210680 w 1244880"/>
                <a:gd name="textAreaTop" fmla="*/ 30960 h 660600"/>
                <a:gd name="textAreaBottom" fmla="*/ 660960 h 660600"/>
              </a:gdLst>
              <a:ahLst/>
              <a:rect l="textAreaLeft" t="textAreaTop" r="textAreaRight" b="textAreaBottom"/>
              <a:pathLst>
                <a:path w="884111" h="521182">
                  <a:moveTo>
                    <a:pt x="83436" y="0"/>
                  </a:moveTo>
                  <a:lnTo>
                    <a:pt x="800675" y="0"/>
                  </a:lnTo>
                  <a:lnTo>
                    <a:pt x="800675" y="0"/>
                  </a:lnTo>
                  <a:arcTo wR="83436" hR="83436" stAng="-5400000" swAng="5400000"/>
                  <a:lnTo>
                    <a:pt x="884111" y="521182"/>
                  </a:lnTo>
                  <a:lnTo>
                    <a:pt x="0" y="521182"/>
                  </a:lnTo>
                  <a:lnTo>
                    <a:pt x="0" y="83436"/>
                  </a:lnTo>
                  <a:lnTo>
                    <a:pt x="0" y="83436"/>
                  </a:lnTo>
                  <a:arcTo wR="83436" hR="8343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ound Same Side Corner Rectangle 4"/>
            <p:cNvSpPr/>
            <p:nvPr/>
          </p:nvSpPr>
          <p:spPr>
            <a:xfrm flipV="1">
              <a:off x="1079280" y="2396160"/>
              <a:ext cx="1243440" cy="513000"/>
            </a:xfrm>
            <a:custGeom>
              <a:avLst/>
              <a:gdLst>
                <a:gd name="textAreaLeft" fmla="*/ 23760 w 1243440"/>
                <a:gd name="textAreaRight" fmla="*/ 1219680 w 1243440"/>
                <a:gd name="textAreaTop" fmla="*/ 21240 h 513000"/>
                <a:gd name="textAreaBottom" fmla="*/ 513360 h 513000"/>
              </a:gdLst>
              <a:ahLst/>
              <a:rect l="textAreaLeft" t="textAreaTop" r="textAreaRight" b="textAreaBottom"/>
              <a:pathLst>
                <a:path w="882984" h="404668">
                  <a:moveTo>
                    <a:pt x="57710" y="0"/>
                  </a:moveTo>
                  <a:lnTo>
                    <a:pt x="825274" y="0"/>
                  </a:lnTo>
                  <a:lnTo>
                    <a:pt x="825274" y="0"/>
                  </a:lnTo>
                  <a:arcTo wR="57710" hR="57710" stAng="-5400000" swAng="5400000"/>
                  <a:lnTo>
                    <a:pt x="882984" y="404668"/>
                  </a:lnTo>
                  <a:lnTo>
                    <a:pt x="0" y="404668"/>
                  </a:lnTo>
                  <a:lnTo>
                    <a:pt x="0" y="57710"/>
                  </a:lnTo>
                  <a:lnTo>
                    <a:pt x="0" y="57710"/>
                  </a:lnTo>
                  <a:arcTo wR="57710" hR="5771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4"/>
            <p:cNvSpPr/>
            <p:nvPr/>
          </p:nvSpPr>
          <p:spPr>
            <a:xfrm>
              <a:off x="1170720" y="2050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65" name="TextBox 85"/>
            <p:cNvSpPr/>
            <p:nvPr/>
          </p:nvSpPr>
          <p:spPr>
            <a:xfrm>
              <a:off x="1031760" y="2413080"/>
              <a:ext cx="14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pic>
        <p:nvPicPr>
          <p:cNvPr id="166" name="Picture 5" descr="C:\DOCUME~1\kennys\LOCALS~1\Temp\SNAGHTML38521aca.PNG"/>
          <p:cNvPicPr/>
          <p:nvPr/>
        </p:nvPicPr>
        <p:blipFill>
          <a:blip r:embed="rId1"/>
          <a:stretch/>
        </p:blipFill>
        <p:spPr>
          <a:xfrm>
            <a:off x="3073320" y="1747800"/>
            <a:ext cx="897120" cy="1488960"/>
          </a:xfrm>
          <a:prstGeom prst="rect">
            <a:avLst/>
          </a:prstGeom>
          <a:ln w="0">
            <a:noFill/>
          </a:ln>
        </p:spPr>
      </p:pic>
      <p:pic>
        <p:nvPicPr>
          <p:cNvPr id="167" name="Picture 7" descr="C:\work\Java_fundamentals\lessons\les_06_vars\socks.gif"/>
          <p:cNvPicPr/>
          <p:nvPr/>
        </p:nvPicPr>
        <p:blipFill>
          <a:blip r:embed="rId2"/>
          <a:stretch/>
        </p:blipFill>
        <p:spPr>
          <a:xfrm>
            <a:off x="7380360" y="4446720"/>
            <a:ext cx="542880" cy="1276200"/>
          </a:xfrm>
          <a:prstGeom prst="rect">
            <a:avLst/>
          </a:prstGeom>
          <a:ln w="0">
            <a:noFill/>
          </a:ln>
        </p:spPr>
      </p:pic>
      <p:grpSp>
        <p:nvGrpSpPr>
          <p:cNvPr id="168" name="Group 43"/>
          <p:cNvGrpSpPr/>
          <p:nvPr/>
        </p:nvGrpSpPr>
        <p:grpSpPr>
          <a:xfrm>
            <a:off x="1031760" y="4280040"/>
            <a:ext cx="1381320" cy="1090440"/>
            <a:chOff x="1031760" y="4280040"/>
            <a:chExt cx="1381320" cy="1090440"/>
          </a:xfrm>
        </p:grpSpPr>
        <p:sp>
          <p:nvSpPr>
            <p:cNvPr id="169" name="Round Same Side Corner Rectangle 10"/>
            <p:cNvSpPr/>
            <p:nvPr/>
          </p:nvSpPr>
          <p:spPr>
            <a:xfrm>
              <a:off x="1064880" y="4289400"/>
              <a:ext cx="1246680" cy="658800"/>
            </a:xfrm>
            <a:custGeom>
              <a:avLst/>
              <a:gdLst>
                <a:gd name="textAreaLeft" fmla="*/ 34200 w 1246680"/>
                <a:gd name="textAreaRight" fmla="*/ 1212480 w 1246680"/>
                <a:gd name="textAreaTop" fmla="*/ 30600 h 658800"/>
                <a:gd name="textAreaBottom" fmla="*/ 659160 h 658800"/>
              </a:gdLst>
              <a:ahLst/>
              <a:rect l="textAreaLeft" t="textAreaTop" r="textAreaRight" b="textAreaBottom"/>
              <a:pathLst>
                <a:path w="883353" h="520908">
                  <a:moveTo>
                    <a:pt x="83392" y="0"/>
                  </a:moveTo>
                  <a:lnTo>
                    <a:pt x="799961" y="0"/>
                  </a:lnTo>
                  <a:lnTo>
                    <a:pt x="799961" y="0"/>
                  </a:lnTo>
                  <a:arcTo wR="83392" hR="83392" stAng="-5400000" swAng="5400000"/>
                  <a:lnTo>
                    <a:pt x="883353" y="520908"/>
                  </a:lnTo>
                  <a:lnTo>
                    <a:pt x="0" y="520908"/>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 Same Side Corner Rectangle 11"/>
            <p:cNvSpPr/>
            <p:nvPr/>
          </p:nvSpPr>
          <p:spPr>
            <a:xfrm flipV="1">
              <a:off x="1064880" y="4624560"/>
              <a:ext cx="1246680" cy="745920"/>
            </a:xfrm>
            <a:custGeom>
              <a:avLst/>
              <a:gdLst>
                <a:gd name="textAreaLeft" fmla="*/ 34560 w 1246680"/>
                <a:gd name="textAreaRight" fmla="*/ 1212120 w 1246680"/>
                <a:gd name="textAreaTop" fmla="*/ 31320 h 745920"/>
                <a:gd name="textAreaBottom" fmla="*/ 746640 h 745920"/>
              </a:gdLst>
              <a:ahLst/>
              <a:rect l="textAreaLeft" t="textAreaTop" r="textAreaRight" b="textAreaBottom"/>
              <a:pathLst>
                <a:path w="883353" h="589944">
                  <a:moveTo>
                    <a:pt x="84132" y="0"/>
                  </a:moveTo>
                  <a:lnTo>
                    <a:pt x="799221" y="0"/>
                  </a:lnTo>
                  <a:lnTo>
                    <a:pt x="799221" y="0"/>
                  </a:lnTo>
                  <a:arcTo wR="84132" hR="84132" stAng="-5400000" swAng="5400000"/>
                  <a:lnTo>
                    <a:pt x="883353" y="589944"/>
                  </a:lnTo>
                  <a:lnTo>
                    <a:pt x="0" y="589944"/>
                  </a:lnTo>
                  <a:lnTo>
                    <a:pt x="0" y="84132"/>
                  </a:lnTo>
                  <a:lnTo>
                    <a:pt x="0" y="84132"/>
                  </a:lnTo>
                  <a:arcTo wR="84132" hR="8413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84"/>
            <p:cNvSpPr/>
            <p:nvPr/>
          </p:nvSpPr>
          <p:spPr>
            <a:xfrm>
              <a:off x="1193040" y="42800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72" name="TextBox 85"/>
            <p:cNvSpPr/>
            <p:nvPr/>
          </p:nvSpPr>
          <p:spPr>
            <a:xfrm>
              <a:off x="1031760" y="4641480"/>
              <a:ext cx="13813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73" name="Group 30"/>
          <p:cNvGrpSpPr/>
          <p:nvPr/>
        </p:nvGrpSpPr>
        <p:grpSpPr>
          <a:xfrm>
            <a:off x="5254560" y="4735440"/>
            <a:ext cx="1405080" cy="831960"/>
            <a:chOff x="5254560" y="4735440"/>
            <a:chExt cx="1405080" cy="831960"/>
          </a:xfrm>
        </p:grpSpPr>
        <p:sp>
          <p:nvSpPr>
            <p:cNvPr id="174" name="Round Same Side Corner Rectangle 15"/>
            <p:cNvSpPr/>
            <p:nvPr/>
          </p:nvSpPr>
          <p:spPr>
            <a:xfrm>
              <a:off x="5260680" y="4744800"/>
              <a:ext cx="1246320" cy="659160"/>
            </a:xfrm>
            <a:custGeom>
              <a:avLst/>
              <a:gdLst>
                <a:gd name="textAreaLeft" fmla="*/ 30960 w 1246320"/>
                <a:gd name="textAreaRight" fmla="*/ 1215360 w 1246320"/>
                <a:gd name="textAreaTop" fmla="*/ 30600 h 659160"/>
                <a:gd name="textAreaBottom" fmla="*/ 659520 h 659160"/>
              </a:gdLst>
              <a:ahLst/>
              <a:rect l="textAreaLeft" t="textAreaTop" r="textAreaRight" b="textAreaBottom"/>
              <a:pathLst>
                <a:path w="983624" h="521273">
                  <a:moveTo>
                    <a:pt x="83451" y="0"/>
                  </a:moveTo>
                  <a:lnTo>
                    <a:pt x="900173" y="0"/>
                  </a:lnTo>
                  <a:lnTo>
                    <a:pt x="900173" y="0"/>
                  </a:lnTo>
                  <a:arcTo wR="83451" hR="83451" stAng="-5400000" swAng="5400000"/>
                  <a:lnTo>
                    <a:pt x="983624" y="521273"/>
                  </a:lnTo>
                  <a:lnTo>
                    <a:pt x="0" y="521273"/>
                  </a:lnTo>
                  <a:lnTo>
                    <a:pt x="0" y="83451"/>
                  </a:lnTo>
                  <a:lnTo>
                    <a:pt x="0" y="83451"/>
                  </a:lnTo>
                  <a:arcTo wR="83451" hR="8345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ound Same Side Corner Rectangle 16"/>
            <p:cNvSpPr/>
            <p:nvPr/>
          </p:nvSpPr>
          <p:spPr>
            <a:xfrm flipV="1">
              <a:off x="5260680" y="5081400"/>
              <a:ext cx="1246320" cy="486000"/>
            </a:xfrm>
            <a:custGeom>
              <a:avLst/>
              <a:gdLst>
                <a:gd name="textAreaLeft" fmla="*/ 20160 w 1246320"/>
                <a:gd name="textAreaRight" fmla="*/ 1226160 w 1246320"/>
                <a:gd name="textAreaTop" fmla="*/ 20520 h 486000"/>
                <a:gd name="textAreaBottom" fmla="*/ 486720 h 486000"/>
              </a:gdLst>
              <a:ahLst/>
              <a:rect l="textAreaLeft" t="textAreaTop" r="textAreaRight" b="textAreaBottom"/>
              <a:pathLst>
                <a:path w="983624" h="384361">
                  <a:moveTo>
                    <a:pt x="54814" y="0"/>
                  </a:moveTo>
                  <a:lnTo>
                    <a:pt x="928810" y="0"/>
                  </a:lnTo>
                  <a:lnTo>
                    <a:pt x="928810" y="0"/>
                  </a:lnTo>
                  <a:arcTo wR="54814" hR="54814" stAng="-5400000" swAng="5400000"/>
                  <a:lnTo>
                    <a:pt x="983624" y="384361"/>
                  </a:lnTo>
                  <a:lnTo>
                    <a:pt x="0" y="384361"/>
                  </a:lnTo>
                  <a:lnTo>
                    <a:pt x="0" y="54814"/>
                  </a:lnTo>
                  <a:lnTo>
                    <a:pt x="0" y="54814"/>
                  </a:lnTo>
                  <a:arcTo wR="54814" hR="5481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84"/>
            <p:cNvSpPr/>
            <p:nvPr/>
          </p:nvSpPr>
          <p:spPr>
            <a:xfrm>
              <a:off x="5365800" y="473544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77" name="TextBox 85"/>
            <p:cNvSpPr/>
            <p:nvPr/>
          </p:nvSpPr>
          <p:spPr>
            <a:xfrm>
              <a:off x="5254560" y="5096880"/>
              <a:ext cx="1405080" cy="35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31"/>
          <p:cNvGrpSpPr/>
          <p:nvPr/>
        </p:nvGrpSpPr>
        <p:grpSpPr>
          <a:xfrm>
            <a:off x="5254560" y="1577880"/>
            <a:ext cx="1371600" cy="1644120"/>
            <a:chOff x="5254560" y="1577880"/>
            <a:chExt cx="1371600" cy="1644120"/>
          </a:xfrm>
        </p:grpSpPr>
        <p:sp>
          <p:nvSpPr>
            <p:cNvPr id="179" name="Round Same Side Corner Rectangle 20"/>
            <p:cNvSpPr/>
            <p:nvPr/>
          </p:nvSpPr>
          <p:spPr>
            <a:xfrm>
              <a:off x="5302080" y="1587240"/>
              <a:ext cx="1251000" cy="658800"/>
            </a:xfrm>
            <a:custGeom>
              <a:avLst/>
              <a:gdLst>
                <a:gd name="textAreaLeft" fmla="*/ 30600 w 1251000"/>
                <a:gd name="textAreaRight" fmla="*/ 1220400 w 1251000"/>
                <a:gd name="textAreaTop" fmla="*/ 30600 h 658800"/>
                <a:gd name="textAreaBottom" fmla="*/ 659160 h 658800"/>
              </a:gdLst>
              <a:ahLst/>
              <a:rect l="textAreaLeft" t="textAreaTop" r="textAreaRight" b="textAreaBottom"/>
              <a:pathLst>
                <a:path w="990136" h="520745">
                  <a:moveTo>
                    <a:pt x="83366" y="0"/>
                  </a:moveTo>
                  <a:lnTo>
                    <a:pt x="906770" y="0"/>
                  </a:lnTo>
                  <a:lnTo>
                    <a:pt x="906770" y="0"/>
                  </a:lnTo>
                  <a:arcTo wR="83366" hR="83366" stAng="-5400000" swAng="5400000"/>
                  <a:lnTo>
                    <a:pt x="990136" y="520745"/>
                  </a:lnTo>
                  <a:lnTo>
                    <a:pt x="0" y="520745"/>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ound Same Side Corner Rectangle 21"/>
            <p:cNvSpPr/>
            <p:nvPr/>
          </p:nvSpPr>
          <p:spPr>
            <a:xfrm flipV="1">
              <a:off x="5302080" y="1923120"/>
              <a:ext cx="1251000" cy="1298520"/>
            </a:xfrm>
            <a:custGeom>
              <a:avLst/>
              <a:gdLst>
                <a:gd name="textAreaLeft" fmla="*/ 52200 w 1251000"/>
                <a:gd name="textAreaRight" fmla="*/ 1198800 w 1251000"/>
                <a:gd name="textAreaTop" fmla="*/ 52200 h 1298520"/>
                <a:gd name="textAreaBottom" fmla="*/ 1298880 h 1298520"/>
              </a:gdLst>
              <a:ahLst/>
              <a:rect l="textAreaLeft" t="textAreaTop" r="textAreaRight" b="textAreaBottom"/>
              <a:pathLst>
                <a:path w="990136" h="1026432">
                  <a:moveTo>
                    <a:pt x="141203" y="0"/>
                  </a:moveTo>
                  <a:lnTo>
                    <a:pt x="848933" y="0"/>
                  </a:lnTo>
                  <a:lnTo>
                    <a:pt x="848933" y="0"/>
                  </a:lnTo>
                  <a:arcTo wR="141203" hR="141203" stAng="-5400000" swAng="5400000"/>
                  <a:lnTo>
                    <a:pt x="990136" y="1026432"/>
                  </a:lnTo>
                  <a:lnTo>
                    <a:pt x="0" y="1026432"/>
                  </a:lnTo>
                  <a:lnTo>
                    <a:pt x="0" y="141203"/>
                  </a:lnTo>
                  <a:lnTo>
                    <a:pt x="0" y="141203"/>
                  </a:lnTo>
                  <a:arcTo wR="141203" hR="14120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84"/>
            <p:cNvSpPr/>
            <p:nvPr/>
          </p:nvSpPr>
          <p:spPr>
            <a:xfrm>
              <a:off x="5441400" y="157788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82" name="TextBox 85"/>
            <p:cNvSpPr/>
            <p:nvPr/>
          </p:nvSpPr>
          <p:spPr>
            <a:xfrm>
              <a:off x="5254560" y="1939320"/>
              <a:ext cx="13716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pic>
        <p:nvPicPr>
          <p:cNvPr id="183" name="Picture 10" descr="C:\DOCUME~1\kennys\LOCALS~1\Temp\SNAGHTML3853fc4b.PNG"/>
          <p:cNvPicPr/>
          <p:nvPr/>
        </p:nvPicPr>
        <p:blipFill>
          <a:blip r:embed="rId3"/>
          <a:stretch/>
        </p:blipFill>
        <p:spPr>
          <a:xfrm>
            <a:off x="2975040" y="4059360"/>
            <a:ext cx="1095480" cy="1904760"/>
          </a:xfrm>
          <a:prstGeom prst="rect">
            <a:avLst/>
          </a:prstGeom>
          <a:ln w="0">
            <a:noFill/>
          </a:ln>
        </p:spPr>
      </p:pic>
      <p:pic>
        <p:nvPicPr>
          <p:cNvPr id="184" name="Picture 4" descr="C:\DOCUME~1\kennys\LOCALS~1\Temp\SNAGHTML63219f.PNG"/>
          <p:cNvPicPr/>
          <p:nvPr/>
        </p:nvPicPr>
        <p:blipFill>
          <a:blip r:embed="rId4"/>
          <a:stretch/>
        </p:blipFill>
        <p:spPr>
          <a:xfrm>
            <a:off x="7278840" y="1739880"/>
            <a:ext cx="742680" cy="1362240"/>
          </a:xfrm>
          <a:prstGeom prst="rect">
            <a:avLst/>
          </a:prstGeom>
          <a:ln w="0">
            <a:noFill/>
          </a:ln>
        </p:spPr>
      </p:pic>
      <p:grpSp>
        <p:nvGrpSpPr>
          <p:cNvPr id="185" name="Group 34"/>
          <p:cNvGrpSpPr/>
          <p:nvPr/>
        </p:nvGrpSpPr>
        <p:grpSpPr>
          <a:xfrm>
            <a:off x="2496960" y="2482920"/>
            <a:ext cx="304920" cy="152280"/>
            <a:chOff x="2496960" y="2482920"/>
            <a:chExt cx="304920" cy="152280"/>
          </a:xfrm>
        </p:grpSpPr>
        <p:sp>
          <p:nvSpPr>
            <p:cNvPr id="186" name="Straight Connector 32"/>
            <p:cNvSpPr/>
            <p:nvPr/>
          </p:nvSpPr>
          <p:spPr>
            <a:xfrm>
              <a:off x="2500920" y="248292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33"/>
            <p:cNvSpPr/>
            <p:nvPr/>
          </p:nvSpPr>
          <p:spPr>
            <a:xfrm>
              <a:off x="2496960" y="263520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35"/>
          <p:cNvGrpSpPr/>
          <p:nvPr/>
        </p:nvGrpSpPr>
        <p:grpSpPr>
          <a:xfrm>
            <a:off x="2496960" y="4764240"/>
            <a:ext cx="303480" cy="152280"/>
            <a:chOff x="2496960" y="4764240"/>
            <a:chExt cx="303480" cy="152280"/>
          </a:xfrm>
        </p:grpSpPr>
        <p:sp>
          <p:nvSpPr>
            <p:cNvPr id="189" name="Straight Connector 36"/>
            <p:cNvSpPr/>
            <p:nvPr/>
          </p:nvSpPr>
          <p:spPr>
            <a:xfrm>
              <a:off x="2500560" y="476424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Straight Connector 37"/>
            <p:cNvSpPr/>
            <p:nvPr/>
          </p:nvSpPr>
          <p:spPr>
            <a:xfrm>
              <a:off x="2496960" y="491652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38"/>
          <p:cNvGrpSpPr/>
          <p:nvPr/>
        </p:nvGrpSpPr>
        <p:grpSpPr>
          <a:xfrm>
            <a:off x="6751800" y="5098680"/>
            <a:ext cx="304560" cy="152280"/>
            <a:chOff x="6751800" y="5098680"/>
            <a:chExt cx="304560" cy="152280"/>
          </a:xfrm>
        </p:grpSpPr>
        <p:sp>
          <p:nvSpPr>
            <p:cNvPr id="192" name="Straight Connector 39"/>
            <p:cNvSpPr/>
            <p:nvPr/>
          </p:nvSpPr>
          <p:spPr>
            <a:xfrm>
              <a:off x="6755760" y="525096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traight Connector 40"/>
            <p:cNvSpPr/>
            <p:nvPr/>
          </p:nvSpPr>
          <p:spPr>
            <a:xfrm>
              <a:off x="6751800" y="509868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41"/>
          <p:cNvGrpSpPr/>
          <p:nvPr/>
        </p:nvGrpSpPr>
        <p:grpSpPr>
          <a:xfrm>
            <a:off x="6750000" y="2421000"/>
            <a:ext cx="308160" cy="152280"/>
            <a:chOff x="6750000" y="2421000"/>
            <a:chExt cx="308160" cy="152280"/>
          </a:xfrm>
        </p:grpSpPr>
        <p:sp>
          <p:nvSpPr>
            <p:cNvPr id="195" name="Straight Connector 42"/>
            <p:cNvSpPr/>
            <p:nvPr/>
          </p:nvSpPr>
          <p:spPr>
            <a:xfrm>
              <a:off x="6750000" y="242100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43"/>
            <p:cNvSpPr/>
            <p:nvPr/>
          </p:nvSpPr>
          <p:spPr>
            <a:xfrm>
              <a:off x="6757920" y="257328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1</a:t>
            </a:r>
            <a:br>
              <a:rPr sz="4000"/>
            </a:br>
            <a:endParaRPr b="0" lang="en-US" sz="4000" spc="-1" strike="noStrike">
              <a:solidFill>
                <a:srgbClr val="000000"/>
              </a:solidFill>
              <a:latin typeface="Calibri"/>
            </a:endParaRPr>
          </a:p>
        </p:txBody>
      </p:sp>
      <p:sp>
        <p:nvSpPr>
          <p:cNvPr id="199"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abstract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int quantityInStock)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0" name="Rectangle 5"/>
          <p:cNvSpPr/>
          <p:nvPr/>
        </p:nvSpPr>
        <p:spPr>
          <a:xfrm>
            <a:off x="1413000" y="1366920"/>
            <a:ext cx="1568160" cy="299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41"/>
          <p:cNvSpPr/>
          <p:nvPr/>
        </p:nvSpPr>
        <p:spPr>
          <a:xfrm>
            <a:off x="4235400" y="2396880"/>
            <a:ext cx="1863720" cy="944640"/>
          </a:xfrm>
          <a:prstGeom prst="wedgeRectCallout">
            <a:avLst>
              <a:gd name="adj1" fmla="val -111046"/>
              <a:gd name="adj2" fmla="val -121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 class cannot be instanti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2</a:t>
            </a:r>
            <a:br>
              <a:rPr sz="4000"/>
            </a:br>
            <a:endParaRPr b="0" lang="en-US" sz="4000" spc="-1" strike="noStrike">
              <a:solidFill>
                <a:srgbClr val="000000"/>
              </a:solidFill>
              <a:latin typeface="Calibri"/>
            </a:endParaRPr>
          </a:p>
        </p:txBody>
      </p:sp>
      <p:sp>
        <p:nvSpPr>
          <p:cNvPr id="204" name=""/>
          <p:cNvSpPr txBox="1"/>
          <p:nvPr/>
        </p:nvSpPr>
        <p:spPr>
          <a:xfrm>
            <a:off x="609480" y="1401840"/>
            <a:ext cx="7918560" cy="23097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void setColorCode(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other methods not list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5" name="Rectangle 5"/>
          <p:cNvSpPr/>
          <p:nvPr/>
        </p:nvSpPr>
        <p:spPr>
          <a:xfrm>
            <a:off x="1631880" y="13716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1"/>
          <p:cNvSpPr/>
          <p:nvPr/>
        </p:nvSpPr>
        <p:spPr>
          <a:xfrm>
            <a:off x="6478560" y="981000"/>
            <a:ext cx="1722600" cy="1157760"/>
          </a:xfrm>
          <a:prstGeom prst="wedgeRectCallout">
            <a:avLst>
              <a:gd name="adj1" fmla="val -274587"/>
              <a:gd name="adj2" fmla="val 516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stract keyword ensures that the must be overridden in the subclass</a:t>
            </a:r>
            <a:endParaRPr b="0" lang="en-US" sz="1400" spc="-1" strike="noStrike">
              <a:solidFill>
                <a:srgbClr val="000000"/>
              </a:solidFill>
              <a:latin typeface="Arial"/>
            </a:endParaRPr>
          </a:p>
        </p:txBody>
      </p:sp>
      <p:sp>
        <p:nvSpPr>
          <p:cNvPr id="207" name="Rectangle 5"/>
          <p:cNvSpPr/>
          <p:nvPr/>
        </p:nvSpPr>
        <p:spPr>
          <a:xfrm>
            <a:off x="1627200" y="21384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41"/>
          <p:cNvSpPr/>
          <p:nvPr/>
        </p:nvSpPr>
        <p:spPr>
          <a:xfrm>
            <a:off x="6473880" y="975960"/>
            <a:ext cx="1722240" cy="1157760"/>
          </a:xfrm>
          <a:prstGeom prst="wedgeRectCallout">
            <a:avLst>
              <a:gd name="adj1" fmla="val -276162"/>
              <a:gd name="adj2" fmla="val 74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se must be overridden in the sub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perclass and Subclass Relationships</a:t>
            </a:r>
            <a:endParaRPr b="0" lang="en-US" sz="4000" spc="-1" strike="noStrike">
              <a:solidFill>
                <a:srgbClr val="000000"/>
              </a:solidFill>
              <a:latin typeface="Calibri"/>
            </a:endParaRPr>
          </a:p>
        </p:txBody>
      </p:sp>
      <p:sp>
        <p:nvSpPr>
          <p:cNvPr id="210" name=""/>
          <p:cNvSpPr txBox="1"/>
          <p:nvPr/>
        </p:nvSpPr>
        <p:spPr>
          <a:xfrm>
            <a:off x="609480" y="1447560"/>
            <a:ext cx="7918560" cy="3274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It is very important to consider the best use of inheritan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Use inheritance only when it is completely valid or unavoid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Check appropriateness with the “</a:t>
            </a:r>
            <a:r>
              <a:rPr b="0" i="1" lang="en-US" sz="2600" spc="-1" strike="noStrike">
                <a:solidFill>
                  <a:srgbClr val="000000"/>
                </a:solidFill>
                <a:latin typeface="Calibri"/>
                <a:ea typeface="ＭＳ Ｐゴシック"/>
              </a:rPr>
              <a:t>is a” </a:t>
            </a:r>
            <a:r>
              <a:rPr b="0" lang="en-US" sz="2600" spc="-1" strike="noStrike">
                <a:solidFill>
                  <a:srgbClr val="000000"/>
                </a:solidFill>
                <a:latin typeface="Calibri"/>
                <a:ea typeface="ＭＳ Ｐゴシック"/>
              </a:rPr>
              <a:t>phra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Shirt is a piece of Clothing” expresses a valid inheritance link.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Hat is a Sock” expresses an invalid inheritance lin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1"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fter completing this lesson, you should be able to:</a:t>
            </a:r>
            <a:endParaRPr b="0" lang="en-US" sz="27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inheritance</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est superclass and subclass relation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polymorphism</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e a subclas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Use abstract classes and interfaces</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nother Inheritance Example</a:t>
            </a:r>
            <a:br>
              <a:rPr sz="4000"/>
            </a:br>
            <a:endParaRPr b="0" lang="en-US" sz="4000" spc="-1" strike="noStrike">
              <a:solidFill>
                <a:srgbClr val="000000"/>
              </a:solidFill>
              <a:latin typeface="Calibri"/>
            </a:endParaRPr>
          </a:p>
        </p:txBody>
      </p:sp>
      <p:grpSp>
        <p:nvGrpSpPr>
          <p:cNvPr id="212" name="Group 31"/>
          <p:cNvGrpSpPr/>
          <p:nvPr/>
        </p:nvGrpSpPr>
        <p:grpSpPr>
          <a:xfrm>
            <a:off x="3986280" y="1265400"/>
            <a:ext cx="1292040" cy="1550880"/>
            <a:chOff x="3986280" y="1265400"/>
            <a:chExt cx="1292040" cy="1550880"/>
          </a:xfrm>
        </p:grpSpPr>
        <p:sp>
          <p:nvSpPr>
            <p:cNvPr id="213" name="Round Same Side Corner Rectangle 32"/>
            <p:cNvSpPr/>
            <p:nvPr/>
          </p:nvSpPr>
          <p:spPr>
            <a:xfrm>
              <a:off x="4033800" y="1274760"/>
              <a:ext cx="1187280" cy="620640"/>
            </a:xfrm>
            <a:custGeom>
              <a:avLst/>
              <a:gdLst>
                <a:gd name="textAreaLeft" fmla="*/ 28800 w 1187280"/>
                <a:gd name="textAreaRight" fmla="*/ 1158480 w 1187280"/>
                <a:gd name="textAreaTop" fmla="*/ 28800 h 620640"/>
                <a:gd name="textAreaBottom" fmla="*/ 621000 h 620640"/>
              </a:gdLst>
              <a:ahLst/>
              <a:rect l="textAreaLeft" t="textAreaTop" r="textAreaRight" b="textAreaBottom"/>
              <a:pathLst>
                <a:path w="997607" h="520203">
                  <a:moveTo>
                    <a:pt x="83279" y="0"/>
                  </a:moveTo>
                  <a:lnTo>
                    <a:pt x="914328" y="0"/>
                  </a:lnTo>
                  <a:lnTo>
                    <a:pt x="914328" y="0"/>
                  </a:lnTo>
                  <a:arcTo wR="83279" hR="83279" stAng="-5400000" swAng="5400000"/>
                  <a:lnTo>
                    <a:pt x="997607" y="520203"/>
                  </a:lnTo>
                  <a:lnTo>
                    <a:pt x="0" y="520203"/>
                  </a:lnTo>
                  <a:lnTo>
                    <a:pt x="0" y="83279"/>
                  </a:lnTo>
                  <a:lnTo>
                    <a:pt x="0" y="83279"/>
                  </a:lnTo>
                  <a:arcTo wR="83279" hR="8327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ound Same Side Corner Rectangle 33"/>
            <p:cNvSpPr/>
            <p:nvPr/>
          </p:nvSpPr>
          <p:spPr>
            <a:xfrm flipV="1">
              <a:off x="4033800" y="1590840"/>
              <a:ext cx="1187280" cy="1225440"/>
            </a:xfrm>
            <a:custGeom>
              <a:avLst/>
              <a:gdLst>
                <a:gd name="textAreaLeft" fmla="*/ 49320 w 1187280"/>
                <a:gd name="textAreaRight" fmla="*/ 1137960 w 1187280"/>
                <a:gd name="textAreaTop" fmla="*/ 50040 h 1225440"/>
                <a:gd name="textAreaBottom" fmla="*/ 1226160 h 1225440"/>
              </a:gdLst>
              <a:ahLst/>
              <a:rect l="textAreaLeft" t="textAreaTop" r="textAreaRight" b="textAreaBottom"/>
              <a:pathLst>
                <a:path w="997607" h="1027103">
                  <a:moveTo>
                    <a:pt x="142269" y="0"/>
                  </a:moveTo>
                  <a:lnTo>
                    <a:pt x="855338" y="0"/>
                  </a:lnTo>
                  <a:lnTo>
                    <a:pt x="855338" y="0"/>
                  </a:lnTo>
                  <a:arcTo wR="142269" hR="142269" stAng="-5400000" swAng="5400000"/>
                  <a:lnTo>
                    <a:pt x="997607" y="1027103"/>
                  </a:lnTo>
                  <a:lnTo>
                    <a:pt x="0" y="1027103"/>
                  </a:lnTo>
                  <a:lnTo>
                    <a:pt x="0" y="142269"/>
                  </a:lnTo>
                  <a:lnTo>
                    <a:pt x="0" y="142269"/>
                  </a:lnTo>
                  <a:arcTo wR="142269" hR="1422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84"/>
            <p:cNvSpPr/>
            <p:nvPr/>
          </p:nvSpPr>
          <p:spPr>
            <a:xfrm>
              <a:off x="4058640" y="1265400"/>
              <a:ext cx="903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p:txBody>
        </p:sp>
        <p:sp>
          <p:nvSpPr>
            <p:cNvPr id="216" name="TextBox 85"/>
            <p:cNvSpPr/>
            <p:nvPr/>
          </p:nvSpPr>
          <p:spPr>
            <a:xfrm>
              <a:off x="3986280" y="1606320"/>
              <a:ext cx="12920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Id()</a:t>
              </a:r>
              <a:endParaRPr b="0" lang="en-US" sz="1200" spc="-1" strike="noStrike">
                <a:solidFill>
                  <a:srgbClr val="000000"/>
                </a:solidFill>
                <a:latin typeface="Arial"/>
              </a:endParaRPr>
            </a:p>
          </p:txBody>
        </p:sp>
      </p:grpSp>
      <p:grpSp>
        <p:nvGrpSpPr>
          <p:cNvPr id="217" name="Group 56"/>
          <p:cNvGrpSpPr/>
          <p:nvPr/>
        </p:nvGrpSpPr>
        <p:grpSpPr>
          <a:xfrm>
            <a:off x="3919680" y="4838760"/>
            <a:ext cx="1392120" cy="799560"/>
            <a:chOff x="3919680" y="4838760"/>
            <a:chExt cx="1392120" cy="799560"/>
          </a:xfrm>
        </p:grpSpPr>
        <p:sp>
          <p:nvSpPr>
            <p:cNvPr id="218" name="Round Same Side Corner Rectangle 35"/>
            <p:cNvSpPr/>
            <p:nvPr/>
          </p:nvSpPr>
          <p:spPr>
            <a:xfrm>
              <a:off x="3941640" y="4838760"/>
              <a:ext cx="1370160" cy="622080"/>
            </a:xfrm>
            <a:custGeom>
              <a:avLst/>
              <a:gdLst>
                <a:gd name="textAreaLeft" fmla="*/ 28800 w 1370160"/>
                <a:gd name="textAreaRight" fmla="*/ 1341360 w 1370160"/>
                <a:gd name="textAreaTop" fmla="*/ 29160 h 622080"/>
                <a:gd name="textAreaBottom" fmla="*/ 622440 h 622080"/>
              </a:gdLst>
              <a:ahLst/>
              <a:rect l="textAreaLeft" t="textAreaTop" r="textAreaRight" b="textAreaBottom"/>
              <a:pathLst>
                <a:path w="1371140" h="621743">
                  <a:moveTo>
                    <a:pt x="99535" y="0"/>
                  </a:moveTo>
                  <a:lnTo>
                    <a:pt x="1271605" y="0"/>
                  </a:lnTo>
                  <a:lnTo>
                    <a:pt x="1271605" y="0"/>
                  </a:lnTo>
                  <a:arcTo wR="99535" hR="99535" stAng="-5400000" swAng="5400000"/>
                  <a:lnTo>
                    <a:pt x="1371140" y="621743"/>
                  </a:lnTo>
                  <a:lnTo>
                    <a:pt x="0" y="621743"/>
                  </a:lnTo>
                  <a:lnTo>
                    <a:pt x="0" y="99535"/>
                  </a:lnTo>
                  <a:lnTo>
                    <a:pt x="0" y="99535"/>
                  </a:lnTo>
                  <a:arcTo wR="99535" hR="9953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ame Side Corner Rectangle 36"/>
            <p:cNvSpPr/>
            <p:nvPr/>
          </p:nvSpPr>
          <p:spPr>
            <a:xfrm flipV="1">
              <a:off x="3941640" y="5153760"/>
              <a:ext cx="1370160" cy="484200"/>
            </a:xfrm>
            <a:custGeom>
              <a:avLst/>
              <a:gdLst>
                <a:gd name="textAreaLeft" fmla="*/ 20160 w 1370160"/>
                <a:gd name="textAreaRight" fmla="*/ 1350000 w 1370160"/>
                <a:gd name="textAreaTop" fmla="*/ 19800 h 484200"/>
                <a:gd name="textAreaBottom" fmla="*/ 484200 h 484200"/>
              </a:gdLst>
              <a:ahLst/>
              <a:rect l="textAreaLeft" t="textAreaTop" r="textAreaRight" b="textAreaBottom"/>
              <a:pathLst>
                <a:path w="1371140" h="483754">
                  <a:moveTo>
                    <a:pt x="68988" y="0"/>
                  </a:moveTo>
                  <a:lnTo>
                    <a:pt x="1302152" y="0"/>
                  </a:lnTo>
                  <a:lnTo>
                    <a:pt x="1302152" y="0"/>
                  </a:lnTo>
                  <a:arcTo wR="68988" hR="68988" stAng="-5400000" swAng="5400000"/>
                  <a:lnTo>
                    <a:pt x="1371140" y="483754"/>
                  </a:lnTo>
                  <a:lnTo>
                    <a:pt x="0" y="483754"/>
                  </a:lnTo>
                  <a:lnTo>
                    <a:pt x="0" y="68988"/>
                  </a:lnTo>
                  <a:lnTo>
                    <a:pt x="0" y="68988"/>
                  </a:lnTo>
                  <a:arcTo wR="68988" hR="689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84"/>
            <p:cNvSpPr/>
            <p:nvPr/>
          </p:nvSpPr>
          <p:spPr>
            <a:xfrm>
              <a:off x="3919680" y="4838760"/>
              <a:ext cx="1387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Writer</a:t>
              </a:r>
              <a:endParaRPr b="0" lang="en-US" sz="1200" spc="-1" strike="noStrike">
                <a:solidFill>
                  <a:srgbClr val="000000"/>
                </a:solidFill>
                <a:latin typeface="Arial"/>
              </a:endParaRPr>
            </a:p>
          </p:txBody>
        </p:sp>
      </p:grpSp>
      <p:grpSp>
        <p:nvGrpSpPr>
          <p:cNvPr id="221" name="Group 39"/>
          <p:cNvGrpSpPr/>
          <p:nvPr/>
        </p:nvGrpSpPr>
        <p:grpSpPr>
          <a:xfrm>
            <a:off x="2013480" y="4838760"/>
            <a:ext cx="1809360" cy="799560"/>
            <a:chOff x="2013480" y="4838760"/>
            <a:chExt cx="1809360" cy="799560"/>
          </a:xfrm>
        </p:grpSpPr>
        <p:sp>
          <p:nvSpPr>
            <p:cNvPr id="222" name="Round Same Side Corner Rectangle 40"/>
            <p:cNvSpPr/>
            <p:nvPr/>
          </p:nvSpPr>
          <p:spPr>
            <a:xfrm>
              <a:off x="2031840" y="4838760"/>
              <a:ext cx="1791000" cy="622080"/>
            </a:xfrm>
            <a:custGeom>
              <a:avLst/>
              <a:gdLst>
                <a:gd name="textAreaLeft" fmla="*/ 28800 w 1791000"/>
                <a:gd name="textAreaRight" fmla="*/ 1762200 w 1791000"/>
                <a:gd name="textAreaTop" fmla="*/ 29160 h 622080"/>
                <a:gd name="textAreaBottom" fmla="*/ 622440 h 622080"/>
              </a:gdLst>
              <a:ahLst/>
              <a:rect l="textAreaLeft" t="textAreaTop" r="textAreaRight" b="textAreaBottom"/>
              <a:pathLst>
                <a:path w="1502048" h="521052">
                  <a:moveTo>
                    <a:pt x="83415" y="0"/>
                  </a:moveTo>
                  <a:lnTo>
                    <a:pt x="1418633" y="0"/>
                  </a:lnTo>
                  <a:lnTo>
                    <a:pt x="1418633" y="0"/>
                  </a:lnTo>
                  <a:arcTo wR="83415" hR="83415" stAng="-5400000" swAng="5400000"/>
                  <a:lnTo>
                    <a:pt x="1502048" y="521052"/>
                  </a:lnTo>
                  <a:lnTo>
                    <a:pt x="0" y="521052"/>
                  </a:lnTo>
                  <a:lnTo>
                    <a:pt x="0" y="83415"/>
                  </a:lnTo>
                  <a:lnTo>
                    <a:pt x="0" y="83415"/>
                  </a:lnTo>
                  <a:arcTo wR="83415" hR="8341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ound Same Side Corner Rectangle 41"/>
            <p:cNvSpPr/>
            <p:nvPr/>
          </p:nvSpPr>
          <p:spPr>
            <a:xfrm flipV="1">
              <a:off x="2033280" y="5153760"/>
              <a:ext cx="1789560" cy="484200"/>
            </a:xfrm>
            <a:custGeom>
              <a:avLst/>
              <a:gdLst>
                <a:gd name="textAreaLeft" fmla="*/ 20160 w 1789560"/>
                <a:gd name="textAreaRight" fmla="*/ 1769400 w 1789560"/>
                <a:gd name="textAreaTop" fmla="*/ 19800 h 484200"/>
                <a:gd name="textAreaBottom" fmla="*/ 484200 h 484200"/>
              </a:gdLst>
              <a:ahLst/>
              <a:rect l="textAreaLeft" t="textAreaTop" r="textAreaRight" b="textAreaBottom"/>
              <a:pathLst>
                <a:path w="1500716" h="405410">
                  <a:moveTo>
                    <a:pt x="57816" y="0"/>
                  </a:moveTo>
                  <a:lnTo>
                    <a:pt x="1442900" y="0"/>
                  </a:lnTo>
                  <a:lnTo>
                    <a:pt x="1442900" y="0"/>
                  </a:lnTo>
                  <a:arcTo wR="57816" hR="57816" stAng="-5400000" swAng="5400000"/>
                  <a:lnTo>
                    <a:pt x="1500716" y="405410"/>
                  </a:lnTo>
                  <a:lnTo>
                    <a:pt x="0" y="405410"/>
                  </a:lnTo>
                  <a:lnTo>
                    <a:pt x="0" y="57816"/>
                  </a:lnTo>
                  <a:lnTo>
                    <a:pt x="0" y="57816"/>
                  </a:lnTo>
                  <a:arcTo wR="57816" hR="5781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84"/>
            <p:cNvSpPr/>
            <p:nvPr/>
          </p:nvSpPr>
          <p:spPr>
            <a:xfrm>
              <a:off x="2013480" y="4843440"/>
              <a:ext cx="146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phicIllustrator</a:t>
              </a:r>
              <a:endParaRPr b="0" lang="en-US" sz="1200" spc="-1" strike="noStrike">
                <a:solidFill>
                  <a:srgbClr val="000000"/>
                </a:solidFill>
                <a:latin typeface="Arial"/>
              </a:endParaRPr>
            </a:p>
          </p:txBody>
        </p:sp>
        <p:sp>
          <p:nvSpPr>
            <p:cNvPr id="225" name="TextBox 85"/>
            <p:cNvSpPr/>
            <p:nvPr/>
          </p:nvSpPr>
          <p:spPr>
            <a:xfrm>
              <a:off x="2159280" y="5199480"/>
              <a:ext cx="152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oolsUsed()</a:t>
              </a:r>
              <a:endParaRPr b="0" lang="en-US" sz="1200" spc="-1" strike="noStrike">
                <a:solidFill>
                  <a:srgbClr val="000000"/>
                </a:solidFill>
                <a:latin typeface="Arial"/>
              </a:endParaRPr>
            </a:p>
          </p:txBody>
        </p:sp>
      </p:grpSp>
      <p:sp>
        <p:nvSpPr>
          <p:cNvPr id="226" name="Straight Connector 54"/>
          <p:cNvSpPr/>
          <p:nvPr/>
        </p:nvSpPr>
        <p:spPr>
          <a:xfrm>
            <a:off x="5369040" y="3068640"/>
            <a:ext cx="26924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Straight Arrow Connector 39"/>
          <p:cNvCxnSpPr/>
          <p:nvPr/>
        </p:nvCxnSpPr>
        <p:spPr>
          <a:xfrm flipH="1">
            <a:off x="8039880" y="3060360"/>
            <a:ext cx="2520" cy="244800"/>
          </a:xfrm>
          <a:prstGeom prst="straightConnector1">
            <a:avLst/>
          </a:prstGeom>
          <a:ln w="28440">
            <a:solidFill>
              <a:srgbClr val="ff0000"/>
            </a:solidFill>
            <a:miter/>
            <a:tailEnd len="med" type="triangle" w="med"/>
          </a:ln>
        </p:spPr>
      </p:cxnSp>
      <p:grpSp>
        <p:nvGrpSpPr>
          <p:cNvPr id="228" name="Group 30"/>
          <p:cNvGrpSpPr/>
          <p:nvPr/>
        </p:nvGrpSpPr>
        <p:grpSpPr>
          <a:xfrm>
            <a:off x="7408800" y="3305160"/>
            <a:ext cx="1324080" cy="784080"/>
            <a:chOff x="7408800" y="3305160"/>
            <a:chExt cx="1324080" cy="784080"/>
          </a:xfrm>
        </p:grpSpPr>
        <p:sp>
          <p:nvSpPr>
            <p:cNvPr id="229" name="Round Same Side Corner Rectangle 60"/>
            <p:cNvSpPr/>
            <p:nvPr/>
          </p:nvSpPr>
          <p:spPr>
            <a:xfrm>
              <a:off x="7414920" y="33145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ound Same Side Corner Rectangle 61"/>
            <p:cNvSpPr/>
            <p:nvPr/>
          </p:nvSpPr>
          <p:spPr>
            <a:xfrm flipV="1">
              <a:off x="7414920" y="36306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84"/>
            <p:cNvSpPr/>
            <p:nvPr/>
          </p:nvSpPr>
          <p:spPr>
            <a:xfrm>
              <a:off x="7623000" y="33051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32" name="TextBox 85"/>
            <p:cNvSpPr/>
            <p:nvPr/>
          </p:nvSpPr>
          <p:spPr>
            <a:xfrm>
              <a:off x="7408800" y="36457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54"/>
          <p:cNvGrpSpPr/>
          <p:nvPr/>
        </p:nvGrpSpPr>
        <p:grpSpPr>
          <a:xfrm>
            <a:off x="568440" y="4838760"/>
            <a:ext cx="1428480" cy="784080"/>
            <a:chOff x="568440" y="4838760"/>
            <a:chExt cx="1428480" cy="784080"/>
          </a:xfrm>
        </p:grpSpPr>
        <p:sp>
          <p:nvSpPr>
            <p:cNvPr id="234" name="Round Same Side Corner Rectangle 49"/>
            <p:cNvSpPr/>
            <p:nvPr/>
          </p:nvSpPr>
          <p:spPr>
            <a:xfrm>
              <a:off x="619200" y="4848120"/>
              <a:ext cx="1279440" cy="620640"/>
            </a:xfrm>
            <a:custGeom>
              <a:avLst/>
              <a:gdLst>
                <a:gd name="textAreaLeft" fmla="*/ 28800 w 1279440"/>
                <a:gd name="textAreaRight" fmla="*/ 1250640 w 1279440"/>
                <a:gd name="textAreaTop" fmla="*/ 28800 h 620640"/>
                <a:gd name="textAreaBottom" fmla="*/ 621000 h 620640"/>
              </a:gdLst>
              <a:ahLst/>
              <a:rect l="textAreaLeft" t="textAreaTop" r="textAreaRight" b="textAreaBottom"/>
              <a:pathLst>
                <a:path w="1279106" h="620716">
                  <a:moveTo>
                    <a:pt x="99370" y="0"/>
                  </a:moveTo>
                  <a:lnTo>
                    <a:pt x="1179736" y="0"/>
                  </a:lnTo>
                  <a:lnTo>
                    <a:pt x="1179736" y="0"/>
                  </a:lnTo>
                  <a:arcTo wR="99370" hR="99370" stAng="-5400000" swAng="5400000"/>
                  <a:lnTo>
                    <a:pt x="1279106" y="620716"/>
                  </a:lnTo>
                  <a:lnTo>
                    <a:pt x="0" y="620716"/>
                  </a:lnTo>
                  <a:lnTo>
                    <a:pt x="0" y="99370"/>
                  </a:lnTo>
                  <a:lnTo>
                    <a:pt x="0" y="99370"/>
                  </a:lnTo>
                  <a:arcTo wR="99370" hR="99370"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ound Same Side Corner Rectangle 50"/>
            <p:cNvSpPr/>
            <p:nvPr/>
          </p:nvSpPr>
          <p:spPr>
            <a:xfrm flipV="1">
              <a:off x="619200" y="5164200"/>
              <a:ext cx="1279440" cy="458640"/>
            </a:xfrm>
            <a:custGeom>
              <a:avLst/>
              <a:gdLst>
                <a:gd name="textAreaLeft" fmla="*/ 19080 w 1279440"/>
                <a:gd name="textAreaRight" fmla="*/ 1260360 w 1279440"/>
                <a:gd name="textAreaTop" fmla="*/ 19080 h 458640"/>
                <a:gd name="textAreaBottom" fmla="*/ 459000 h 458640"/>
              </a:gdLst>
              <a:ahLst/>
              <a:rect l="textAreaLeft" t="textAreaTop" r="textAreaRight" b="textAreaBottom"/>
              <a:pathLst>
                <a:path w="1279106" h="458789">
                  <a:moveTo>
                    <a:pt x="65428" y="0"/>
                  </a:moveTo>
                  <a:lnTo>
                    <a:pt x="1213678" y="0"/>
                  </a:lnTo>
                  <a:lnTo>
                    <a:pt x="1213678" y="0"/>
                  </a:lnTo>
                  <a:arcTo wR="65428" hR="65428" stAng="-5400000" swAng="5400000"/>
                  <a:lnTo>
                    <a:pt x="1279106" y="458789"/>
                  </a:lnTo>
                  <a:lnTo>
                    <a:pt x="0" y="458789"/>
                  </a:lnTo>
                  <a:lnTo>
                    <a:pt x="0" y="65428"/>
                  </a:lnTo>
                  <a:lnTo>
                    <a:pt x="0" y="65428"/>
                  </a:lnTo>
                  <a:arcTo wR="65428" hR="6542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84"/>
            <p:cNvSpPr/>
            <p:nvPr/>
          </p:nvSpPr>
          <p:spPr>
            <a:xfrm>
              <a:off x="641160" y="4838760"/>
              <a:ext cx="62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a:t>
              </a:r>
              <a:endParaRPr b="0" lang="en-US" sz="1200" spc="-1" strike="noStrike">
                <a:solidFill>
                  <a:srgbClr val="000000"/>
                </a:solidFill>
                <a:latin typeface="Arial"/>
              </a:endParaRPr>
            </a:p>
          </p:txBody>
        </p:sp>
        <p:sp>
          <p:nvSpPr>
            <p:cNvPr id="237" name="TextBox 85"/>
            <p:cNvSpPr/>
            <p:nvPr/>
          </p:nvSpPr>
          <p:spPr>
            <a:xfrm>
              <a:off x="613800" y="5177880"/>
              <a:ext cx="13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85"/>
            <p:cNvSpPr/>
            <p:nvPr/>
          </p:nvSpPr>
          <p:spPr>
            <a:xfrm>
              <a:off x="568440" y="5213880"/>
              <a:ext cx="14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ditType()</a:t>
              </a:r>
              <a:endParaRPr b="0" lang="en-US" sz="1200" spc="-1" strike="noStrike">
                <a:solidFill>
                  <a:srgbClr val="000000"/>
                </a:solidFill>
                <a:latin typeface="Arial"/>
              </a:endParaRPr>
            </a:p>
          </p:txBody>
        </p:sp>
      </p:grpSp>
      <p:grpSp>
        <p:nvGrpSpPr>
          <p:cNvPr id="239" name="Group 39"/>
          <p:cNvGrpSpPr/>
          <p:nvPr/>
        </p:nvGrpSpPr>
        <p:grpSpPr>
          <a:xfrm>
            <a:off x="4648320" y="3305160"/>
            <a:ext cx="1793880" cy="798120"/>
            <a:chOff x="4648320" y="3305160"/>
            <a:chExt cx="1793880" cy="798120"/>
          </a:xfrm>
        </p:grpSpPr>
        <p:sp>
          <p:nvSpPr>
            <p:cNvPr id="240" name="Round Same Side Corner Rectangle 52"/>
            <p:cNvSpPr/>
            <p:nvPr/>
          </p:nvSpPr>
          <p:spPr>
            <a:xfrm>
              <a:off x="4648320" y="3305160"/>
              <a:ext cx="1793880" cy="620640"/>
            </a:xfrm>
            <a:custGeom>
              <a:avLst/>
              <a:gdLst>
                <a:gd name="textAreaLeft" fmla="*/ 28800 w 1793880"/>
                <a:gd name="textAreaRight" fmla="*/ 1765080 w 1793880"/>
                <a:gd name="textAreaTop" fmla="*/ 28800 h 620640"/>
                <a:gd name="textAreaBottom" fmla="*/ 621000 h 620640"/>
              </a:gdLst>
              <a:ahLst/>
              <a:rect l="textAreaLeft" t="textAreaTop" r="textAreaRight" b="textAreaBottom"/>
              <a:pathLst>
                <a:path w="1503067" h="520756">
                  <a:moveTo>
                    <a:pt x="83368" y="0"/>
                  </a:moveTo>
                  <a:lnTo>
                    <a:pt x="1419699" y="0"/>
                  </a:lnTo>
                  <a:lnTo>
                    <a:pt x="1419699" y="0"/>
                  </a:lnTo>
                  <a:arcTo wR="83368" hR="83368" stAng="-5400000" swAng="5400000"/>
                  <a:lnTo>
                    <a:pt x="1503067"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ound Same Side Corner Rectangle 53"/>
            <p:cNvSpPr/>
            <p:nvPr/>
          </p:nvSpPr>
          <p:spPr>
            <a:xfrm flipV="1">
              <a:off x="4649760" y="3620160"/>
              <a:ext cx="1792440" cy="482760"/>
            </a:xfrm>
            <a:custGeom>
              <a:avLst/>
              <a:gdLst>
                <a:gd name="textAreaLeft" fmla="*/ 20160 w 1792440"/>
                <a:gd name="textAreaRight" fmla="*/ 1772280 w 1792440"/>
                <a:gd name="textAreaTop" fmla="*/ 19800 h 482760"/>
                <a:gd name="textAreaBottom" fmla="*/ 482760 h 482760"/>
              </a:gdLst>
              <a:ahLst/>
              <a:rect l="textAreaLeft" t="textAreaTop" r="textAreaRight" b="textAreaBottom"/>
              <a:pathLst>
                <a:path w="1501736" h="404884">
                  <a:moveTo>
                    <a:pt x="57741" y="0"/>
                  </a:moveTo>
                  <a:lnTo>
                    <a:pt x="1443995" y="0"/>
                  </a:lnTo>
                  <a:lnTo>
                    <a:pt x="1443995" y="0"/>
                  </a:lnTo>
                  <a:arcTo wR="57741" hR="57741" stAng="-5400000" swAng="5400000"/>
                  <a:lnTo>
                    <a:pt x="1501736"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4"/>
            <p:cNvSpPr/>
            <p:nvPr/>
          </p:nvSpPr>
          <p:spPr>
            <a:xfrm>
              <a:off x="4981680" y="3309840"/>
              <a:ext cx="808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Arial"/>
              </a:endParaRPr>
            </a:p>
          </p:txBody>
        </p:sp>
        <p:sp>
          <p:nvSpPr>
            <p:cNvPr id="243" name="TextBox 85"/>
            <p:cNvSpPr/>
            <p:nvPr/>
          </p:nvSpPr>
          <p:spPr>
            <a:xfrm>
              <a:off x="4776840" y="3665160"/>
              <a:ext cx="16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loyees()</a:t>
              </a:r>
              <a:endParaRPr b="0" lang="en-US" sz="1200" spc="-1" strike="noStrike">
                <a:solidFill>
                  <a:srgbClr val="000000"/>
                </a:solidFill>
                <a:latin typeface="Arial"/>
              </a:endParaRPr>
            </a:p>
          </p:txBody>
        </p:sp>
      </p:grpSp>
      <p:sp>
        <p:nvSpPr>
          <p:cNvPr id="244" name="Straight Connector 54"/>
          <p:cNvSpPr/>
          <p:nvPr/>
        </p:nvSpPr>
        <p:spPr>
          <a:xfrm>
            <a:off x="5638680" y="4562640"/>
            <a:ext cx="13636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5" name="Straight Arrow Connector 39"/>
          <p:cNvCxnSpPr/>
          <p:nvPr/>
        </p:nvCxnSpPr>
        <p:spPr>
          <a:xfrm flipH="1">
            <a:off x="6984360" y="4549320"/>
            <a:ext cx="3960" cy="244800"/>
          </a:xfrm>
          <a:prstGeom prst="straightConnector1">
            <a:avLst/>
          </a:prstGeom>
          <a:ln w="28440">
            <a:solidFill>
              <a:srgbClr val="ff0000"/>
            </a:solidFill>
            <a:miter/>
            <a:tailEnd len="med" type="triangle" w="med"/>
          </a:ln>
        </p:spPr>
      </p:cxnSp>
      <p:grpSp>
        <p:nvGrpSpPr>
          <p:cNvPr id="246" name="Group 30"/>
          <p:cNvGrpSpPr/>
          <p:nvPr/>
        </p:nvGrpSpPr>
        <p:grpSpPr>
          <a:xfrm>
            <a:off x="6370560" y="4838760"/>
            <a:ext cx="1324080" cy="784080"/>
            <a:chOff x="6370560" y="4838760"/>
            <a:chExt cx="1324080" cy="784080"/>
          </a:xfrm>
        </p:grpSpPr>
        <p:sp>
          <p:nvSpPr>
            <p:cNvPr id="247" name="Round Same Side Corner Rectangle 70"/>
            <p:cNvSpPr/>
            <p:nvPr/>
          </p:nvSpPr>
          <p:spPr>
            <a:xfrm>
              <a:off x="6376680" y="48481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ound Same Side Corner Rectangle 71"/>
            <p:cNvSpPr/>
            <p:nvPr/>
          </p:nvSpPr>
          <p:spPr>
            <a:xfrm flipV="1">
              <a:off x="6376680" y="51642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84"/>
            <p:cNvSpPr/>
            <p:nvPr/>
          </p:nvSpPr>
          <p:spPr>
            <a:xfrm>
              <a:off x="6584760" y="48387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50" name="TextBox 85"/>
            <p:cNvSpPr/>
            <p:nvPr/>
          </p:nvSpPr>
          <p:spPr>
            <a:xfrm>
              <a:off x="6370560" y="51793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Straight Connector 54"/>
          <p:cNvSpPr/>
          <p:nvPr/>
        </p:nvSpPr>
        <p:spPr>
          <a:xfrm flipV="1">
            <a:off x="5622840" y="4135320"/>
            <a:ext cx="0" cy="4240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Elbow Connector 58"/>
          <p:cNvCxnSpPr>
            <a:stCxn id="253" idx="3"/>
            <a:endCxn id="234" idx="3"/>
          </p:cNvCxnSpPr>
          <p:nvPr/>
        </p:nvCxnSpPr>
        <p:spPr>
          <a:xfrm rot="5400000">
            <a:off x="1713600" y="3647880"/>
            <a:ext cx="745200" cy="1656360"/>
          </a:xfrm>
          <a:prstGeom prst="bentConnector3">
            <a:avLst>
              <a:gd name="adj1" fmla="val 49975"/>
            </a:avLst>
          </a:prstGeom>
          <a:ln w="28440">
            <a:solidFill>
              <a:srgbClr val="c0504d"/>
            </a:solidFill>
            <a:round/>
            <a:tailEnd len="med" type="triangle" w="med"/>
          </a:ln>
        </p:spPr>
      </p:cxnSp>
      <p:cxnSp>
        <p:nvCxnSpPr>
          <p:cNvPr id="254" name="Elbow Connector 62"/>
          <p:cNvCxnSpPr>
            <a:stCxn id="253" idx="3"/>
            <a:endCxn id="220" idx="0"/>
          </p:cNvCxnSpPr>
          <p:nvPr/>
        </p:nvCxnSpPr>
        <p:spPr>
          <a:xfrm flipH="1" rot="16200000">
            <a:off x="3394800" y="3620880"/>
            <a:ext cx="735840" cy="1701000"/>
          </a:xfrm>
          <a:prstGeom prst="bentConnector3">
            <a:avLst>
              <a:gd name="adj1" fmla="val 49975"/>
            </a:avLst>
          </a:prstGeom>
          <a:ln w="28440">
            <a:solidFill>
              <a:srgbClr val="c0504d"/>
            </a:solidFill>
            <a:round/>
            <a:tailEnd len="med" type="triangle" w="med"/>
          </a:ln>
        </p:spPr>
      </p:cxnSp>
      <p:cxnSp>
        <p:nvCxnSpPr>
          <p:cNvPr id="255" name="Elbow Connector 55"/>
          <p:cNvCxnSpPr>
            <a:stCxn id="214" idx="3"/>
            <a:endCxn id="256" idx="3"/>
          </p:cNvCxnSpPr>
          <p:nvPr/>
        </p:nvCxnSpPr>
        <p:spPr>
          <a:xfrm rot="5400000">
            <a:off x="3525840" y="2204280"/>
            <a:ext cx="489600" cy="1713600"/>
          </a:xfrm>
          <a:prstGeom prst="bentConnector3">
            <a:avLst>
              <a:gd name="adj1" fmla="val 49963"/>
            </a:avLst>
          </a:prstGeom>
          <a:ln w="28440">
            <a:solidFill>
              <a:srgbClr val="c0504d"/>
            </a:solidFill>
            <a:round/>
            <a:tailEnd len="med" type="triangle" w="med"/>
          </a:ln>
        </p:spPr>
      </p:cxnSp>
      <p:cxnSp>
        <p:nvCxnSpPr>
          <p:cNvPr id="257" name="Elbow Connector 57"/>
          <p:cNvCxnSpPr>
            <a:stCxn id="214" idx="3"/>
            <a:endCxn id="240" idx="3"/>
          </p:cNvCxnSpPr>
          <p:nvPr/>
        </p:nvCxnSpPr>
        <p:spPr>
          <a:xfrm flipH="1" rot="16200000">
            <a:off x="4840920" y="2601720"/>
            <a:ext cx="489600" cy="918360"/>
          </a:xfrm>
          <a:prstGeom prst="bentConnector3">
            <a:avLst>
              <a:gd name="adj1" fmla="val 49963"/>
            </a:avLst>
          </a:prstGeom>
          <a:ln w="28440">
            <a:solidFill>
              <a:srgbClr val="c0504d"/>
            </a:solidFill>
            <a:round/>
            <a:tailEnd len="med" type="triangle" w="med"/>
          </a:ln>
        </p:spPr>
      </p:cxnSp>
      <p:cxnSp>
        <p:nvCxnSpPr>
          <p:cNvPr id="258" name="Straight Arrow Connector 59"/>
          <p:cNvCxnSpPr/>
          <p:nvPr/>
        </p:nvCxnSpPr>
        <p:spPr>
          <a:xfrm flipH="1">
            <a:off x="2913840" y="4080960"/>
            <a:ext cx="2520" cy="748440"/>
          </a:xfrm>
          <a:prstGeom prst="straightConnector1">
            <a:avLst/>
          </a:prstGeom>
          <a:ln w="28440">
            <a:solidFill>
              <a:srgbClr val="c0504d"/>
            </a:solidFill>
            <a:miter/>
            <a:tailEnd len="med" type="triangle" w="med"/>
          </a:ln>
        </p:spPr>
      </p:cxnSp>
      <p:grpSp>
        <p:nvGrpSpPr>
          <p:cNvPr id="259" name="Group 28"/>
          <p:cNvGrpSpPr/>
          <p:nvPr/>
        </p:nvGrpSpPr>
        <p:grpSpPr>
          <a:xfrm>
            <a:off x="2090880" y="3305160"/>
            <a:ext cx="1645920" cy="798120"/>
            <a:chOff x="2090880" y="3305160"/>
            <a:chExt cx="1645920" cy="798120"/>
          </a:xfrm>
        </p:grpSpPr>
        <p:sp>
          <p:nvSpPr>
            <p:cNvPr id="256" name="Round Same Side Corner Rectangle 82"/>
            <p:cNvSpPr/>
            <p:nvPr/>
          </p:nvSpPr>
          <p:spPr>
            <a:xfrm>
              <a:off x="2090880" y="3305160"/>
              <a:ext cx="1645920" cy="620640"/>
            </a:xfrm>
            <a:custGeom>
              <a:avLst/>
              <a:gdLst>
                <a:gd name="textAreaLeft" fmla="*/ 28800 w 1645920"/>
                <a:gd name="textAreaRight" fmla="*/ 1617120 w 1645920"/>
                <a:gd name="textAreaTop" fmla="*/ 28800 h 620640"/>
                <a:gd name="textAreaBottom" fmla="*/ 621000 h 620640"/>
              </a:gdLst>
              <a:ahLst/>
              <a:rect l="textAreaLeft" t="textAreaTop" r="textAreaRight" b="textAreaBottom"/>
              <a:pathLst>
                <a:path w="1379521" h="520756">
                  <a:moveTo>
                    <a:pt x="83368" y="0"/>
                  </a:moveTo>
                  <a:lnTo>
                    <a:pt x="1296153" y="0"/>
                  </a:lnTo>
                  <a:lnTo>
                    <a:pt x="1296153" y="0"/>
                  </a:lnTo>
                  <a:arcTo wR="83368" hR="83368" stAng="-5400000" swAng="5400000"/>
                  <a:lnTo>
                    <a:pt x="1379521"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ound Same Side Corner Rectangle 83"/>
            <p:cNvSpPr/>
            <p:nvPr/>
          </p:nvSpPr>
          <p:spPr>
            <a:xfrm flipV="1">
              <a:off x="2090880" y="3620160"/>
              <a:ext cx="1645920" cy="482760"/>
            </a:xfrm>
            <a:custGeom>
              <a:avLst/>
              <a:gdLst>
                <a:gd name="textAreaLeft" fmla="*/ 20160 w 1645920"/>
                <a:gd name="textAreaRight" fmla="*/ 1625760 w 1645920"/>
                <a:gd name="textAreaTop" fmla="*/ 19800 h 482760"/>
                <a:gd name="textAreaBottom" fmla="*/ 482760 h 482760"/>
              </a:gdLst>
              <a:ahLst/>
              <a:rect l="textAreaLeft" t="textAreaTop" r="textAreaRight" b="textAreaBottom"/>
              <a:pathLst>
                <a:path w="1379521" h="404884">
                  <a:moveTo>
                    <a:pt x="57741" y="0"/>
                  </a:moveTo>
                  <a:lnTo>
                    <a:pt x="1321780" y="0"/>
                  </a:lnTo>
                  <a:lnTo>
                    <a:pt x="1321780" y="0"/>
                  </a:lnTo>
                  <a:arcTo wR="57741" hR="57741" stAng="-5400000" swAng="5400000"/>
                  <a:lnTo>
                    <a:pt x="1379521"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84"/>
            <p:cNvSpPr/>
            <p:nvPr/>
          </p:nvSpPr>
          <p:spPr>
            <a:xfrm>
              <a:off x="2141640" y="3309840"/>
              <a:ext cx="1396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lledEmployee</a:t>
              </a:r>
              <a:endParaRPr b="0" lang="en-US" sz="1200" spc="-1" strike="noStrike">
                <a:solidFill>
                  <a:srgbClr val="000000"/>
                </a:solidFill>
                <a:latin typeface="Arial"/>
              </a:endParaRPr>
            </a:p>
          </p:txBody>
        </p:sp>
        <p:sp>
          <p:nvSpPr>
            <p:cNvPr id="261" name="TextBox 85"/>
            <p:cNvSpPr/>
            <p:nvPr/>
          </p:nvSpPr>
          <p:spPr>
            <a:xfrm>
              <a:off x="2218320" y="3665160"/>
              <a:ext cx="132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kill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6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perclass Reference Types</a:t>
            </a:r>
            <a:endParaRPr b="0" lang="en-US" sz="4400" spc="-1" strike="noStrike">
              <a:solidFill>
                <a:srgbClr val="000000"/>
              </a:solidFill>
              <a:latin typeface="Calibri"/>
            </a:endParaRPr>
          </a:p>
        </p:txBody>
      </p:sp>
      <p:sp>
        <p:nvSpPr>
          <p:cNvPr id="265" name=""/>
          <p:cNvSpPr txBox="1"/>
          <p:nvPr/>
        </p:nvSpPr>
        <p:spPr>
          <a:xfrm>
            <a:off x="609480" y="1447920"/>
            <a:ext cx="7918560" cy="2869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So far you have seen the class used as the reference type for the created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use the Shirt class as the reference type for the Shirt object:</a:t>
            </a:r>
            <a:br>
              <a:rPr sz="2200"/>
            </a:br>
            <a:r>
              <a:rPr b="0" lang="en-US" sz="2200" spc="-1" strike="noStrike">
                <a:solidFill>
                  <a:srgbClr val="000000"/>
                </a:solidFill>
                <a:latin typeface="Courier New"/>
                <a:ea typeface="ＭＳ Ｐゴシック"/>
              </a:rPr>
              <a:t>Shirt myShirt = new Shir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But you can also use the superclass as the reference:</a:t>
            </a:r>
            <a:br>
              <a:rPr sz="2200"/>
            </a:br>
            <a:r>
              <a:rPr b="0" lang="en-US" sz="2200" spc="-1" strike="noStrike">
                <a:solidFill>
                  <a:srgbClr val="000000"/>
                </a:solidFill>
                <a:latin typeface="Courier New"/>
                <a:ea typeface="ＭＳ Ｐゴシック"/>
              </a:rPr>
              <a:t>Clothing clothingItem1 = new Shirt();</a:t>
            </a:r>
            <a:br>
              <a:rPr sz="2200"/>
            </a:br>
            <a:r>
              <a:rPr b="0" lang="en-US" sz="2200" spc="-1" strike="noStrike">
                <a:solidFill>
                  <a:srgbClr val="000000"/>
                </a:solidFill>
                <a:latin typeface="Courier New"/>
                <a:ea typeface="ＭＳ Ｐゴシック"/>
              </a:rPr>
              <a:t>Clothing clothingItem2 = new Trouse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ccess to Object Functionality</a:t>
            </a:r>
            <a:endParaRPr b="0" lang="en-US" sz="4400" spc="-1" strike="noStrike">
              <a:solidFill>
                <a:srgbClr val="000000"/>
              </a:solidFill>
              <a:latin typeface="Calibri"/>
            </a:endParaRPr>
          </a:p>
        </p:txBody>
      </p:sp>
      <p:pic>
        <p:nvPicPr>
          <p:cNvPr id="267" name="Content Placeholder 52" descr="videoRecorder.gif"/>
          <p:cNvPicPr/>
          <p:nvPr/>
        </p:nvPicPr>
        <p:blipFill>
          <a:blip r:embed="rId1"/>
          <a:stretch/>
        </p:blipFill>
        <p:spPr>
          <a:xfrm>
            <a:off x="735120" y="1922400"/>
            <a:ext cx="1082520" cy="892080"/>
          </a:xfrm>
          <a:prstGeom prst="rect">
            <a:avLst/>
          </a:prstGeom>
          <a:ln w="0">
            <a:noFill/>
          </a:ln>
        </p:spPr>
      </p:pic>
      <p:sp>
        <p:nvSpPr>
          <p:cNvPr id="268" name="Arc 21"/>
          <p:cNvSpPr/>
          <p:nvPr/>
        </p:nvSpPr>
        <p:spPr>
          <a:xfrm flipH="1" rot="849600">
            <a:off x="2260440" y="3808440"/>
            <a:ext cx="519120" cy="358920"/>
          </a:xfrm>
          <a:custGeom>
            <a:avLst/>
            <a:gdLst>
              <a:gd name="textAreaLeft" fmla="*/ 259560 w 519120"/>
              <a:gd name="textAreaRight" fmla="*/ 519480 w 519120"/>
              <a:gd name="textAreaTop" fmla="*/ 0 h 358920"/>
              <a:gd name="textAreaBottom" fmla="*/ 179640 h 35892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rc 22"/>
          <p:cNvSpPr/>
          <p:nvPr/>
        </p:nvSpPr>
        <p:spPr>
          <a:xfrm flipH="1" rot="849600">
            <a:off x="1984320" y="3538080"/>
            <a:ext cx="689040" cy="477720"/>
          </a:xfrm>
          <a:custGeom>
            <a:avLst/>
            <a:gdLst>
              <a:gd name="textAreaLeft" fmla="*/ 344520 w 689040"/>
              <a:gd name="textAreaRight" fmla="*/ 689400 w 689040"/>
              <a:gd name="textAreaTop" fmla="*/ 0 h 477720"/>
              <a:gd name="textAreaBottom" fmla="*/ 239040 h 47772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23"/>
          <p:cNvSpPr/>
          <p:nvPr/>
        </p:nvSpPr>
        <p:spPr>
          <a:xfrm flipH="1" rot="849600">
            <a:off x="1690560" y="323496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eft Brace 25"/>
          <p:cNvSpPr/>
          <p:nvPr/>
        </p:nvSpPr>
        <p:spPr>
          <a:xfrm>
            <a:off x="4129200" y="170028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TextBox 26"/>
          <p:cNvSpPr/>
          <p:nvPr/>
        </p:nvSpPr>
        <p:spPr>
          <a:xfrm>
            <a:off x="4518720" y="1886040"/>
            <a:ext cx="123516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3" name="Right Arrow 27"/>
          <p:cNvSpPr/>
          <p:nvPr/>
        </p:nvSpPr>
        <p:spPr>
          <a:xfrm>
            <a:off x="4595760" y="4538520"/>
            <a:ext cx="1119240" cy="433440"/>
          </a:xfrm>
          <a:prstGeom prst="rightArrow">
            <a:avLst>
              <a:gd name="adj1" fmla="val 50000"/>
              <a:gd name="adj2" fmla="val 49995"/>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Left Brace 28"/>
          <p:cNvSpPr/>
          <p:nvPr/>
        </p:nvSpPr>
        <p:spPr>
          <a:xfrm>
            <a:off x="5924520" y="409572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TextBox 29"/>
          <p:cNvSpPr/>
          <p:nvPr/>
        </p:nvSpPr>
        <p:spPr>
          <a:xfrm>
            <a:off x="6313320" y="4281480"/>
            <a:ext cx="12096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6" name="Right Arrow 30"/>
          <p:cNvSpPr/>
          <p:nvPr/>
        </p:nvSpPr>
        <p:spPr>
          <a:xfrm>
            <a:off x="2733840" y="2133720"/>
            <a:ext cx="1118880" cy="433440"/>
          </a:xfrm>
          <a:prstGeom prst="rightArrow">
            <a:avLst>
              <a:gd name="adj1" fmla="val 50000"/>
              <a:gd name="adj2" fmla="val 49979"/>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277" name="Picture 26" descr="elect017.gif"/>
          <p:cNvPicPr/>
          <p:nvPr/>
        </p:nvPicPr>
        <p:blipFill>
          <a:blip r:embed="rId2"/>
          <a:stretch/>
        </p:blipFill>
        <p:spPr>
          <a:xfrm rot="20040000">
            <a:off x="2781360" y="4119480"/>
            <a:ext cx="457200" cy="136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ing Class Methods from Superclass</a:t>
            </a:r>
            <a:endParaRPr b="0" lang="en-US" sz="4000" spc="-1" strike="noStrike">
              <a:solidFill>
                <a:srgbClr val="000000"/>
              </a:solidFill>
              <a:latin typeface="Calibri"/>
            </a:endParaRPr>
          </a:p>
        </p:txBody>
      </p:sp>
      <p:grpSp>
        <p:nvGrpSpPr>
          <p:cNvPr id="279" name="Group 25"/>
          <p:cNvGrpSpPr/>
          <p:nvPr/>
        </p:nvGrpSpPr>
        <p:grpSpPr>
          <a:xfrm>
            <a:off x="754200" y="1523880"/>
            <a:ext cx="7864200" cy="2831760"/>
            <a:chOff x="754200" y="1523880"/>
            <a:chExt cx="7864200" cy="2831760"/>
          </a:xfrm>
        </p:grpSpPr>
        <p:sp>
          <p:nvSpPr>
            <p:cNvPr id="280" name="Round Same Side Corner Rectangle 11"/>
            <p:cNvSpPr/>
            <p:nvPr/>
          </p:nvSpPr>
          <p:spPr>
            <a:xfrm>
              <a:off x="5130720" y="2144520"/>
              <a:ext cx="1098360" cy="581040"/>
            </a:xfrm>
            <a:custGeom>
              <a:avLst/>
              <a:gdLst>
                <a:gd name="textAreaLeft" fmla="*/ 27000 w 1098360"/>
                <a:gd name="textAreaRight" fmla="*/ 1071360 w 1098360"/>
                <a:gd name="textAreaTop" fmla="*/ 27000 h 581040"/>
                <a:gd name="textAreaBottom" fmla="*/ 581400 h 581040"/>
              </a:gdLst>
              <a:ahLst/>
              <a:rect l="textAreaLeft" t="textAreaTop" r="textAreaRight" b="textAreaBottom"/>
              <a:pathLst>
                <a:path w="984127" h="520447">
                  <a:moveTo>
                    <a:pt x="83318" y="0"/>
                  </a:moveTo>
                  <a:lnTo>
                    <a:pt x="900809" y="0"/>
                  </a:lnTo>
                  <a:lnTo>
                    <a:pt x="900809" y="0"/>
                  </a:lnTo>
                  <a:arcTo wR="83318" hR="83318" stAng="-5400000" swAng="5400000"/>
                  <a:lnTo>
                    <a:pt x="984127" y="520447"/>
                  </a:lnTo>
                  <a:lnTo>
                    <a:pt x="0" y="520447"/>
                  </a:lnTo>
                  <a:lnTo>
                    <a:pt x="0" y="83318"/>
                  </a:lnTo>
                  <a:lnTo>
                    <a:pt x="0" y="83318"/>
                  </a:lnTo>
                  <a:arcTo wR="83318" hR="8331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 Same Side Corner Rectangle 12"/>
            <p:cNvSpPr/>
            <p:nvPr/>
          </p:nvSpPr>
          <p:spPr>
            <a:xfrm flipV="1">
              <a:off x="5130720" y="2439000"/>
              <a:ext cx="1098360" cy="1916280"/>
            </a:xfrm>
            <a:custGeom>
              <a:avLst/>
              <a:gdLst>
                <a:gd name="textAreaLeft" fmla="*/ 45720 w 1098360"/>
                <a:gd name="textAreaRight" fmla="*/ 1052640 w 1098360"/>
                <a:gd name="textAreaTop" fmla="*/ 45720 h 1916280"/>
                <a:gd name="textAreaBottom" fmla="*/ 1916640 h 1916280"/>
              </a:gdLst>
              <a:ahLst/>
              <a:rect l="textAreaLeft" t="textAreaTop" r="textAreaRight" b="textAreaBottom"/>
              <a:pathLst>
                <a:path w="984127" h="1716338">
                  <a:moveTo>
                    <a:pt x="140346" y="0"/>
                  </a:moveTo>
                  <a:lnTo>
                    <a:pt x="843781" y="0"/>
                  </a:lnTo>
                  <a:lnTo>
                    <a:pt x="843781" y="0"/>
                  </a:lnTo>
                  <a:arcTo wR="140346" hR="140346" stAng="-5400000" swAng="5400000"/>
                  <a:lnTo>
                    <a:pt x="984127" y="1716338"/>
                  </a:lnTo>
                  <a:lnTo>
                    <a:pt x="0" y="1716338"/>
                  </a:lnTo>
                  <a:lnTo>
                    <a:pt x="0" y="140346"/>
                  </a:lnTo>
                  <a:lnTo>
                    <a:pt x="0" y="140346"/>
                  </a:lnTo>
                  <a:arcTo wR="140346" hR="14034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84"/>
            <p:cNvSpPr/>
            <p:nvPr/>
          </p:nvSpPr>
          <p:spPr>
            <a:xfrm>
              <a:off x="5247000" y="21351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283" name="TextBox 85"/>
            <p:cNvSpPr/>
            <p:nvPr/>
          </p:nvSpPr>
          <p:spPr>
            <a:xfrm>
              <a:off x="5109480" y="3730320"/>
              <a:ext cx="126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284" name="Group 31"/>
            <p:cNvGrpSpPr/>
            <p:nvPr/>
          </p:nvGrpSpPr>
          <p:grpSpPr>
            <a:xfrm>
              <a:off x="2439360" y="2179440"/>
              <a:ext cx="1223280" cy="1455840"/>
              <a:chOff x="2439360" y="2179440"/>
              <a:chExt cx="1223280" cy="1455840"/>
            </a:xfrm>
          </p:grpSpPr>
          <p:sp>
            <p:nvSpPr>
              <p:cNvPr id="285" name="Round Same Side Corner Rectangle 21"/>
              <p:cNvSpPr/>
              <p:nvPr/>
            </p:nvSpPr>
            <p:spPr>
              <a:xfrm>
                <a:off x="2439360" y="2188800"/>
                <a:ext cx="1103760" cy="581040"/>
              </a:xfrm>
              <a:custGeom>
                <a:avLst/>
                <a:gdLst>
                  <a:gd name="textAreaLeft" fmla="*/ 27000 w 1103760"/>
                  <a:gd name="textAreaRight" fmla="*/ 1076760 w 1103760"/>
                  <a:gd name="textAreaTop" fmla="*/ 27000 h 581040"/>
                  <a:gd name="textAreaBottom" fmla="*/ 581400 h 581040"/>
                </a:gdLst>
                <a:ahLst/>
                <a:rect l="textAreaLeft" t="textAreaTop" r="textAreaRight" b="textAreaBottom"/>
                <a:pathLst>
                  <a:path w="989640" h="520319">
                    <a:moveTo>
                      <a:pt x="83298" y="0"/>
                    </a:moveTo>
                    <a:lnTo>
                      <a:pt x="906342" y="0"/>
                    </a:lnTo>
                    <a:lnTo>
                      <a:pt x="906342" y="0"/>
                    </a:lnTo>
                    <a:arcTo wR="83298" hR="83298" stAng="-5400000" swAng="5400000"/>
                    <a:lnTo>
                      <a:pt x="989640" y="520319"/>
                    </a:lnTo>
                    <a:lnTo>
                      <a:pt x="0" y="520319"/>
                    </a:lnTo>
                    <a:lnTo>
                      <a:pt x="0" y="83298"/>
                    </a:lnTo>
                    <a:lnTo>
                      <a:pt x="0" y="83298"/>
                    </a:lnTo>
                    <a:arcTo wR="83298" hR="8329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ound Same Side Corner Rectangle 22"/>
              <p:cNvSpPr/>
              <p:nvPr/>
            </p:nvSpPr>
            <p:spPr>
              <a:xfrm flipV="1">
                <a:off x="2439360" y="2484000"/>
                <a:ext cx="1103760" cy="1146240"/>
              </a:xfrm>
              <a:custGeom>
                <a:avLst/>
                <a:gdLst>
                  <a:gd name="textAreaLeft" fmla="*/ 46080 w 1103760"/>
                  <a:gd name="textAreaRight" fmla="*/ 1057680 w 1103760"/>
                  <a:gd name="textAreaTop" fmla="*/ 46440 h 1146240"/>
                  <a:gd name="textAreaBottom" fmla="*/ 1146960 h 1146240"/>
                </a:gdLst>
                <a:ahLst/>
                <a:rect l="textAreaLeft" t="textAreaTop" r="textAreaRight" b="textAreaBottom"/>
                <a:pathLst>
                  <a:path w="989640" h="1026423">
                    <a:moveTo>
                      <a:pt x="141133" y="0"/>
                    </a:moveTo>
                    <a:lnTo>
                      <a:pt x="848507" y="0"/>
                    </a:lnTo>
                    <a:lnTo>
                      <a:pt x="848507" y="0"/>
                    </a:lnTo>
                    <a:arcTo wR="141133" hR="141133" stAng="-5400000" swAng="5400000"/>
                    <a:lnTo>
                      <a:pt x="989640" y="1026423"/>
                    </a:lnTo>
                    <a:lnTo>
                      <a:pt x="0" y="1026423"/>
                    </a:lnTo>
                    <a:lnTo>
                      <a:pt x="0" y="141133"/>
                    </a:lnTo>
                    <a:lnTo>
                      <a:pt x="0" y="141133"/>
                    </a:lnTo>
                    <a:arcTo wR="141133" hR="14113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84"/>
              <p:cNvSpPr/>
              <p:nvPr/>
            </p:nvSpPr>
            <p:spPr>
              <a:xfrm>
                <a:off x="2514240" y="2179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288" name="TextBox 85"/>
              <p:cNvSpPr/>
              <p:nvPr/>
            </p:nvSpPr>
            <p:spPr>
              <a:xfrm>
                <a:off x="2451600" y="2476080"/>
                <a:ext cx="121104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289" name="TextBox 85"/>
            <p:cNvSpPr/>
            <p:nvPr/>
          </p:nvSpPr>
          <p:spPr>
            <a:xfrm>
              <a:off x="5107680" y="2502000"/>
              <a:ext cx="12517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290" name="Right Brace 30"/>
            <p:cNvSpPr/>
            <p:nvPr/>
          </p:nvSpPr>
          <p:spPr>
            <a:xfrm>
              <a:off x="6391080" y="2551680"/>
              <a:ext cx="251280" cy="951840"/>
            </a:xfrm>
            <a:custGeom>
              <a:avLst/>
              <a:gdLst>
                <a:gd name="textAreaLeft" fmla="*/ 0 w 251280"/>
                <a:gd name="textAreaRight" fmla="*/ 90720 w 251280"/>
                <a:gd name="textAreaTop" fmla="*/ 27720 h 951840"/>
                <a:gd name="textAreaBottom" fmla="*/ 924120 h 9518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1" name="TextBox 31"/>
            <p:cNvSpPr/>
            <p:nvPr/>
          </p:nvSpPr>
          <p:spPr>
            <a:xfrm>
              <a:off x="6763320" y="278748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292" name="TextBox 32"/>
            <p:cNvSpPr/>
            <p:nvPr/>
          </p:nvSpPr>
          <p:spPr>
            <a:xfrm>
              <a:off x="6763320" y="368100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293" name="Right Brace 33"/>
            <p:cNvSpPr/>
            <p:nvPr/>
          </p:nvSpPr>
          <p:spPr>
            <a:xfrm>
              <a:off x="6398280" y="3700440"/>
              <a:ext cx="251280" cy="515520"/>
            </a:xfrm>
            <a:custGeom>
              <a:avLst/>
              <a:gdLst>
                <a:gd name="textAreaLeft" fmla="*/ 0 w 251280"/>
                <a:gd name="textAreaRight" fmla="*/ 90720 w 251280"/>
                <a:gd name="textAreaTop" fmla="*/ 30240 h 515520"/>
                <a:gd name="textAreaBottom" fmla="*/ 485280 h 51552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TextBox 34"/>
            <p:cNvSpPr/>
            <p:nvPr/>
          </p:nvSpPr>
          <p:spPr>
            <a:xfrm>
              <a:off x="2418480" y="1523880"/>
              <a:ext cx="113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295" name="TextBox 35"/>
            <p:cNvSpPr/>
            <p:nvPr/>
          </p:nvSpPr>
          <p:spPr>
            <a:xfrm>
              <a:off x="5261040" y="16315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296" name="Straight Arrow Connector 37"/>
            <p:cNvCxnSpPr/>
            <p:nvPr/>
          </p:nvCxnSpPr>
          <p:spPr>
            <a:xfrm>
              <a:off x="3440520" y="2637000"/>
              <a:ext cx="1565280" cy="2160"/>
            </a:xfrm>
            <a:prstGeom prst="straightConnector1">
              <a:avLst/>
            </a:prstGeom>
            <a:ln w="28440">
              <a:solidFill>
                <a:srgbClr val="000000"/>
              </a:solidFill>
              <a:prstDash val="dash"/>
              <a:miter/>
              <a:tailEnd len="med" type="triangle" w="med"/>
            </a:ln>
          </p:spPr>
        </p:cxnSp>
        <p:cxnSp>
          <p:nvCxnSpPr>
            <p:cNvPr id="297" name="Straight Arrow Connector 38"/>
            <p:cNvCxnSpPr/>
            <p:nvPr/>
          </p:nvCxnSpPr>
          <p:spPr>
            <a:xfrm>
              <a:off x="3441960" y="2847600"/>
              <a:ext cx="1567080" cy="2160"/>
            </a:xfrm>
            <a:prstGeom prst="straightConnector1">
              <a:avLst/>
            </a:prstGeom>
            <a:ln w="28440">
              <a:solidFill>
                <a:srgbClr val="000000"/>
              </a:solidFill>
              <a:prstDash val="dash"/>
              <a:miter/>
              <a:tailEnd len="med" type="triangle" w="med"/>
            </a:ln>
          </p:spPr>
        </p:cxnSp>
        <p:cxnSp>
          <p:nvCxnSpPr>
            <p:cNvPr id="298" name="Straight Arrow Connector 39"/>
            <p:cNvCxnSpPr/>
            <p:nvPr/>
          </p:nvCxnSpPr>
          <p:spPr>
            <a:xfrm>
              <a:off x="3441960" y="3072960"/>
              <a:ext cx="1567080" cy="2160"/>
            </a:xfrm>
            <a:prstGeom prst="straightConnector1">
              <a:avLst/>
            </a:prstGeom>
            <a:ln w="28440">
              <a:solidFill>
                <a:srgbClr val="000000"/>
              </a:solidFill>
              <a:prstDash val="dash"/>
              <a:miter/>
              <a:tailEnd len="med" type="triangle" w="med"/>
            </a:ln>
          </p:spPr>
        </p:cxnSp>
        <p:cxnSp>
          <p:nvCxnSpPr>
            <p:cNvPr id="299" name="Straight Arrow Connector 40"/>
            <p:cNvCxnSpPr/>
            <p:nvPr/>
          </p:nvCxnSpPr>
          <p:spPr>
            <a:xfrm>
              <a:off x="3443760" y="3283920"/>
              <a:ext cx="1567080" cy="2160"/>
            </a:xfrm>
            <a:prstGeom prst="straightConnector1">
              <a:avLst/>
            </a:prstGeom>
            <a:ln w="28440">
              <a:solidFill>
                <a:srgbClr val="000000"/>
              </a:solidFill>
              <a:prstDash val="dash"/>
              <a:miter/>
              <a:tailEnd len="med" type="triangle" w="med"/>
            </a:ln>
          </p:spPr>
        </p:cxnSp>
        <p:cxnSp>
          <p:nvCxnSpPr>
            <p:cNvPr id="300" name="Straight Arrow Connector 41"/>
            <p:cNvCxnSpPr/>
            <p:nvPr/>
          </p:nvCxnSpPr>
          <p:spPr>
            <a:xfrm>
              <a:off x="3432960" y="3468240"/>
              <a:ext cx="1567080" cy="2160"/>
            </a:xfrm>
            <a:prstGeom prst="straightConnector1">
              <a:avLst/>
            </a:prstGeom>
            <a:ln w="28440">
              <a:solidFill>
                <a:srgbClr val="000000"/>
              </a:solidFill>
              <a:prstDash val="dash"/>
              <a:miter/>
              <a:tailEnd len="med" type="triangle" w="med"/>
            </a:ln>
          </p:spPr>
        </p:cxnSp>
        <p:sp>
          <p:nvSpPr>
            <p:cNvPr id="301" name="Right Brace 42"/>
            <p:cNvSpPr/>
            <p:nvPr/>
          </p:nvSpPr>
          <p:spPr>
            <a:xfrm flipH="1">
              <a:off x="2044080" y="2555280"/>
              <a:ext cx="251280" cy="950040"/>
            </a:xfrm>
            <a:custGeom>
              <a:avLst/>
              <a:gdLst>
                <a:gd name="textAreaLeft" fmla="*/ 0 w 251280"/>
                <a:gd name="textAreaRight" fmla="*/ 90720 w 251280"/>
                <a:gd name="textAreaTop" fmla="*/ 27720 h 950040"/>
                <a:gd name="textAreaBottom" fmla="*/ 922320 h 9500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TextBox 43"/>
            <p:cNvSpPr/>
            <p:nvPr/>
          </p:nvSpPr>
          <p:spPr>
            <a:xfrm>
              <a:off x="754200" y="2665080"/>
              <a:ext cx="13057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may </a:t>
              </a:r>
              <a:br>
                <a:rPr sz="1200"/>
              </a:br>
              <a:r>
                <a:rPr b="0" lang="en-US" sz="1200" spc="-1" strike="noStrike">
                  <a:solidFill>
                    <a:srgbClr val="000000"/>
                  </a:solidFill>
                  <a:latin typeface="Arial"/>
                </a:rPr>
                <a:t>be calle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sting the Reference Type</a:t>
            </a:r>
            <a:endParaRPr b="0" lang="en-US" sz="4400" spc="-1" strike="noStrike">
              <a:solidFill>
                <a:srgbClr val="000000"/>
              </a:solidFill>
              <a:latin typeface="Calibri"/>
            </a:endParaRPr>
          </a:p>
        </p:txBody>
      </p:sp>
      <p:sp>
        <p:nvSpPr>
          <p:cNvPr id="304" name="Round Same Side Corner Rectangle 11"/>
          <p:cNvSpPr/>
          <p:nvPr/>
        </p:nvSpPr>
        <p:spPr>
          <a:xfrm>
            <a:off x="5433840" y="4156200"/>
            <a:ext cx="1111320" cy="520560"/>
          </a:xfrm>
          <a:custGeom>
            <a:avLst/>
            <a:gdLst>
              <a:gd name="textAreaLeft" fmla="*/ 24120 w 1111320"/>
              <a:gd name="textAreaRight" fmla="*/ 1087200 w 1111320"/>
              <a:gd name="textAreaTop" fmla="*/ 24120 h 520560"/>
              <a:gd name="textAreaBottom" fmla="*/ 520920 h 520560"/>
            </a:gdLst>
            <a:ahLst/>
            <a:rect l="textAreaLeft" t="textAreaTop" r="textAreaRight" b="textAreaBottom"/>
            <a:pathLst>
              <a:path w="1111250" h="520700">
                <a:moveTo>
                  <a:pt x="83359" y="0"/>
                </a:moveTo>
                <a:lnTo>
                  <a:pt x="1027891" y="0"/>
                </a:lnTo>
                <a:lnTo>
                  <a:pt x="1027891" y="0"/>
                </a:lnTo>
                <a:arcTo wR="83359" hR="83359" stAng="-5400000" swAng="5400000"/>
                <a:lnTo>
                  <a:pt x="1111250"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ound Same Side Corner Rectangle 12"/>
          <p:cNvSpPr/>
          <p:nvPr/>
        </p:nvSpPr>
        <p:spPr>
          <a:xfrm flipV="1">
            <a:off x="5433840" y="4420440"/>
            <a:ext cx="1111320" cy="1716120"/>
          </a:xfrm>
          <a:custGeom>
            <a:avLst/>
            <a:gdLst>
              <a:gd name="textAreaLeft" fmla="*/ 46080 w 1111320"/>
              <a:gd name="textAreaRight" fmla="*/ 1065240 w 1111320"/>
              <a:gd name="textAreaTop" fmla="*/ 45720 h 1716120"/>
              <a:gd name="textAreaBottom" fmla="*/ 1716120 h 1716120"/>
            </a:gdLst>
            <a:ahLst/>
            <a:rect l="textAreaLeft" t="textAreaTop" r="textAreaRight" b="textAreaBottom"/>
            <a:pathLst>
              <a:path w="1111250" h="1716087">
                <a:moveTo>
                  <a:pt x="158475" y="0"/>
                </a:moveTo>
                <a:lnTo>
                  <a:pt x="952775" y="0"/>
                </a:lnTo>
                <a:lnTo>
                  <a:pt x="952775" y="0"/>
                </a:lnTo>
                <a:arcTo wR="158475" hR="158475" stAng="-5400000" swAng="5400000"/>
                <a:lnTo>
                  <a:pt x="1111250" y="1716087"/>
                </a:lnTo>
                <a:lnTo>
                  <a:pt x="0" y="1716087"/>
                </a:lnTo>
                <a:lnTo>
                  <a:pt x="0" y="158475"/>
                </a:lnTo>
                <a:lnTo>
                  <a:pt x="0" y="158475"/>
                </a:lnTo>
                <a:arcTo wR="158475" hR="15847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84"/>
          <p:cNvSpPr/>
          <p:nvPr/>
        </p:nvSpPr>
        <p:spPr>
          <a:xfrm>
            <a:off x="5496120" y="4148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07" name="TextBox 85"/>
          <p:cNvSpPr/>
          <p:nvPr/>
        </p:nvSpPr>
        <p:spPr>
          <a:xfrm>
            <a:off x="5419800" y="55767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08" name="Group 31"/>
          <p:cNvGrpSpPr/>
          <p:nvPr/>
        </p:nvGrpSpPr>
        <p:grpSpPr>
          <a:xfrm>
            <a:off x="2909880" y="1947960"/>
            <a:ext cx="1338120" cy="1584000"/>
            <a:chOff x="2909880" y="1947960"/>
            <a:chExt cx="1338120" cy="1584000"/>
          </a:xfrm>
        </p:grpSpPr>
        <p:sp>
          <p:nvSpPr>
            <p:cNvPr id="309" name="Round Same Side Corner Rectangle 21"/>
            <p:cNvSpPr/>
            <p:nvPr/>
          </p:nvSpPr>
          <p:spPr>
            <a:xfrm>
              <a:off x="2909880" y="1947960"/>
              <a:ext cx="1212840" cy="638280"/>
            </a:xfrm>
            <a:custGeom>
              <a:avLst/>
              <a:gdLst>
                <a:gd name="textAreaLeft" fmla="*/ 29880 w 1212840"/>
                <a:gd name="textAreaRight" fmla="*/ 1182960 w 1212840"/>
                <a:gd name="textAreaTop" fmla="*/ 29880 h 638280"/>
                <a:gd name="textAreaBottom" fmla="*/ 638640 h 638280"/>
              </a:gdLst>
              <a:ahLst/>
              <a:rect l="textAreaLeft" t="textAreaTop" r="textAreaRight" b="textAreaBottom"/>
              <a:pathLst>
                <a:path w="990588" h="520388">
                  <a:moveTo>
                    <a:pt x="83309" y="0"/>
                  </a:moveTo>
                  <a:lnTo>
                    <a:pt x="907279" y="0"/>
                  </a:lnTo>
                  <a:lnTo>
                    <a:pt x="907279" y="0"/>
                  </a:lnTo>
                  <a:arcTo wR="83309" hR="83309" stAng="-5400000" swAng="5400000"/>
                  <a:lnTo>
                    <a:pt x="990588" y="520388"/>
                  </a:lnTo>
                  <a:lnTo>
                    <a:pt x="0" y="520388"/>
                  </a:lnTo>
                  <a:lnTo>
                    <a:pt x="0" y="83309"/>
                  </a:lnTo>
                  <a:lnTo>
                    <a:pt x="0" y="83309"/>
                  </a:lnTo>
                  <a:arcTo wR="83309" hR="8330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ound Same Side Corner Rectangle 22"/>
            <p:cNvSpPr/>
            <p:nvPr/>
          </p:nvSpPr>
          <p:spPr>
            <a:xfrm flipV="1">
              <a:off x="2909880" y="2272680"/>
              <a:ext cx="1212840" cy="1258920"/>
            </a:xfrm>
            <a:custGeom>
              <a:avLst/>
              <a:gdLst>
                <a:gd name="textAreaLeft" fmla="*/ 50400 w 1212840"/>
                <a:gd name="textAreaRight" fmla="*/ 1162440 w 1212840"/>
                <a:gd name="textAreaTop" fmla="*/ 50040 h 1258920"/>
                <a:gd name="textAreaBottom" fmla="*/ 1258920 h 1258920"/>
              </a:gdLst>
              <a:ahLst/>
              <a:rect l="textAreaLeft" t="textAreaTop" r="textAreaRight" b="textAreaBottom"/>
              <a:pathLst>
                <a:path w="990588" h="1026537">
                  <a:moveTo>
                    <a:pt x="141268" y="0"/>
                  </a:moveTo>
                  <a:lnTo>
                    <a:pt x="849320" y="0"/>
                  </a:lnTo>
                  <a:lnTo>
                    <a:pt x="849320" y="0"/>
                  </a:lnTo>
                  <a:arcTo wR="141268" hR="141268" stAng="-5400000" swAng="5400000"/>
                  <a:lnTo>
                    <a:pt x="990588" y="1026537"/>
                  </a:lnTo>
                  <a:lnTo>
                    <a:pt x="0" y="1026537"/>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84"/>
            <p:cNvSpPr/>
            <p:nvPr/>
          </p:nvSpPr>
          <p:spPr>
            <a:xfrm>
              <a:off x="3031920" y="19825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12" name="TextBox 85"/>
            <p:cNvSpPr/>
            <p:nvPr/>
          </p:nvSpPr>
          <p:spPr>
            <a:xfrm>
              <a:off x="2918880" y="2288880"/>
              <a:ext cx="13291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13" name="TextBox 85"/>
          <p:cNvSpPr/>
          <p:nvPr/>
        </p:nvSpPr>
        <p:spPr>
          <a:xfrm>
            <a:off x="5418000" y="44766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14" name="Right Brace 30"/>
          <p:cNvSpPr/>
          <p:nvPr/>
        </p:nvSpPr>
        <p:spPr>
          <a:xfrm>
            <a:off x="6686640" y="4521240"/>
            <a:ext cx="225360" cy="852480"/>
          </a:xfrm>
          <a:custGeom>
            <a:avLst/>
            <a:gdLst>
              <a:gd name="textAreaLeft" fmla="*/ 0 w 225360"/>
              <a:gd name="textAreaRight" fmla="*/ 81360 w 225360"/>
              <a:gd name="textAreaTop" fmla="*/ 24840 h 852480"/>
              <a:gd name="textAreaBottom" fmla="*/ 827640 h 85248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5" name="TextBox 31"/>
          <p:cNvSpPr/>
          <p:nvPr/>
        </p:nvSpPr>
        <p:spPr>
          <a:xfrm>
            <a:off x="7020000" y="471960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16" name="TextBox 32"/>
          <p:cNvSpPr/>
          <p:nvPr/>
        </p:nvSpPr>
        <p:spPr>
          <a:xfrm>
            <a:off x="7020000" y="551988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17" name="Right Brace 33"/>
          <p:cNvSpPr/>
          <p:nvPr/>
        </p:nvSpPr>
        <p:spPr>
          <a:xfrm>
            <a:off x="6692760" y="5549760"/>
            <a:ext cx="225720" cy="462240"/>
          </a:xfrm>
          <a:custGeom>
            <a:avLst/>
            <a:gdLst>
              <a:gd name="textAreaLeft" fmla="*/ 0 w 225720"/>
              <a:gd name="textAreaRight" fmla="*/ 81360 w 225720"/>
              <a:gd name="textAreaTop" fmla="*/ 27360 h 462240"/>
              <a:gd name="textAreaBottom" fmla="*/ 434880 h 46224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TextBox 34"/>
          <p:cNvSpPr/>
          <p:nvPr/>
        </p:nvSpPr>
        <p:spPr>
          <a:xfrm>
            <a:off x="2971080" y="140796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19" name="TextBox 35"/>
          <p:cNvSpPr/>
          <p:nvPr/>
        </p:nvSpPr>
        <p:spPr>
          <a:xfrm>
            <a:off x="5608440" y="374508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20" name="Right Brace 42"/>
          <p:cNvSpPr/>
          <p:nvPr/>
        </p:nvSpPr>
        <p:spPr>
          <a:xfrm flipH="1">
            <a:off x="2682720" y="4524480"/>
            <a:ext cx="223920" cy="1500120"/>
          </a:xfrm>
          <a:custGeom>
            <a:avLst/>
            <a:gdLst>
              <a:gd name="textAreaLeft" fmla="*/ 0 w 223920"/>
              <a:gd name="textAreaRight" fmla="*/ 80640 w 223920"/>
              <a:gd name="textAreaTop" fmla="*/ 24480 h 1500120"/>
              <a:gd name="textAreaBottom" fmla="*/ 1475640 h 1500120"/>
            </a:gdLst>
            <a:ahLst/>
            <a:rect l="textAreaLeft" t="textAreaTop" r="textAreaRight" b="textAreaBottom"/>
            <a:pathLst>
              <a:path w="21600" h="21600">
                <a:moveTo>
                  <a:pt x="0" y="0"/>
                </a:moveTo>
                <a:cubicBezTo>
                  <a:pt x="5400" y="0"/>
                  <a:pt x="10800" y="569"/>
                  <a:pt x="10800" y="1137"/>
                </a:cubicBezTo>
                <a:lnTo>
                  <a:pt x="10800" y="9856"/>
                </a:lnTo>
                <a:cubicBezTo>
                  <a:pt x="10800" y="10425"/>
                  <a:pt x="16200" y="10993"/>
                  <a:pt x="21600" y="10993"/>
                </a:cubicBezTo>
                <a:cubicBezTo>
                  <a:pt x="16200" y="10993"/>
                  <a:pt x="10800" y="11562"/>
                  <a:pt x="10800" y="12130"/>
                </a:cubicBezTo>
                <a:lnTo>
                  <a:pt x="10800" y="20463"/>
                </a:lnTo>
                <a:cubicBezTo>
                  <a:pt x="10800" y="2103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1" name="Round Same Side Corner Rectangle 25"/>
          <p:cNvSpPr/>
          <p:nvPr/>
        </p:nvSpPr>
        <p:spPr>
          <a:xfrm>
            <a:off x="3032280" y="4170240"/>
            <a:ext cx="1126800" cy="520920"/>
          </a:xfrm>
          <a:custGeom>
            <a:avLst/>
            <a:gdLst>
              <a:gd name="textAreaLeft" fmla="*/ 24120 w 1126800"/>
              <a:gd name="textAreaRight" fmla="*/ 1102680 w 1126800"/>
              <a:gd name="textAreaTop" fmla="*/ 24120 h 520920"/>
              <a:gd name="textAreaBottom" fmla="*/ 521280 h 520920"/>
            </a:gdLst>
            <a:ahLst/>
            <a:rect l="textAreaLeft" t="textAreaTop" r="textAreaRight" b="textAreaBottom"/>
            <a:pathLst>
              <a:path w="1127125" h="520700">
                <a:moveTo>
                  <a:pt x="83359" y="0"/>
                </a:moveTo>
                <a:lnTo>
                  <a:pt x="1043766" y="0"/>
                </a:lnTo>
                <a:lnTo>
                  <a:pt x="1043766" y="0"/>
                </a:lnTo>
                <a:arcTo wR="83359" hR="83359" stAng="-5400000" swAng="5400000"/>
                <a:lnTo>
                  <a:pt x="1127125"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 Same Side Corner Rectangle 26"/>
          <p:cNvSpPr/>
          <p:nvPr/>
        </p:nvSpPr>
        <p:spPr>
          <a:xfrm flipV="1">
            <a:off x="3032280" y="4434840"/>
            <a:ext cx="1126800" cy="1717560"/>
          </a:xfrm>
          <a:custGeom>
            <a:avLst/>
            <a:gdLst>
              <a:gd name="textAreaLeft" fmla="*/ 46800 w 1126800"/>
              <a:gd name="textAreaRight" fmla="*/ 1080000 w 1126800"/>
              <a:gd name="textAreaTop" fmla="*/ 46440 h 1717560"/>
              <a:gd name="textAreaBottom" fmla="*/ 1717560 h 1717560"/>
            </a:gdLst>
            <a:ahLst/>
            <a:rect l="textAreaLeft" t="textAreaTop" r="textAreaRight" b="textAreaBottom"/>
            <a:pathLst>
              <a:path w="1127125" h="1717675">
                <a:moveTo>
                  <a:pt x="160739" y="0"/>
                </a:moveTo>
                <a:lnTo>
                  <a:pt x="966386" y="0"/>
                </a:lnTo>
                <a:lnTo>
                  <a:pt x="966386" y="0"/>
                </a:lnTo>
                <a:arcTo wR="160739" hR="160739" stAng="-5400000" swAng="5400000"/>
                <a:lnTo>
                  <a:pt x="1127125" y="1717675"/>
                </a:lnTo>
                <a:lnTo>
                  <a:pt x="0" y="1717675"/>
                </a:lnTo>
                <a:lnTo>
                  <a:pt x="0" y="160739"/>
                </a:lnTo>
                <a:lnTo>
                  <a:pt x="0" y="160739"/>
                </a:lnTo>
                <a:arcTo wR="160739" hR="1607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4"/>
          <p:cNvSpPr/>
          <p:nvPr/>
        </p:nvSpPr>
        <p:spPr>
          <a:xfrm>
            <a:off x="3092760" y="416232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24" name="TextBox 85"/>
          <p:cNvSpPr/>
          <p:nvPr/>
        </p:nvSpPr>
        <p:spPr>
          <a:xfrm>
            <a:off x="3017880" y="55911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25" name="TextBox 85"/>
          <p:cNvSpPr/>
          <p:nvPr/>
        </p:nvSpPr>
        <p:spPr>
          <a:xfrm>
            <a:off x="3014640" y="44910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26" name="TextBox 48"/>
          <p:cNvSpPr/>
          <p:nvPr/>
        </p:nvSpPr>
        <p:spPr>
          <a:xfrm>
            <a:off x="3015720" y="360828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cxnSp>
        <p:nvCxnSpPr>
          <p:cNvPr id="327" name="Straight Arrow Connector 37"/>
          <p:cNvCxnSpPr/>
          <p:nvPr/>
        </p:nvCxnSpPr>
        <p:spPr>
          <a:xfrm>
            <a:off x="4102200" y="4597560"/>
            <a:ext cx="1281600" cy="2160"/>
          </a:xfrm>
          <a:prstGeom prst="straightConnector1">
            <a:avLst/>
          </a:prstGeom>
          <a:ln w="28440">
            <a:solidFill>
              <a:srgbClr val="000000"/>
            </a:solidFill>
            <a:prstDash val="dash"/>
            <a:miter/>
            <a:tailEnd len="med" type="triangle" w="med"/>
          </a:ln>
        </p:spPr>
      </p:cxnSp>
      <p:cxnSp>
        <p:nvCxnSpPr>
          <p:cNvPr id="328" name="Straight Arrow Connector 38"/>
          <p:cNvCxnSpPr/>
          <p:nvPr/>
        </p:nvCxnSpPr>
        <p:spPr>
          <a:xfrm>
            <a:off x="4102200" y="4785840"/>
            <a:ext cx="1281600" cy="2520"/>
          </a:xfrm>
          <a:prstGeom prst="straightConnector1">
            <a:avLst/>
          </a:prstGeom>
          <a:ln w="28440">
            <a:solidFill>
              <a:srgbClr val="000000"/>
            </a:solidFill>
            <a:prstDash val="dash"/>
            <a:miter/>
            <a:tailEnd len="med" type="triangle" w="med"/>
          </a:ln>
        </p:spPr>
      </p:cxnSp>
      <p:cxnSp>
        <p:nvCxnSpPr>
          <p:cNvPr id="329" name="Straight Arrow Connector 39"/>
          <p:cNvCxnSpPr/>
          <p:nvPr/>
        </p:nvCxnSpPr>
        <p:spPr>
          <a:xfrm>
            <a:off x="4102200" y="4987440"/>
            <a:ext cx="1281600" cy="2520"/>
          </a:xfrm>
          <a:prstGeom prst="straightConnector1">
            <a:avLst/>
          </a:prstGeom>
          <a:ln w="28440">
            <a:solidFill>
              <a:srgbClr val="000000"/>
            </a:solidFill>
            <a:prstDash val="dash"/>
            <a:miter/>
            <a:tailEnd len="med" type="triangle" w="med"/>
          </a:ln>
        </p:spPr>
      </p:cxnSp>
      <p:cxnSp>
        <p:nvCxnSpPr>
          <p:cNvPr id="330" name="Straight Arrow Connector 40"/>
          <p:cNvCxnSpPr/>
          <p:nvPr/>
        </p:nvCxnSpPr>
        <p:spPr>
          <a:xfrm>
            <a:off x="4102200" y="5176440"/>
            <a:ext cx="1281600" cy="2520"/>
          </a:xfrm>
          <a:prstGeom prst="straightConnector1">
            <a:avLst/>
          </a:prstGeom>
          <a:ln w="28440">
            <a:solidFill>
              <a:srgbClr val="000000"/>
            </a:solidFill>
            <a:prstDash val="dash"/>
            <a:miter/>
            <a:tailEnd len="med" type="triangle" w="med"/>
          </a:ln>
        </p:spPr>
      </p:cxnSp>
      <p:cxnSp>
        <p:nvCxnSpPr>
          <p:cNvPr id="331" name="Straight Arrow Connector 41"/>
          <p:cNvCxnSpPr/>
          <p:nvPr/>
        </p:nvCxnSpPr>
        <p:spPr>
          <a:xfrm>
            <a:off x="4102200" y="5342040"/>
            <a:ext cx="1281600" cy="2160"/>
          </a:xfrm>
          <a:prstGeom prst="straightConnector1">
            <a:avLst/>
          </a:prstGeom>
          <a:ln w="28440">
            <a:solidFill>
              <a:srgbClr val="000000"/>
            </a:solidFill>
            <a:prstDash val="dash"/>
            <a:miter/>
            <a:tailEnd len="med" type="triangle" w="med"/>
          </a:ln>
        </p:spPr>
      </p:cxnSp>
      <p:cxnSp>
        <p:nvCxnSpPr>
          <p:cNvPr id="332" name="Straight Arrow Connector 49"/>
          <p:cNvCxnSpPr/>
          <p:nvPr/>
        </p:nvCxnSpPr>
        <p:spPr>
          <a:xfrm>
            <a:off x="4102200" y="5707080"/>
            <a:ext cx="1281600" cy="2160"/>
          </a:xfrm>
          <a:prstGeom prst="straightConnector1">
            <a:avLst/>
          </a:prstGeom>
          <a:ln w="28440">
            <a:solidFill>
              <a:srgbClr val="000000"/>
            </a:solidFill>
            <a:prstDash val="dash"/>
            <a:miter/>
            <a:tailEnd len="med" type="triangle" w="med"/>
          </a:ln>
        </p:spPr>
      </p:cxnSp>
      <p:cxnSp>
        <p:nvCxnSpPr>
          <p:cNvPr id="333" name="Straight Arrow Connector 50"/>
          <p:cNvCxnSpPr/>
          <p:nvPr/>
        </p:nvCxnSpPr>
        <p:spPr>
          <a:xfrm flipV="1">
            <a:off x="4102200" y="5911200"/>
            <a:ext cx="1281600" cy="1080"/>
          </a:xfrm>
          <a:prstGeom prst="straightConnector1">
            <a:avLst/>
          </a:prstGeom>
          <a:ln w="28440">
            <a:solidFill>
              <a:srgbClr val="000000"/>
            </a:solidFill>
            <a:prstDash val="dash"/>
            <a:miter/>
            <a:tailEnd len="med" type="triangle" w="med"/>
          </a:ln>
        </p:spPr>
      </p:cxnSp>
      <p:sp>
        <p:nvSpPr>
          <p:cNvPr id="334" name="AutoShape 50"/>
          <p:cNvSpPr/>
          <p:nvPr/>
        </p:nvSpPr>
        <p:spPr>
          <a:xfrm>
            <a:off x="682560" y="2001960"/>
            <a:ext cx="1676520" cy="518400"/>
          </a:xfrm>
          <a:prstGeom prst="wedgeRectCallout">
            <a:avLst>
              <a:gd name="adj1" fmla="val 39500"/>
              <a:gd name="adj2" fmla="val 1460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ting changes the reference type.</a:t>
            </a:r>
            <a:endParaRPr b="0" lang="en-US" sz="1400" spc="-1" strike="noStrike">
              <a:solidFill>
                <a:srgbClr val="000000"/>
              </a:solidFill>
              <a:latin typeface="Arial"/>
            </a:endParaRPr>
          </a:p>
        </p:txBody>
      </p:sp>
      <p:sp>
        <p:nvSpPr>
          <p:cNvPr id="335" name="TextBox 34"/>
          <p:cNvSpPr/>
          <p:nvPr/>
        </p:nvSpPr>
        <p:spPr>
          <a:xfrm>
            <a:off x="7008120" y="1547640"/>
            <a:ext cx="1026720" cy="580680"/>
          </a:xfrm>
          <a:prstGeom prst="rect">
            <a:avLst/>
          </a:prstGeom>
          <a:solidFill>
            <a:srgbClr val="f2f2f2"/>
          </a:solidFill>
          <a:ln w="28440">
            <a:solidFill>
              <a:srgbClr val="000000"/>
            </a:solidFill>
            <a:miter/>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t </a:t>
            </a:r>
            <a:br>
              <a:rPr sz="1600"/>
            </a:br>
            <a:r>
              <a:rPr b="0" lang="en-US" sz="1600" spc="-1" strike="noStrike">
                <a:solidFill>
                  <a:srgbClr val="000000"/>
                </a:solidFill>
                <a:latin typeface="Arial"/>
              </a:rPr>
              <a:t>operation</a:t>
            </a:r>
            <a:endParaRPr b="0" lang="en-US" sz="1600" spc="-1" strike="noStrike">
              <a:solidFill>
                <a:srgbClr val="000000"/>
              </a:solidFill>
              <a:latin typeface="Arial"/>
            </a:endParaRPr>
          </a:p>
        </p:txBody>
      </p:sp>
      <p:sp>
        <p:nvSpPr>
          <p:cNvPr id="336" name="AutoShape 50"/>
          <p:cNvSpPr/>
          <p:nvPr/>
        </p:nvSpPr>
        <p:spPr>
          <a:xfrm>
            <a:off x="727200" y="5625720"/>
            <a:ext cx="1450800" cy="518040"/>
          </a:xfrm>
          <a:prstGeom prst="wedgeRectCallout">
            <a:avLst>
              <a:gd name="adj1" fmla="val 82273"/>
              <a:gd name="adj2" fmla="val -1144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thods are now accessible.</a:t>
            </a:r>
            <a:endParaRPr b="0" lang="en-US" sz="1400" spc="-1" strike="noStrike">
              <a:solidFill>
                <a:srgbClr val="000000"/>
              </a:solidFill>
              <a:latin typeface="Arial"/>
            </a:endParaRPr>
          </a:p>
        </p:txBody>
      </p:sp>
      <p:sp>
        <p:nvSpPr>
          <p:cNvPr id="337" name="Circular Arrow 37"/>
          <p:cNvSpPr/>
          <p:nvPr/>
        </p:nvSpPr>
        <p:spPr>
          <a:xfrm flipH="1" rot="16200000">
            <a:off x="1922760" y="2952720"/>
            <a:ext cx="1349280" cy="1577880"/>
          </a:xfrm>
          <a:custGeom>
            <a:avLst/>
            <a:gdLst>
              <a:gd name="textAreaLeft" fmla="*/ 257040 w 1349280"/>
              <a:gd name="textAreaRight" fmla="*/ 1092240 w 1349280"/>
              <a:gd name="textAreaTop" fmla="*/ 290520 h 1577880"/>
              <a:gd name="textAreaBottom" fmla="*/ 1287360 h 1577880"/>
            </a:gdLst>
            <a:ahLst/>
            <a:rect l="textAreaLeft" t="textAreaTop" r="textAreaRight" b="textAreaBottom"/>
            <a:pathLst>
              <a:path w="1349375" h="1577975">
                <a:moveTo>
                  <a:pt x="84336" y="788987"/>
                </a:moveTo>
                <a:lnTo>
                  <a:pt x="84336" y="788987"/>
                </a:lnTo>
                <a:arcTo wR="590352" hR="704652" stAng="-10799994" swAng="9819597"/>
                <a:lnTo>
                  <a:pt x="1330445" y="620904"/>
                </a:lnTo>
                <a:lnTo>
                  <a:pt x="1180703" y="788989"/>
                </a:lnTo>
                <a:lnTo>
                  <a:pt x="993101" y="620904"/>
                </a:lnTo>
                <a:lnTo>
                  <a:pt x="1075095" y="620904"/>
                </a:lnTo>
                <a:lnTo>
                  <a:pt x="1075095" y="620904"/>
                </a:lnTo>
                <a:arcTo wR="421680" hR="535980" stAng="-1366296" swAng="-9433695"/>
                <a:close/>
              </a:path>
            </a:pathLst>
          </a:custGeom>
          <a:solidFill>
            <a:srgbClr val="c0504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sting</a:t>
            </a:r>
            <a:br>
              <a:rPr sz="4000"/>
            </a:br>
            <a:endParaRPr b="0" lang="en-US" sz="4000" spc="-1" strike="noStrike">
              <a:solidFill>
                <a:srgbClr val="000000"/>
              </a:solidFill>
              <a:latin typeface="Calibri"/>
            </a:endParaRPr>
          </a:p>
        </p:txBody>
      </p:sp>
      <p:sp>
        <p:nvSpPr>
          <p:cNvPr id="340"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othing cl = new Trousers(123, "Dress Trousers", 'B', 17.00, 4, '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display();</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cl.getFit(); // This won't compile</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Trousers)cl).getFit(); // This will compile</a:t>
            </a:r>
            <a:endParaRPr b="0" lang="en-US" sz="1400" spc="-1" strike="noStrike">
              <a:solidFill>
                <a:srgbClr val="000000"/>
              </a:solidFill>
              <a:latin typeface="Calibri"/>
            </a:endParaRPr>
          </a:p>
        </p:txBody>
      </p:sp>
      <p:sp>
        <p:nvSpPr>
          <p:cNvPr id="341" name="AutoShape 41"/>
          <p:cNvSpPr/>
          <p:nvPr/>
        </p:nvSpPr>
        <p:spPr>
          <a:xfrm>
            <a:off x="898560" y="3710520"/>
            <a:ext cx="1722240" cy="1157760"/>
          </a:xfrm>
          <a:prstGeom prst="wedgeRectCallout">
            <a:avLst>
              <a:gd name="adj1" fmla="val 35074"/>
              <a:gd name="adj2" fmla="val -1342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entheses around </a:t>
            </a:r>
            <a:r>
              <a:rPr b="0" lang="en-US" sz="1400" spc="-1" strike="noStrike">
                <a:solidFill>
                  <a:srgbClr val="000000"/>
                </a:solidFill>
                <a:latin typeface="Courier New"/>
                <a:ea typeface="Courier New"/>
              </a:rPr>
              <a:t>cl</a:t>
            </a:r>
            <a:r>
              <a:rPr b="0" lang="en-US" sz="1400" spc="-1" strike="noStrike">
                <a:solidFill>
                  <a:srgbClr val="000000"/>
                </a:solidFill>
                <a:latin typeface="Arial"/>
              </a:rPr>
              <a:t> ensure that the cast applies to this reference.</a:t>
            </a:r>
            <a:endParaRPr b="0" lang="en-US" sz="1400" spc="-1" strike="noStrike">
              <a:solidFill>
                <a:srgbClr val="000000"/>
              </a:solidFill>
              <a:latin typeface="Arial"/>
            </a:endParaRPr>
          </a:p>
        </p:txBody>
      </p:sp>
      <p:sp>
        <p:nvSpPr>
          <p:cNvPr id="342" name="AutoShape 41"/>
          <p:cNvSpPr/>
          <p:nvPr/>
        </p:nvSpPr>
        <p:spPr>
          <a:xfrm>
            <a:off x="3313080" y="3981240"/>
            <a:ext cx="2330640" cy="944640"/>
          </a:xfrm>
          <a:prstGeom prst="wedgeRectCallout">
            <a:avLst>
              <a:gd name="adj1" fmla="val -62861"/>
              <a:gd name="adj2" fmla="val -175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yntax for casting is the type to cast to in parentheses placed before the reference to be ca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609480" y="1401840"/>
            <a:ext cx="7925040" cy="1798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instanceof</a:t>
            </a:r>
            <a:r>
              <a:rPr b="0" lang="en-US" sz="4000" spc="-1" strike="noStrike">
                <a:solidFill>
                  <a:srgbClr val="000000"/>
                </a:solidFill>
                <a:latin typeface="Calibri"/>
                <a:ea typeface="ＭＳ Ｐゴシック"/>
              </a:rPr>
              <a:t> Operator</a:t>
            </a:r>
            <a:br>
              <a:rPr sz="4000"/>
            </a:br>
            <a:endParaRPr b="0" lang="en-US" sz="4000" spc="-1" strike="noStrike">
              <a:solidFill>
                <a:srgbClr val="000000"/>
              </a:solidFill>
              <a:latin typeface="Calibri"/>
            </a:endParaRPr>
          </a:p>
        </p:txBody>
      </p:sp>
      <p:sp>
        <p:nvSpPr>
          <p:cNvPr id="345"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346" name="Rectangle 7"/>
          <p:cNvSpPr/>
          <p:nvPr/>
        </p:nvSpPr>
        <p:spPr>
          <a:xfrm>
            <a:off x="620640" y="4083120"/>
            <a:ext cx="7925040" cy="1993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604800" y="4208400"/>
            <a:ext cx="7918560" cy="17830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cl instanceof Trousers)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else { // Take some other action }</a:t>
            </a:r>
            <a:endParaRPr b="0" lang="en-US" sz="1400" spc="-1" strike="noStrike">
              <a:solidFill>
                <a:srgbClr val="000000"/>
              </a:solidFill>
              <a:latin typeface="Arial"/>
            </a:endParaRPr>
          </a:p>
        </p:txBody>
      </p:sp>
      <p:sp>
        <p:nvSpPr>
          <p:cNvPr id="348" name="Rectangle 5"/>
          <p:cNvSpPr/>
          <p:nvPr/>
        </p:nvSpPr>
        <p:spPr>
          <a:xfrm>
            <a:off x="2270160" y="4705200"/>
            <a:ext cx="1150920" cy="219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41"/>
          <p:cNvSpPr/>
          <p:nvPr/>
        </p:nvSpPr>
        <p:spPr>
          <a:xfrm>
            <a:off x="6673680" y="4182840"/>
            <a:ext cx="1979640" cy="1157760"/>
          </a:xfrm>
          <a:prstGeom prst="wedgeRectCallout">
            <a:avLst>
              <a:gd name="adj1" fmla="val -214541"/>
              <a:gd name="adj2" fmla="val -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instanceof </a:t>
            </a:r>
            <a:r>
              <a:rPr b="0" lang="en-US" sz="1400" spc="-1" strike="noStrike">
                <a:solidFill>
                  <a:srgbClr val="000000"/>
                </a:solidFill>
                <a:latin typeface="Arial"/>
              </a:rPr>
              <a:t>operator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rPr>
              <a:t> if  the  object referenced by </a:t>
            </a:r>
            <a:r>
              <a:rPr b="0" lang="en-US" sz="1400" spc="-1" strike="noStrike">
                <a:solidFill>
                  <a:srgbClr val="000000"/>
                </a:solidFill>
                <a:latin typeface="Courier New"/>
                <a:ea typeface="Courier New"/>
              </a:rPr>
              <a:t>cl</a:t>
            </a:r>
            <a:r>
              <a:rPr b="0" lang="en-US" sz="1400" spc="-1" strike="noStrike">
                <a:solidFill>
                  <a:srgbClr val="000000"/>
                </a:solidFill>
                <a:latin typeface="Arial"/>
              </a:rPr>
              <a:t> is a Trousers object.</a:t>
            </a:r>
            <a:endParaRPr b="0" lang="en-US" sz="1400" spc="-1" strike="noStrike">
              <a:solidFill>
                <a:srgbClr val="000000"/>
              </a:solidFill>
              <a:latin typeface="Arial"/>
            </a:endParaRPr>
          </a:p>
        </p:txBody>
      </p:sp>
      <p:sp>
        <p:nvSpPr>
          <p:cNvPr id="350" name="Text Box 7"/>
          <p:cNvSpPr/>
          <p:nvPr/>
        </p:nvSpPr>
        <p:spPr>
          <a:xfrm>
            <a:off x="501840" y="1035000"/>
            <a:ext cx="243792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Possible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1" name="Text Box 7"/>
          <p:cNvSpPr/>
          <p:nvPr/>
        </p:nvSpPr>
        <p:spPr>
          <a:xfrm>
            <a:off x="146160" y="3708360"/>
            <a:ext cx="7261200" cy="95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Arial"/>
              </a:rPr>
              <a:t> operator used to ensure there is no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olymorphic Method Calls</a:t>
            </a:r>
            <a:endParaRPr b="0" lang="en-US" sz="4400" spc="-1" strike="noStrike">
              <a:solidFill>
                <a:srgbClr val="000000"/>
              </a:solidFill>
              <a:latin typeface="Calibri"/>
            </a:endParaRPr>
          </a:p>
        </p:txBody>
      </p:sp>
      <p:grpSp>
        <p:nvGrpSpPr>
          <p:cNvPr id="353" name="Group 30"/>
          <p:cNvGrpSpPr/>
          <p:nvPr/>
        </p:nvGrpSpPr>
        <p:grpSpPr>
          <a:xfrm>
            <a:off x="1046160" y="1101600"/>
            <a:ext cx="7743960" cy="5132520"/>
            <a:chOff x="1046160" y="1101600"/>
            <a:chExt cx="7743960" cy="5132520"/>
          </a:xfrm>
        </p:grpSpPr>
        <p:sp>
          <p:nvSpPr>
            <p:cNvPr id="354" name="Round Same Side Corner Rectangle 11"/>
            <p:cNvSpPr/>
            <p:nvPr/>
          </p:nvSpPr>
          <p:spPr>
            <a:xfrm>
              <a:off x="5289480" y="2566440"/>
              <a:ext cx="1101600" cy="582480"/>
            </a:xfrm>
            <a:custGeom>
              <a:avLst/>
              <a:gdLst>
                <a:gd name="textAreaLeft" fmla="*/ 27000 w 1101600"/>
                <a:gd name="textAreaRight" fmla="*/ 1074600 w 1101600"/>
                <a:gd name="textAreaTop" fmla="*/ 27000 h 582480"/>
                <a:gd name="textAreaBottom" fmla="*/ 582840 h 582480"/>
              </a:gdLst>
              <a:ahLst/>
              <a:rect l="textAreaLeft" t="textAreaTop" r="textAreaRight" b="textAreaBottom"/>
              <a:pathLst>
                <a:path w="983151" h="519869">
                  <a:moveTo>
                    <a:pt x="83226" y="0"/>
                  </a:moveTo>
                  <a:lnTo>
                    <a:pt x="899925" y="0"/>
                  </a:lnTo>
                  <a:lnTo>
                    <a:pt x="899925" y="0"/>
                  </a:lnTo>
                  <a:arcTo wR="83226" hR="83226" stAng="-5400000" swAng="5400000"/>
                  <a:lnTo>
                    <a:pt x="983151" y="519869"/>
                  </a:lnTo>
                  <a:lnTo>
                    <a:pt x="0" y="519869"/>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ound Same Side Corner Rectangle 12"/>
            <p:cNvSpPr/>
            <p:nvPr/>
          </p:nvSpPr>
          <p:spPr>
            <a:xfrm flipV="1">
              <a:off x="5289480" y="2862720"/>
              <a:ext cx="1101600" cy="2962440"/>
            </a:xfrm>
            <a:custGeom>
              <a:avLst/>
              <a:gdLst>
                <a:gd name="textAreaLeft" fmla="*/ 45720 w 1101600"/>
                <a:gd name="textAreaRight" fmla="*/ 1055880 w 1101600"/>
                <a:gd name="textAreaTop" fmla="*/ 45720 h 2962440"/>
                <a:gd name="textAreaBottom" fmla="*/ 2962800 h 2962440"/>
              </a:gdLst>
              <a:ahLst/>
              <a:rect l="textAreaLeft" t="textAreaTop" r="textAreaRight" b="textAreaBottom"/>
              <a:pathLst>
                <a:path w="983151" h="2643262">
                  <a:moveTo>
                    <a:pt x="140207" y="0"/>
                  </a:moveTo>
                  <a:lnTo>
                    <a:pt x="842944" y="0"/>
                  </a:lnTo>
                  <a:lnTo>
                    <a:pt x="842944" y="0"/>
                  </a:lnTo>
                  <a:arcTo wR="140207" hR="140207" stAng="-5400000" swAng="5400000"/>
                  <a:lnTo>
                    <a:pt x="983151" y="2643262"/>
                  </a:lnTo>
                  <a:lnTo>
                    <a:pt x="0" y="2643262"/>
                  </a:lnTo>
                  <a:lnTo>
                    <a:pt x="0" y="140207"/>
                  </a:lnTo>
                  <a:lnTo>
                    <a:pt x="0" y="140207"/>
                  </a:lnTo>
                  <a:arcTo wR="140207" hR="1402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84"/>
            <p:cNvSpPr/>
            <p:nvPr/>
          </p:nvSpPr>
          <p:spPr>
            <a:xfrm>
              <a:off x="5408640" y="25570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57" name="TextBox 85"/>
            <p:cNvSpPr/>
            <p:nvPr/>
          </p:nvSpPr>
          <p:spPr>
            <a:xfrm>
              <a:off x="5272920" y="471708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58" name="Group 31"/>
            <p:cNvGrpSpPr/>
            <p:nvPr/>
          </p:nvGrpSpPr>
          <p:grpSpPr>
            <a:xfrm>
              <a:off x="1056600" y="1747440"/>
              <a:ext cx="1225440" cy="1479600"/>
              <a:chOff x="1056600" y="1747440"/>
              <a:chExt cx="1225440" cy="1479600"/>
            </a:xfrm>
          </p:grpSpPr>
          <p:sp>
            <p:nvSpPr>
              <p:cNvPr id="359" name="Round Same Side Corner Rectangle 21"/>
              <p:cNvSpPr/>
              <p:nvPr/>
            </p:nvSpPr>
            <p:spPr>
              <a:xfrm>
                <a:off x="1056600" y="1756800"/>
                <a:ext cx="1108440" cy="582480"/>
              </a:xfrm>
              <a:custGeom>
                <a:avLst/>
                <a:gdLst>
                  <a:gd name="textAreaLeft" fmla="*/ 27000 w 1108440"/>
                  <a:gd name="textAreaRight" fmla="*/ 1081440 w 1108440"/>
                  <a:gd name="textAreaTop" fmla="*/ 27000 h 582480"/>
                  <a:gd name="textAreaBottom" fmla="*/ 582840 h 582480"/>
                </a:gdLst>
                <a:ahLst/>
                <a:rect l="textAreaLeft" t="textAreaTop" r="textAreaRight" b="textAreaBottom"/>
                <a:pathLst>
                  <a:path w="989952" h="519742">
                    <a:moveTo>
                      <a:pt x="83205" y="0"/>
                    </a:moveTo>
                    <a:lnTo>
                      <a:pt x="906747" y="0"/>
                    </a:lnTo>
                    <a:lnTo>
                      <a:pt x="906747" y="0"/>
                    </a:lnTo>
                    <a:arcTo wR="83205" hR="83205" stAng="-5400000" swAng="5400000"/>
                    <a:lnTo>
                      <a:pt x="989952" y="519742"/>
                    </a:lnTo>
                    <a:lnTo>
                      <a:pt x="0" y="519742"/>
                    </a:lnTo>
                    <a:lnTo>
                      <a:pt x="0" y="83205"/>
                    </a:lnTo>
                    <a:lnTo>
                      <a:pt x="0" y="83205"/>
                    </a:lnTo>
                    <a:arcTo wR="83205" hR="8320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ound Same Side Corner Rectangle 22"/>
              <p:cNvSpPr/>
              <p:nvPr/>
            </p:nvSpPr>
            <p:spPr>
              <a:xfrm flipV="1">
                <a:off x="1056600" y="2053080"/>
                <a:ext cx="1108440" cy="1150920"/>
              </a:xfrm>
              <a:custGeom>
                <a:avLst/>
                <a:gdLst>
                  <a:gd name="textAreaLeft" fmla="*/ 46080 w 1108440"/>
                  <a:gd name="textAreaRight" fmla="*/ 1062360 w 1108440"/>
                  <a:gd name="textAreaTop" fmla="*/ 45720 h 1150920"/>
                  <a:gd name="textAreaBottom" fmla="*/ 1150920 h 1150920"/>
                </a:gdLst>
                <a:ahLst/>
                <a:rect l="textAreaLeft" t="textAreaTop" r="textAreaRight" b="textAreaBottom"/>
                <a:pathLst>
                  <a:path w="989952" h="1026740">
                    <a:moveTo>
                      <a:pt x="141177" y="0"/>
                    </a:moveTo>
                    <a:lnTo>
                      <a:pt x="848775" y="0"/>
                    </a:lnTo>
                    <a:lnTo>
                      <a:pt x="848775" y="0"/>
                    </a:lnTo>
                    <a:arcTo wR="141177" hR="141177" stAng="-5400000" swAng="5400000"/>
                    <a:lnTo>
                      <a:pt x="989952" y="1026740"/>
                    </a:lnTo>
                    <a:lnTo>
                      <a:pt x="0" y="1026740"/>
                    </a:lnTo>
                    <a:lnTo>
                      <a:pt x="0" y="141177"/>
                    </a:lnTo>
                    <a:lnTo>
                      <a:pt x="0" y="141177"/>
                    </a:lnTo>
                    <a:arcTo wR="141177" hR="14117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84"/>
              <p:cNvSpPr/>
              <p:nvPr/>
            </p:nvSpPr>
            <p:spPr>
              <a:xfrm>
                <a:off x="1133640" y="1747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62" name="TextBox 85"/>
              <p:cNvSpPr/>
              <p:nvPr/>
            </p:nvSpPr>
            <p:spPr>
              <a:xfrm>
                <a:off x="1066680" y="2067840"/>
                <a:ext cx="1215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63" name="TextBox 85"/>
            <p:cNvSpPr/>
            <p:nvPr/>
          </p:nvSpPr>
          <p:spPr>
            <a:xfrm>
              <a:off x="5271120" y="2925360"/>
              <a:ext cx="1215000" cy="15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ea typeface="Courier New"/>
                </a:rPr>
                <a:t>getColor()</a:t>
              </a:r>
              <a:endParaRPr b="0" lang="en-US" sz="1200" spc="-1" strike="noStrike">
                <a:solidFill>
                  <a:srgbClr val="000000"/>
                </a:solidFill>
                <a:latin typeface="Arial"/>
              </a:endParaRPr>
            </a:p>
          </p:txBody>
        </p:sp>
        <p:sp>
          <p:nvSpPr>
            <p:cNvPr id="364" name="Right Brace 30"/>
            <p:cNvSpPr/>
            <p:nvPr/>
          </p:nvSpPr>
          <p:spPr>
            <a:xfrm>
              <a:off x="6555600" y="2884320"/>
              <a:ext cx="255960" cy="725760"/>
            </a:xfrm>
            <a:custGeom>
              <a:avLst/>
              <a:gdLst>
                <a:gd name="textAreaLeft" fmla="*/ 0 w 255960"/>
                <a:gd name="textAreaRight" fmla="*/ 92520 w 255960"/>
                <a:gd name="textAreaTop" fmla="*/ 28080 h 725760"/>
                <a:gd name="textAreaBottom" fmla="*/ 697680 h 725760"/>
              </a:gdLst>
              <a:ahLst/>
              <a:rect l="textAreaLeft" t="textAreaTop" r="textAreaRight" b="textAreaBottom"/>
              <a:pathLst>
                <a:path w="21600" h="21600">
                  <a:moveTo>
                    <a:pt x="0" y="0"/>
                  </a:moveTo>
                  <a:cubicBezTo>
                    <a:pt x="5400" y="0"/>
                    <a:pt x="10800" y="1349"/>
                    <a:pt x="10800" y="2697"/>
                  </a:cubicBezTo>
                  <a:lnTo>
                    <a:pt x="10800" y="8296"/>
                  </a:lnTo>
                  <a:cubicBezTo>
                    <a:pt x="10800" y="9645"/>
                    <a:pt x="16200" y="10993"/>
                    <a:pt x="21600" y="10993"/>
                  </a:cubicBezTo>
                  <a:cubicBezTo>
                    <a:pt x="16200" y="10993"/>
                    <a:pt x="10800" y="12342"/>
                    <a:pt x="10800" y="13690"/>
                  </a:cubicBezTo>
                  <a:lnTo>
                    <a:pt x="10800" y="18903"/>
                  </a:lnTo>
                  <a:cubicBezTo>
                    <a:pt x="10800" y="2025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TextBox 31"/>
            <p:cNvSpPr/>
            <p:nvPr/>
          </p:nvSpPr>
          <p:spPr>
            <a:xfrm>
              <a:off x="6915240" y="29840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66" name="TextBox 32"/>
            <p:cNvSpPr/>
            <p:nvPr/>
          </p:nvSpPr>
          <p:spPr>
            <a:xfrm>
              <a:off x="6929280" y="46922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67" name="Right Brace 33"/>
            <p:cNvSpPr/>
            <p:nvPr/>
          </p:nvSpPr>
          <p:spPr>
            <a:xfrm>
              <a:off x="6562800" y="472608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8" name="TextBox 34"/>
            <p:cNvSpPr/>
            <p:nvPr/>
          </p:nvSpPr>
          <p:spPr>
            <a:xfrm>
              <a:off x="1065960" y="110160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69" name="TextBox 35"/>
            <p:cNvSpPr/>
            <p:nvPr/>
          </p:nvSpPr>
          <p:spPr>
            <a:xfrm>
              <a:off x="5316120" y="21049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70" name="Round Same Side Corner Rectangle 25"/>
            <p:cNvSpPr/>
            <p:nvPr/>
          </p:nvSpPr>
          <p:spPr>
            <a:xfrm>
              <a:off x="1064880" y="4086000"/>
              <a:ext cx="1103040" cy="582480"/>
            </a:xfrm>
            <a:custGeom>
              <a:avLst/>
              <a:gdLst>
                <a:gd name="textAreaLeft" fmla="*/ 27000 w 1103040"/>
                <a:gd name="textAreaRight" fmla="*/ 1076040 w 1103040"/>
                <a:gd name="textAreaTop" fmla="*/ 27000 h 582480"/>
                <a:gd name="textAreaBottom" fmla="*/ 582840 h 582480"/>
              </a:gdLst>
              <a:ahLst/>
              <a:rect l="textAreaLeft" t="textAreaTop" r="textAreaRight" b="textAreaBottom"/>
              <a:pathLst>
                <a:path w="984567" h="519870">
                  <a:moveTo>
                    <a:pt x="83226" y="0"/>
                  </a:moveTo>
                  <a:lnTo>
                    <a:pt x="901341" y="0"/>
                  </a:lnTo>
                  <a:lnTo>
                    <a:pt x="901341" y="0"/>
                  </a:lnTo>
                  <a:arcTo wR="83226" hR="83226" stAng="-5400000" swAng="5400000"/>
                  <a:lnTo>
                    <a:pt x="984567" y="519870"/>
                  </a:lnTo>
                  <a:lnTo>
                    <a:pt x="0" y="519870"/>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ound Same Side Corner Rectangle 26"/>
            <p:cNvSpPr/>
            <p:nvPr/>
          </p:nvSpPr>
          <p:spPr>
            <a:xfrm flipV="1">
              <a:off x="1064880" y="4383000"/>
              <a:ext cx="1103040" cy="1851120"/>
            </a:xfrm>
            <a:custGeom>
              <a:avLst/>
              <a:gdLst>
                <a:gd name="textAreaLeft" fmla="*/ 46080 w 1103040"/>
                <a:gd name="textAreaRight" fmla="*/ 1056960 w 1103040"/>
                <a:gd name="textAreaTop" fmla="*/ 46440 h 1851120"/>
                <a:gd name="textAreaBottom" fmla="*/ 1851840 h 1851120"/>
              </a:gdLst>
              <a:ahLst/>
              <a:rect l="textAreaLeft" t="textAreaTop" r="textAreaRight" b="textAreaBottom"/>
              <a:pathLst>
                <a:path w="984567" h="1651684">
                  <a:moveTo>
                    <a:pt x="140409" y="0"/>
                  </a:moveTo>
                  <a:lnTo>
                    <a:pt x="844158" y="0"/>
                  </a:lnTo>
                  <a:lnTo>
                    <a:pt x="844158" y="0"/>
                  </a:lnTo>
                  <a:arcTo wR="140409" hR="140409" stAng="-5400000" swAng="5400000"/>
                  <a:lnTo>
                    <a:pt x="984567" y="1651684"/>
                  </a:lnTo>
                  <a:lnTo>
                    <a:pt x="0" y="1651684"/>
                  </a:lnTo>
                  <a:lnTo>
                    <a:pt x="0" y="140409"/>
                  </a:lnTo>
                  <a:lnTo>
                    <a:pt x="0" y="140409"/>
                  </a:lnTo>
                  <a:arcTo wR="140409" hR="14040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84"/>
            <p:cNvSpPr/>
            <p:nvPr/>
          </p:nvSpPr>
          <p:spPr>
            <a:xfrm>
              <a:off x="1183320" y="40766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73" name="TextBox 85"/>
            <p:cNvSpPr/>
            <p:nvPr/>
          </p:nvSpPr>
          <p:spPr>
            <a:xfrm>
              <a:off x="1049400" y="567792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74" name="TextBox 85"/>
            <p:cNvSpPr/>
            <p:nvPr/>
          </p:nvSpPr>
          <p:spPr>
            <a:xfrm>
              <a:off x="1046160" y="4444920"/>
              <a:ext cx="12150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75" name="TextBox 48"/>
            <p:cNvSpPr/>
            <p:nvPr/>
          </p:nvSpPr>
          <p:spPr>
            <a:xfrm>
              <a:off x="1058760" y="345564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76" name="AutoShape 50"/>
            <p:cNvSpPr/>
            <p:nvPr/>
          </p:nvSpPr>
          <p:spPr>
            <a:xfrm>
              <a:off x="2961360" y="1191600"/>
              <a:ext cx="2415960" cy="944640"/>
            </a:xfrm>
            <a:prstGeom prst="wedgeRectCallout">
              <a:avLst>
                <a:gd name="adj1" fmla="val 33967"/>
                <a:gd name="adj2" fmla="val 1232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ardless of the reference type used, the method executed is on the instantiated object.</a:t>
              </a:r>
              <a:endParaRPr b="0" lang="en-US" sz="1400" spc="-1" strike="noStrike">
                <a:solidFill>
                  <a:srgbClr val="000000"/>
                </a:solidFill>
                <a:latin typeface="Arial"/>
              </a:endParaRPr>
            </a:p>
          </p:txBody>
        </p:sp>
        <p:sp>
          <p:nvSpPr>
            <p:cNvPr id="377" name="Right Brace 33"/>
            <p:cNvSpPr/>
            <p:nvPr/>
          </p:nvSpPr>
          <p:spPr>
            <a:xfrm>
              <a:off x="6573600" y="388620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TextBox 31"/>
            <p:cNvSpPr/>
            <p:nvPr/>
          </p:nvSpPr>
          <p:spPr>
            <a:xfrm>
              <a:off x="6925680" y="3873600"/>
              <a:ext cx="186084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 and</a:t>
              </a:r>
              <a:br>
                <a:rPr sz="1200"/>
              </a:br>
              <a:r>
                <a:rPr b="0" lang="en-US" sz="1200" spc="-1" strike="noStrike">
                  <a:solidFill>
                    <a:srgbClr val="000000"/>
                  </a:solidFill>
                  <a:latin typeface="Arial"/>
                </a:rPr>
                <a:t>overridden</a:t>
              </a:r>
              <a:endParaRPr b="0" lang="en-US" sz="1200" spc="-1" strike="noStrike">
                <a:solidFill>
                  <a:srgbClr val="000000"/>
                </a:solidFill>
                <a:latin typeface="Arial"/>
              </a:endParaRPr>
            </a:p>
          </p:txBody>
        </p:sp>
        <p:cxnSp>
          <p:nvCxnSpPr>
            <p:cNvPr id="379" name="Elbow Connector 39"/>
            <p:cNvCxnSpPr/>
            <p:nvPr/>
          </p:nvCxnSpPr>
          <p:spPr>
            <a:xfrm>
              <a:off x="2312640" y="2607840"/>
              <a:ext cx="2090880" cy="1690920"/>
            </a:xfrm>
            <a:prstGeom prst="bentConnector3">
              <a:avLst>
                <a:gd name="adj1" fmla="val 49991"/>
              </a:avLst>
            </a:prstGeom>
            <a:ln w="28440">
              <a:solidFill>
                <a:srgbClr val="000000"/>
              </a:solidFill>
              <a:round/>
              <a:tailEnd len="med" type="triangle" w="med"/>
            </a:ln>
          </p:spPr>
        </p:cxnSp>
        <p:sp>
          <p:nvSpPr>
            <p:cNvPr id="380" name="Left Brace 40"/>
            <p:cNvSpPr/>
            <p:nvPr/>
          </p:nvSpPr>
          <p:spPr>
            <a:xfrm>
              <a:off x="4534920" y="2952000"/>
              <a:ext cx="533520" cy="2741760"/>
            </a:xfrm>
            <a:custGeom>
              <a:avLst/>
              <a:gdLst>
                <a:gd name="textAreaLeft" fmla="*/ 340920 w 533520"/>
                <a:gd name="textAreaRight" fmla="*/ 533880 w 533520"/>
                <a:gd name="textAreaTop" fmla="*/ 80280 h 2741760"/>
                <a:gd name="textAreaBottom" fmla="*/ 2661480 h 2741760"/>
              </a:gdLst>
              <a:ahLst/>
              <a:rect l="textAreaLeft" t="textAreaTop" r="textAreaRight" b="textAreaBottom"/>
              <a:pathLst>
                <a:path w="21600" h="21600">
                  <a:moveTo>
                    <a:pt x="21600" y="0"/>
                  </a:moveTo>
                  <a:cubicBezTo>
                    <a:pt x="16200" y="0"/>
                    <a:pt x="10800" y="1014"/>
                    <a:pt x="10800" y="2027"/>
                  </a:cubicBezTo>
                  <a:lnTo>
                    <a:pt x="10800" y="8773"/>
                  </a:lnTo>
                  <a:cubicBezTo>
                    <a:pt x="10800" y="9787"/>
                    <a:pt x="5400" y="10800"/>
                    <a:pt x="0" y="10800"/>
                  </a:cubicBezTo>
                  <a:cubicBezTo>
                    <a:pt x="5400" y="10800"/>
                    <a:pt x="10800" y="11814"/>
                    <a:pt x="10800" y="12827"/>
                  </a:cubicBezTo>
                  <a:lnTo>
                    <a:pt x="10800" y="19573"/>
                  </a:lnTo>
                  <a:cubicBezTo>
                    <a:pt x="10800" y="2058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381" name="Elbow Connector 43"/>
            <p:cNvCxnSpPr/>
            <p:nvPr/>
          </p:nvCxnSpPr>
          <p:spPr>
            <a:xfrm flipV="1">
              <a:off x="2300400" y="4307040"/>
              <a:ext cx="2113920" cy="1000440"/>
            </a:xfrm>
            <a:prstGeom prst="bentConnector3">
              <a:avLst>
                <a:gd name="adj1" fmla="val 49991"/>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383" name=""/>
          <p:cNvSpPr txBox="1"/>
          <p:nvPr/>
        </p:nvSpPr>
        <p:spPr>
          <a:xfrm>
            <a:off x="609480" y="1447920"/>
            <a:ext cx="7918560" cy="24732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How can you change the reference type of an objec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lling </a:t>
            </a:r>
            <a:r>
              <a:rPr b="0" lang="en-US" sz="2400" spc="-1" strike="noStrike">
                <a:solidFill>
                  <a:srgbClr val="000000"/>
                </a:solidFill>
                <a:latin typeface="Courier New"/>
                <a:ea typeface="ＭＳ Ｐゴシック"/>
              </a:rPr>
              <a:t>getRefere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sting</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declaring a new reference and assigning the obje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4"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386"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ultiple Hierarchies</a:t>
            </a:r>
            <a:endParaRPr b="0" lang="en-US" sz="4400" spc="-1" strike="noStrike">
              <a:solidFill>
                <a:srgbClr val="000000"/>
              </a:solidFill>
              <a:latin typeface="Calibri"/>
            </a:endParaRPr>
          </a:p>
        </p:txBody>
      </p:sp>
      <p:grpSp>
        <p:nvGrpSpPr>
          <p:cNvPr id="388" name="Group 35"/>
          <p:cNvGrpSpPr/>
          <p:nvPr/>
        </p:nvGrpSpPr>
        <p:grpSpPr>
          <a:xfrm>
            <a:off x="527040" y="3252960"/>
            <a:ext cx="1238400" cy="747360"/>
            <a:chOff x="527040" y="3252960"/>
            <a:chExt cx="1238400" cy="747360"/>
          </a:xfrm>
        </p:grpSpPr>
        <p:sp>
          <p:nvSpPr>
            <p:cNvPr id="389" name="Round Same Side Corner Rectangle 4"/>
            <p:cNvSpPr/>
            <p:nvPr/>
          </p:nvSpPr>
          <p:spPr>
            <a:xfrm>
              <a:off x="568080" y="3252960"/>
              <a:ext cx="1100520" cy="581040"/>
            </a:xfrm>
            <a:custGeom>
              <a:avLst/>
              <a:gdLst>
                <a:gd name="textAreaLeft" fmla="*/ 30240 w 1100520"/>
                <a:gd name="textAreaRight" fmla="*/ 1070280 w 1100520"/>
                <a:gd name="textAreaTop" fmla="*/ 27000 h 581040"/>
                <a:gd name="textAreaBottom" fmla="*/ 581400 h 581040"/>
              </a:gdLst>
              <a:ahLst/>
              <a:rect l="textAreaLeft" t="textAreaTop" r="textAreaRight" b="textAreaBottom"/>
              <a:pathLst>
                <a:path w="883686" h="520158">
                  <a:moveTo>
                    <a:pt x="83272" y="0"/>
                  </a:moveTo>
                  <a:lnTo>
                    <a:pt x="800414" y="0"/>
                  </a:lnTo>
                  <a:lnTo>
                    <a:pt x="800414" y="0"/>
                  </a:lnTo>
                  <a:arcTo wR="83272" hR="83272" stAng="-5400000" swAng="5400000"/>
                  <a:lnTo>
                    <a:pt x="883686" y="520158"/>
                  </a:lnTo>
                  <a:lnTo>
                    <a:pt x="0" y="520158"/>
                  </a:lnTo>
                  <a:lnTo>
                    <a:pt x="0" y="83272"/>
                  </a:lnTo>
                  <a:lnTo>
                    <a:pt x="0" y="83272"/>
                  </a:lnTo>
                  <a:arcTo wR="83272" hR="8327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 Same Side Corner Rectangle 5"/>
            <p:cNvSpPr/>
            <p:nvPr/>
          </p:nvSpPr>
          <p:spPr>
            <a:xfrm flipV="1">
              <a:off x="569880" y="3547440"/>
              <a:ext cx="1098720" cy="452520"/>
            </a:xfrm>
            <a:custGeom>
              <a:avLst/>
              <a:gdLst>
                <a:gd name="textAreaLeft" fmla="*/ 20880 w 1098720"/>
                <a:gd name="textAreaRight" fmla="*/ 1077840 w 1098720"/>
                <a:gd name="textAreaTop" fmla="*/ 18360 h 452520"/>
                <a:gd name="textAreaBottom" fmla="*/ 452520 h 452520"/>
              </a:gdLst>
              <a:ahLst/>
              <a:rect l="textAreaLeft" t="textAreaTop" r="textAreaRight" b="textAreaBottom"/>
              <a:pathLst>
                <a:path w="882411" h="405040">
                  <a:moveTo>
                    <a:pt x="57763" y="0"/>
                  </a:moveTo>
                  <a:lnTo>
                    <a:pt x="824648" y="0"/>
                  </a:lnTo>
                  <a:lnTo>
                    <a:pt x="824648" y="0"/>
                  </a:lnTo>
                  <a:arcTo wR="57763" hR="57763" stAng="-5400000" swAng="5400000"/>
                  <a:lnTo>
                    <a:pt x="882411" y="405040"/>
                  </a:lnTo>
                  <a:lnTo>
                    <a:pt x="0" y="405040"/>
                  </a:lnTo>
                  <a:lnTo>
                    <a:pt x="0" y="57763"/>
                  </a:lnTo>
                  <a:lnTo>
                    <a:pt x="0" y="57763"/>
                  </a:lnTo>
                  <a:arcTo wR="57763" hR="5776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84"/>
            <p:cNvSpPr/>
            <p:nvPr/>
          </p:nvSpPr>
          <p:spPr>
            <a:xfrm>
              <a:off x="759600" y="3262680"/>
              <a:ext cx="53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392" name="TextBox 85"/>
            <p:cNvSpPr/>
            <p:nvPr/>
          </p:nvSpPr>
          <p:spPr>
            <a:xfrm>
              <a:off x="527040" y="3562200"/>
              <a:ext cx="123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393" name="Group 43"/>
          <p:cNvGrpSpPr/>
          <p:nvPr/>
        </p:nvGrpSpPr>
        <p:grpSpPr>
          <a:xfrm>
            <a:off x="2124000" y="3252960"/>
            <a:ext cx="1220760" cy="961920"/>
            <a:chOff x="2124000" y="3252960"/>
            <a:chExt cx="1220760" cy="961920"/>
          </a:xfrm>
        </p:grpSpPr>
        <p:sp>
          <p:nvSpPr>
            <p:cNvPr id="394" name="Round Same Side Corner Rectangle 12"/>
            <p:cNvSpPr/>
            <p:nvPr/>
          </p:nvSpPr>
          <p:spPr>
            <a:xfrm>
              <a:off x="2153880" y="3262320"/>
              <a:ext cx="1100160" cy="581040"/>
            </a:xfrm>
            <a:custGeom>
              <a:avLst/>
              <a:gdLst>
                <a:gd name="textAreaLeft" fmla="*/ 30240 w 1100160"/>
                <a:gd name="textAreaRight" fmla="*/ 1069920 w 1100160"/>
                <a:gd name="textAreaTop" fmla="*/ 27000 h 581040"/>
                <a:gd name="textAreaBottom" fmla="*/ 581400 h 581040"/>
              </a:gdLst>
              <a:ahLst/>
              <a:rect l="textAreaLeft" t="textAreaTop" r="textAreaRight" b="textAreaBottom"/>
              <a:pathLst>
                <a:path w="882248" h="520534">
                  <a:moveTo>
                    <a:pt x="83332" y="0"/>
                  </a:moveTo>
                  <a:lnTo>
                    <a:pt x="798916" y="0"/>
                  </a:lnTo>
                  <a:lnTo>
                    <a:pt x="798916" y="0"/>
                  </a:lnTo>
                  <a:arcTo wR="83332" hR="83332" stAng="-5400000" swAng="5400000"/>
                  <a:lnTo>
                    <a:pt x="882248" y="520534"/>
                  </a:lnTo>
                  <a:lnTo>
                    <a:pt x="0" y="520534"/>
                  </a:lnTo>
                  <a:lnTo>
                    <a:pt x="0" y="83332"/>
                  </a:lnTo>
                  <a:lnTo>
                    <a:pt x="0" y="83332"/>
                  </a:lnTo>
                  <a:arcTo wR="83332" hR="8333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 Same Side Corner Rectangle 13"/>
            <p:cNvSpPr/>
            <p:nvPr/>
          </p:nvSpPr>
          <p:spPr>
            <a:xfrm flipV="1">
              <a:off x="2153880" y="3557520"/>
              <a:ext cx="1100160" cy="657360"/>
            </a:xfrm>
            <a:custGeom>
              <a:avLst/>
              <a:gdLst>
                <a:gd name="textAreaLeft" fmla="*/ 30600 w 1100160"/>
                <a:gd name="textAreaRight" fmla="*/ 1069560 w 1100160"/>
                <a:gd name="textAreaTop" fmla="*/ 27720 h 657360"/>
                <a:gd name="textAreaBottom" fmla="*/ 658080 h 657360"/>
              </a:gdLst>
              <a:ahLst/>
              <a:rect l="textAreaLeft" t="textAreaTop" r="textAreaRight" b="textAreaBottom"/>
              <a:pathLst>
                <a:path w="882248" h="588801">
                  <a:moveTo>
                    <a:pt x="83969" y="0"/>
                  </a:moveTo>
                  <a:lnTo>
                    <a:pt x="798279" y="0"/>
                  </a:lnTo>
                  <a:lnTo>
                    <a:pt x="798279" y="0"/>
                  </a:lnTo>
                  <a:arcTo wR="83969" hR="83969" stAng="-5400000" swAng="5400000"/>
                  <a:lnTo>
                    <a:pt x="882248" y="588801"/>
                  </a:lnTo>
                  <a:lnTo>
                    <a:pt x="0" y="588801"/>
                  </a:lnTo>
                  <a:lnTo>
                    <a:pt x="0" y="83969"/>
                  </a:lnTo>
                  <a:lnTo>
                    <a:pt x="0" y="83969"/>
                  </a:lnTo>
                  <a:arcTo wR="83969" hR="839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84"/>
            <p:cNvSpPr/>
            <p:nvPr/>
          </p:nvSpPr>
          <p:spPr>
            <a:xfrm>
              <a:off x="2169360" y="32529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97" name="TextBox 85"/>
            <p:cNvSpPr/>
            <p:nvPr/>
          </p:nvSpPr>
          <p:spPr>
            <a:xfrm>
              <a:off x="2124000" y="3571920"/>
              <a:ext cx="1220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398" name="Group 30"/>
          <p:cNvGrpSpPr/>
          <p:nvPr/>
        </p:nvGrpSpPr>
        <p:grpSpPr>
          <a:xfrm>
            <a:off x="3701880" y="3252960"/>
            <a:ext cx="1435320" cy="732960"/>
            <a:chOff x="3701880" y="3252960"/>
            <a:chExt cx="1435320" cy="732960"/>
          </a:xfrm>
        </p:grpSpPr>
        <p:sp>
          <p:nvSpPr>
            <p:cNvPr id="399" name="Round Same Side Corner Rectangle 17"/>
            <p:cNvSpPr/>
            <p:nvPr/>
          </p:nvSpPr>
          <p:spPr>
            <a:xfrm>
              <a:off x="3706560" y="3262320"/>
              <a:ext cx="1430640" cy="581040"/>
            </a:xfrm>
            <a:custGeom>
              <a:avLst/>
              <a:gdLst>
                <a:gd name="textAreaLeft" fmla="*/ 27000 w 1430640"/>
                <a:gd name="textAreaRight" fmla="*/ 1403640 w 1430640"/>
                <a:gd name="textAreaTop" fmla="*/ 27000 h 581040"/>
                <a:gd name="textAreaBottom" fmla="*/ 581400 h 581040"/>
              </a:gdLst>
              <a:ahLst/>
              <a:rect l="textAreaLeft" t="textAreaTop" r="textAreaRight" b="textAreaBottom"/>
              <a:pathLst>
                <a:path w="1280019" h="521419">
                  <a:moveTo>
                    <a:pt x="83474" y="0"/>
                  </a:moveTo>
                  <a:lnTo>
                    <a:pt x="1196545" y="0"/>
                  </a:lnTo>
                  <a:lnTo>
                    <a:pt x="1196545" y="0"/>
                  </a:lnTo>
                  <a:arcTo wR="83474" hR="83474" stAng="-5400000" swAng="5400000"/>
                  <a:lnTo>
                    <a:pt x="1280019" y="521419"/>
                  </a:lnTo>
                  <a:lnTo>
                    <a:pt x="0" y="521419"/>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ound Same Side Corner Rectangle 18"/>
            <p:cNvSpPr/>
            <p:nvPr/>
          </p:nvSpPr>
          <p:spPr>
            <a:xfrm flipV="1">
              <a:off x="3706560" y="3556800"/>
              <a:ext cx="1430640" cy="428760"/>
            </a:xfrm>
            <a:custGeom>
              <a:avLst/>
              <a:gdLst>
                <a:gd name="textAreaLeft" fmla="*/ 17640 w 1430640"/>
                <a:gd name="textAreaRight" fmla="*/ 1413000 w 1430640"/>
                <a:gd name="textAreaTop" fmla="*/ 17640 h 428760"/>
                <a:gd name="textAreaBottom" fmla="*/ 429120 h 428760"/>
              </a:gdLst>
              <a:ahLst/>
              <a:rect l="textAreaLeft" t="textAreaTop" r="textAreaRight" b="textAreaBottom"/>
              <a:pathLst>
                <a:path w="1280019" h="384654">
                  <a:moveTo>
                    <a:pt x="54856" y="0"/>
                  </a:moveTo>
                  <a:lnTo>
                    <a:pt x="1225163" y="0"/>
                  </a:lnTo>
                  <a:lnTo>
                    <a:pt x="1225163" y="0"/>
                  </a:lnTo>
                  <a:arcTo wR="54856" hR="54856" stAng="-5400000" swAng="5400000"/>
                  <a:lnTo>
                    <a:pt x="1280019"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84"/>
            <p:cNvSpPr/>
            <p:nvPr/>
          </p:nvSpPr>
          <p:spPr>
            <a:xfrm>
              <a:off x="3764160" y="325296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02" name="TextBox 85"/>
            <p:cNvSpPr/>
            <p:nvPr/>
          </p:nvSpPr>
          <p:spPr>
            <a:xfrm>
              <a:off x="3701880" y="3571560"/>
              <a:ext cx="1239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35"/>
          <p:cNvGrpSpPr/>
          <p:nvPr/>
        </p:nvGrpSpPr>
        <p:grpSpPr>
          <a:xfrm>
            <a:off x="4408560" y="5060880"/>
            <a:ext cx="1238040" cy="757080"/>
            <a:chOff x="4408560" y="5060880"/>
            <a:chExt cx="1238040" cy="757080"/>
          </a:xfrm>
        </p:grpSpPr>
        <p:sp>
          <p:nvSpPr>
            <p:cNvPr id="404" name="Round Same Side Corner Rectangle 30"/>
            <p:cNvSpPr/>
            <p:nvPr/>
          </p:nvSpPr>
          <p:spPr>
            <a:xfrm>
              <a:off x="4449600" y="5070240"/>
              <a:ext cx="1100160" cy="581400"/>
            </a:xfrm>
            <a:custGeom>
              <a:avLst/>
              <a:gdLst>
                <a:gd name="textAreaLeft" fmla="*/ 30240 w 1100160"/>
                <a:gd name="textAreaRight" fmla="*/ 1069920 w 1100160"/>
                <a:gd name="textAreaTop" fmla="*/ 27000 h 581400"/>
                <a:gd name="textAreaBottom" fmla="*/ 581760 h 581400"/>
              </a:gdLst>
              <a:ahLst/>
              <a:rect l="textAreaLeft" t="textAreaTop" r="textAreaRight" b="textAreaBottom"/>
              <a:pathLst>
                <a:path w="883686" h="520063">
                  <a:moveTo>
                    <a:pt x="83257" y="0"/>
                  </a:moveTo>
                  <a:lnTo>
                    <a:pt x="800429" y="0"/>
                  </a:lnTo>
                  <a:lnTo>
                    <a:pt x="800429" y="0"/>
                  </a:lnTo>
                  <a:arcTo wR="83257" hR="83257" stAng="-5400000" swAng="5400000"/>
                  <a:lnTo>
                    <a:pt x="883686" y="520063"/>
                  </a:lnTo>
                  <a:lnTo>
                    <a:pt x="0" y="520063"/>
                  </a:lnTo>
                  <a:lnTo>
                    <a:pt x="0" y="83257"/>
                  </a:lnTo>
                  <a:lnTo>
                    <a:pt x="0" y="83257"/>
                  </a:lnTo>
                  <a:arcTo wR="83257" hR="832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ound Same Side Corner Rectangle 31"/>
            <p:cNvSpPr/>
            <p:nvPr/>
          </p:nvSpPr>
          <p:spPr>
            <a:xfrm flipV="1">
              <a:off x="4451400" y="5365080"/>
              <a:ext cx="1098360" cy="452520"/>
            </a:xfrm>
            <a:custGeom>
              <a:avLst/>
              <a:gdLst>
                <a:gd name="textAreaLeft" fmla="*/ 20880 w 1098360"/>
                <a:gd name="textAreaRight" fmla="*/ 1077480 w 1098360"/>
                <a:gd name="textAreaTop" fmla="*/ 18360 h 452520"/>
                <a:gd name="textAreaBottom" fmla="*/ 452520 h 452520"/>
              </a:gdLst>
              <a:ahLst/>
              <a:rect l="textAreaLeft" t="textAreaTop" r="textAreaRight" b="textAreaBottom"/>
              <a:pathLst>
                <a:path w="882411" h="404968">
                  <a:moveTo>
                    <a:pt x="57752" y="0"/>
                  </a:moveTo>
                  <a:lnTo>
                    <a:pt x="824659" y="0"/>
                  </a:lnTo>
                  <a:lnTo>
                    <a:pt x="824659" y="0"/>
                  </a:lnTo>
                  <a:arcTo wR="57752" hR="57752" stAng="-5400000" swAng="5400000"/>
                  <a:lnTo>
                    <a:pt x="882411" y="404968"/>
                  </a:lnTo>
                  <a:lnTo>
                    <a:pt x="0" y="404968"/>
                  </a:lnTo>
                  <a:lnTo>
                    <a:pt x="0" y="57752"/>
                  </a:lnTo>
                  <a:lnTo>
                    <a:pt x="0" y="57752"/>
                  </a:lnTo>
                  <a:arcTo wR="57752" hR="5775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Box 84"/>
            <p:cNvSpPr/>
            <p:nvPr/>
          </p:nvSpPr>
          <p:spPr>
            <a:xfrm>
              <a:off x="4595400" y="506088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07" name="TextBox 85"/>
            <p:cNvSpPr/>
            <p:nvPr/>
          </p:nvSpPr>
          <p:spPr>
            <a:xfrm>
              <a:off x="4408560" y="538020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08" name="Group 43"/>
          <p:cNvGrpSpPr/>
          <p:nvPr/>
        </p:nvGrpSpPr>
        <p:grpSpPr>
          <a:xfrm>
            <a:off x="5889600" y="5075280"/>
            <a:ext cx="1523880" cy="954000"/>
            <a:chOff x="5889600" y="5075280"/>
            <a:chExt cx="1523880" cy="954000"/>
          </a:xfrm>
        </p:grpSpPr>
        <p:sp>
          <p:nvSpPr>
            <p:cNvPr id="409" name="Round Same Side Corner Rectangle 35"/>
            <p:cNvSpPr/>
            <p:nvPr/>
          </p:nvSpPr>
          <p:spPr>
            <a:xfrm>
              <a:off x="5919480" y="5075280"/>
              <a:ext cx="1258920" cy="581040"/>
            </a:xfrm>
            <a:custGeom>
              <a:avLst/>
              <a:gdLst>
                <a:gd name="textAreaLeft" fmla="*/ 30240 w 1258920"/>
                <a:gd name="textAreaRight" fmla="*/ 1228680 w 1258920"/>
                <a:gd name="textAreaTop" fmla="*/ 27000 h 581040"/>
                <a:gd name="textAreaBottom" fmla="*/ 581400 h 581040"/>
              </a:gdLst>
              <a:ahLst/>
              <a:rect l="textAreaLeft" t="textAreaTop" r="textAreaRight" b="textAreaBottom"/>
              <a:pathLst>
                <a:path w="1009731" h="520031">
                  <a:moveTo>
                    <a:pt x="83252" y="0"/>
                  </a:moveTo>
                  <a:lnTo>
                    <a:pt x="926479" y="0"/>
                  </a:lnTo>
                  <a:lnTo>
                    <a:pt x="926479" y="0"/>
                  </a:lnTo>
                  <a:arcTo wR="83252" hR="83252" stAng="-5400000" swAng="5400000"/>
                  <a:lnTo>
                    <a:pt x="1009731" y="520031"/>
                  </a:lnTo>
                  <a:lnTo>
                    <a:pt x="0" y="520031"/>
                  </a:lnTo>
                  <a:lnTo>
                    <a:pt x="0" y="83252"/>
                  </a:lnTo>
                  <a:lnTo>
                    <a:pt x="0" y="83252"/>
                  </a:lnTo>
                  <a:arcTo wR="83252" hR="8325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ound Same Side Corner Rectangle 36"/>
            <p:cNvSpPr/>
            <p:nvPr/>
          </p:nvSpPr>
          <p:spPr>
            <a:xfrm flipV="1">
              <a:off x="5919480" y="5371920"/>
              <a:ext cx="1258920" cy="657360"/>
            </a:xfrm>
            <a:custGeom>
              <a:avLst/>
              <a:gdLst>
                <a:gd name="textAreaLeft" fmla="*/ 30600 w 1258920"/>
                <a:gd name="textAreaRight" fmla="*/ 1228320 w 1258920"/>
                <a:gd name="textAreaTop" fmla="*/ 27720 h 657360"/>
                <a:gd name="textAreaBottom" fmla="*/ 658080 h 657360"/>
              </a:gdLst>
              <a:ahLst/>
              <a:rect l="textAreaLeft" t="textAreaTop" r="textAreaRight" b="textAreaBottom"/>
              <a:pathLst>
                <a:path w="1009731" h="588232">
                  <a:moveTo>
                    <a:pt x="83888" y="0"/>
                  </a:moveTo>
                  <a:lnTo>
                    <a:pt x="925843" y="0"/>
                  </a:lnTo>
                  <a:lnTo>
                    <a:pt x="925843" y="0"/>
                  </a:lnTo>
                  <a:arcTo wR="83888" hR="83888" stAng="-5400000" swAng="5400000"/>
                  <a:lnTo>
                    <a:pt x="1009731" y="588232"/>
                  </a:lnTo>
                  <a:lnTo>
                    <a:pt x="0" y="588232"/>
                  </a:lnTo>
                  <a:lnTo>
                    <a:pt x="0" y="83888"/>
                  </a:lnTo>
                  <a:lnTo>
                    <a:pt x="0" y="83888"/>
                  </a:lnTo>
                  <a:arcTo wR="83888" hR="838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84"/>
            <p:cNvSpPr/>
            <p:nvPr/>
          </p:nvSpPr>
          <p:spPr>
            <a:xfrm>
              <a:off x="5934960" y="5084640"/>
              <a:ext cx="14785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12" name="TextBox 85"/>
            <p:cNvSpPr/>
            <p:nvPr/>
          </p:nvSpPr>
          <p:spPr>
            <a:xfrm>
              <a:off x="5889600" y="5385600"/>
              <a:ext cx="122076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30"/>
          <p:cNvGrpSpPr/>
          <p:nvPr/>
        </p:nvGrpSpPr>
        <p:grpSpPr>
          <a:xfrm>
            <a:off x="7526160" y="5070600"/>
            <a:ext cx="1239840" cy="732960"/>
            <a:chOff x="7526160" y="5070600"/>
            <a:chExt cx="1239840" cy="732960"/>
          </a:xfrm>
        </p:grpSpPr>
        <p:sp>
          <p:nvSpPr>
            <p:cNvPr id="414" name="Round Same Side Corner Rectangle 40"/>
            <p:cNvSpPr/>
            <p:nvPr/>
          </p:nvSpPr>
          <p:spPr>
            <a:xfrm>
              <a:off x="7530840" y="5079960"/>
              <a:ext cx="1100160" cy="581040"/>
            </a:xfrm>
            <a:custGeom>
              <a:avLst/>
              <a:gdLst>
                <a:gd name="textAreaLeft" fmla="*/ 27000 w 1100160"/>
                <a:gd name="textAreaRight" fmla="*/ 1073160 w 1100160"/>
                <a:gd name="textAreaTop" fmla="*/ 27000 h 581040"/>
                <a:gd name="textAreaBottom" fmla="*/ 581400 h 581040"/>
              </a:gdLst>
              <a:ahLst/>
              <a:rect l="textAreaLeft" t="textAreaTop" r="textAreaRight" b="textAreaBottom"/>
              <a:pathLst>
                <a:path w="983977" h="521420">
                  <a:moveTo>
                    <a:pt x="83474" y="0"/>
                  </a:moveTo>
                  <a:lnTo>
                    <a:pt x="900503" y="0"/>
                  </a:lnTo>
                  <a:lnTo>
                    <a:pt x="900503" y="0"/>
                  </a:lnTo>
                  <a:arcTo wR="83474" hR="83474" stAng="-5400000" swAng="5400000"/>
                  <a:lnTo>
                    <a:pt x="983977" y="521420"/>
                  </a:lnTo>
                  <a:lnTo>
                    <a:pt x="0" y="521420"/>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ound Same Side Corner Rectangle 41"/>
            <p:cNvSpPr/>
            <p:nvPr/>
          </p:nvSpPr>
          <p:spPr>
            <a:xfrm flipV="1">
              <a:off x="7530840" y="5374440"/>
              <a:ext cx="1100160" cy="428760"/>
            </a:xfrm>
            <a:custGeom>
              <a:avLst/>
              <a:gdLst>
                <a:gd name="textAreaLeft" fmla="*/ 17640 w 1100160"/>
                <a:gd name="textAreaRight" fmla="*/ 1082520 w 1100160"/>
                <a:gd name="textAreaTop" fmla="*/ 17640 h 428760"/>
                <a:gd name="textAreaBottom" fmla="*/ 429120 h 428760"/>
              </a:gdLst>
              <a:ahLst/>
              <a:rect l="textAreaLeft" t="textAreaTop" r="textAreaRight" b="textAreaBottom"/>
              <a:pathLst>
                <a:path w="983977" h="384654">
                  <a:moveTo>
                    <a:pt x="54856" y="0"/>
                  </a:moveTo>
                  <a:lnTo>
                    <a:pt x="929121" y="0"/>
                  </a:lnTo>
                  <a:lnTo>
                    <a:pt x="929121" y="0"/>
                  </a:lnTo>
                  <a:arcTo wR="54856" hR="54856" stAng="-5400000" swAng="5400000"/>
                  <a:lnTo>
                    <a:pt x="983977"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84"/>
            <p:cNvSpPr/>
            <p:nvPr/>
          </p:nvSpPr>
          <p:spPr>
            <a:xfrm>
              <a:off x="7552080" y="507060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17" name="TextBox 85"/>
            <p:cNvSpPr/>
            <p:nvPr/>
          </p:nvSpPr>
          <p:spPr>
            <a:xfrm>
              <a:off x="7526160" y="5389200"/>
              <a:ext cx="12398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18" name="Elbow Connector 54"/>
          <p:cNvCxnSpPr/>
          <p:nvPr/>
        </p:nvCxnSpPr>
        <p:spPr>
          <a:xfrm rot="5400000">
            <a:off x="1725120" y="2241360"/>
            <a:ext cx="486360" cy="1556640"/>
          </a:xfrm>
          <a:prstGeom prst="bentConnector3">
            <a:avLst>
              <a:gd name="adj1" fmla="val 50000"/>
            </a:avLst>
          </a:prstGeom>
          <a:ln w="28440">
            <a:solidFill>
              <a:srgbClr val="c0504d"/>
            </a:solidFill>
            <a:round/>
            <a:tailEnd len="med" type="triangle" w="med"/>
          </a:ln>
        </p:spPr>
      </p:cxnSp>
      <p:cxnSp>
        <p:nvCxnSpPr>
          <p:cNvPr id="419" name="Elbow Connector 55"/>
          <p:cNvCxnSpPr/>
          <p:nvPr/>
        </p:nvCxnSpPr>
        <p:spPr>
          <a:xfrm flipH="1" rot="16200000">
            <a:off x="3327120" y="2196000"/>
            <a:ext cx="486360" cy="1647000"/>
          </a:xfrm>
          <a:prstGeom prst="bentConnector3">
            <a:avLst>
              <a:gd name="adj1" fmla="val 50000"/>
            </a:avLst>
          </a:prstGeom>
          <a:ln w="28440">
            <a:solidFill>
              <a:srgbClr val="c0504d"/>
            </a:solidFill>
            <a:round/>
            <a:tailEnd len="med" type="triangle" w="med"/>
          </a:ln>
        </p:spPr>
      </p:cxnSp>
      <p:cxnSp>
        <p:nvCxnSpPr>
          <p:cNvPr id="420" name="Straight Arrow Connector 57"/>
          <p:cNvCxnSpPr/>
          <p:nvPr/>
        </p:nvCxnSpPr>
        <p:spPr>
          <a:xfrm flipH="1">
            <a:off x="2747160" y="2728800"/>
            <a:ext cx="2520" cy="526320"/>
          </a:xfrm>
          <a:prstGeom prst="straightConnector1">
            <a:avLst/>
          </a:prstGeom>
          <a:ln w="28440">
            <a:solidFill>
              <a:srgbClr val="c0504d"/>
            </a:solidFill>
            <a:miter/>
            <a:tailEnd len="med" type="triangle" w="med"/>
          </a:ln>
        </p:spPr>
      </p:cxnSp>
      <p:grpSp>
        <p:nvGrpSpPr>
          <p:cNvPr id="421" name="Group 31"/>
          <p:cNvGrpSpPr/>
          <p:nvPr/>
        </p:nvGrpSpPr>
        <p:grpSpPr>
          <a:xfrm>
            <a:off x="2139840" y="1327320"/>
            <a:ext cx="1211400" cy="1452240"/>
            <a:chOff x="2139840" y="1327320"/>
            <a:chExt cx="1211400" cy="1452240"/>
          </a:xfrm>
        </p:grpSpPr>
        <p:sp>
          <p:nvSpPr>
            <p:cNvPr id="422" name="Round Same Side Corner Rectangle 22"/>
            <p:cNvSpPr/>
            <p:nvPr/>
          </p:nvSpPr>
          <p:spPr>
            <a:xfrm>
              <a:off x="2147760" y="1336680"/>
              <a:ext cx="1106640" cy="580680"/>
            </a:xfrm>
            <a:custGeom>
              <a:avLst/>
              <a:gdLst>
                <a:gd name="textAreaLeft" fmla="*/ 27000 w 1106640"/>
                <a:gd name="textAreaRight" fmla="*/ 1079640 w 1106640"/>
                <a:gd name="textAreaTop" fmla="*/ 27000 h 580680"/>
                <a:gd name="textAreaBottom" fmla="*/ 581040 h 580680"/>
              </a:gdLst>
              <a:ahLst/>
              <a:rect l="textAreaLeft" t="textAreaTop" r="textAreaRight" b="textAreaBottom"/>
              <a:pathLst>
                <a:path w="991722" h="519937">
                  <a:moveTo>
                    <a:pt x="83237" y="0"/>
                  </a:moveTo>
                  <a:lnTo>
                    <a:pt x="908485" y="0"/>
                  </a:lnTo>
                  <a:lnTo>
                    <a:pt x="908485" y="0"/>
                  </a:lnTo>
                  <a:arcTo wR="83237" hR="83237" stAng="-5400000" swAng="5400000"/>
                  <a:lnTo>
                    <a:pt x="991722" y="519937"/>
                  </a:lnTo>
                  <a:lnTo>
                    <a:pt x="0" y="519937"/>
                  </a:lnTo>
                  <a:lnTo>
                    <a:pt x="0" y="83237"/>
                  </a:lnTo>
                  <a:lnTo>
                    <a:pt x="0" y="83237"/>
                  </a:lnTo>
                  <a:arcTo wR="83237" hR="8323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ound Same Side Corner Rectangle 23"/>
            <p:cNvSpPr/>
            <p:nvPr/>
          </p:nvSpPr>
          <p:spPr>
            <a:xfrm flipV="1">
              <a:off x="2149200" y="1631880"/>
              <a:ext cx="1105200" cy="1147680"/>
            </a:xfrm>
            <a:custGeom>
              <a:avLst/>
              <a:gdLst>
                <a:gd name="textAreaLeft" fmla="*/ 46080 w 1105200"/>
                <a:gd name="textAreaRight" fmla="*/ 1059120 w 1105200"/>
                <a:gd name="textAreaTop" fmla="*/ 46440 h 1147680"/>
                <a:gd name="textAreaBottom" fmla="*/ 1148400 h 1147680"/>
              </a:gdLst>
              <a:ahLst/>
              <a:rect l="textAreaLeft" t="textAreaTop" r="textAreaRight" b="textAreaBottom"/>
              <a:pathLst>
                <a:path w="990300" h="1027090">
                  <a:moveTo>
                    <a:pt x="141227" y="0"/>
                  </a:moveTo>
                  <a:lnTo>
                    <a:pt x="849073" y="0"/>
                  </a:lnTo>
                  <a:lnTo>
                    <a:pt x="849073" y="0"/>
                  </a:lnTo>
                  <a:arcTo wR="141227" hR="141227" stAng="-5400000" swAng="5400000"/>
                  <a:lnTo>
                    <a:pt x="990300" y="1027090"/>
                  </a:lnTo>
                  <a:lnTo>
                    <a:pt x="0" y="1027090"/>
                  </a:lnTo>
                  <a:lnTo>
                    <a:pt x="0" y="141227"/>
                  </a:lnTo>
                  <a:lnTo>
                    <a:pt x="0" y="141227"/>
                  </a:lnTo>
                  <a:arcTo wR="141227" hR="14122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Box 84"/>
            <p:cNvSpPr/>
            <p:nvPr/>
          </p:nvSpPr>
          <p:spPr>
            <a:xfrm>
              <a:off x="2178000" y="13273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25" name="TextBox 85"/>
            <p:cNvSpPr/>
            <p:nvPr/>
          </p:nvSpPr>
          <p:spPr>
            <a:xfrm>
              <a:off x="2139840" y="1613160"/>
              <a:ext cx="12114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26" name="Elbow Connector 58"/>
          <p:cNvCxnSpPr/>
          <p:nvPr/>
        </p:nvCxnSpPr>
        <p:spPr>
          <a:xfrm rot="5400000">
            <a:off x="5563800" y="4051080"/>
            <a:ext cx="486360" cy="1556640"/>
          </a:xfrm>
          <a:prstGeom prst="bentConnector3">
            <a:avLst>
              <a:gd name="adj1" fmla="val 50000"/>
            </a:avLst>
          </a:prstGeom>
          <a:ln w="28440">
            <a:solidFill>
              <a:srgbClr val="c0504d"/>
            </a:solidFill>
            <a:round/>
            <a:tailEnd len="med" type="triangle" w="med"/>
          </a:ln>
        </p:spPr>
      </p:cxnSp>
      <p:cxnSp>
        <p:nvCxnSpPr>
          <p:cNvPr id="427" name="Elbow Connector 59"/>
          <p:cNvCxnSpPr/>
          <p:nvPr/>
        </p:nvCxnSpPr>
        <p:spPr>
          <a:xfrm flipH="1" rot="16200000">
            <a:off x="7096680" y="4074840"/>
            <a:ext cx="486360" cy="1508760"/>
          </a:xfrm>
          <a:prstGeom prst="bentConnector3">
            <a:avLst>
              <a:gd name="adj1" fmla="val 50000"/>
            </a:avLst>
          </a:prstGeom>
          <a:ln w="28440">
            <a:solidFill>
              <a:srgbClr val="c0504d"/>
            </a:solidFill>
            <a:round/>
            <a:tailEnd len="med" type="triangle" w="med"/>
          </a:ln>
        </p:spPr>
      </p:cxnSp>
      <p:cxnSp>
        <p:nvCxnSpPr>
          <p:cNvPr id="428" name="Straight Arrow Connector 60"/>
          <p:cNvCxnSpPr/>
          <p:nvPr/>
        </p:nvCxnSpPr>
        <p:spPr>
          <a:xfrm flipH="1">
            <a:off x="6586200" y="4541760"/>
            <a:ext cx="2160" cy="526320"/>
          </a:xfrm>
          <a:prstGeom prst="straightConnector1">
            <a:avLst/>
          </a:prstGeom>
          <a:ln w="28440">
            <a:solidFill>
              <a:srgbClr val="c0504d"/>
            </a:solidFill>
            <a:miter/>
            <a:tailEnd len="med" type="triangle" w="med"/>
          </a:ln>
        </p:spPr>
      </p:cxnSp>
      <p:grpSp>
        <p:nvGrpSpPr>
          <p:cNvPr id="429" name="Group 31"/>
          <p:cNvGrpSpPr/>
          <p:nvPr/>
        </p:nvGrpSpPr>
        <p:grpSpPr>
          <a:xfrm>
            <a:off x="5996160" y="3141720"/>
            <a:ext cx="1252440" cy="1450800"/>
            <a:chOff x="5996160" y="3141720"/>
            <a:chExt cx="1252440" cy="1450800"/>
          </a:xfrm>
        </p:grpSpPr>
        <p:sp>
          <p:nvSpPr>
            <p:cNvPr id="430" name="Round Same Side Corner Rectangle 45"/>
            <p:cNvSpPr/>
            <p:nvPr/>
          </p:nvSpPr>
          <p:spPr>
            <a:xfrm>
              <a:off x="6016680" y="3151080"/>
              <a:ext cx="1106640" cy="581040"/>
            </a:xfrm>
            <a:custGeom>
              <a:avLst/>
              <a:gdLst>
                <a:gd name="textAreaLeft" fmla="*/ 27000 w 1106640"/>
                <a:gd name="textAreaRight" fmla="*/ 1079640 w 1106640"/>
                <a:gd name="textAreaTop" fmla="*/ 27000 h 581040"/>
                <a:gd name="textAreaBottom" fmla="*/ 581400 h 581040"/>
              </a:gdLst>
              <a:ahLst/>
              <a:rect l="textAreaLeft" t="textAreaTop" r="textAreaRight" b="textAreaBottom"/>
              <a:pathLst>
                <a:path w="991088" h="520506">
                  <a:moveTo>
                    <a:pt x="83328" y="0"/>
                  </a:moveTo>
                  <a:lnTo>
                    <a:pt x="907760" y="0"/>
                  </a:lnTo>
                  <a:lnTo>
                    <a:pt x="907760" y="0"/>
                  </a:lnTo>
                  <a:arcTo wR="83328" hR="83328" stAng="-5400000" swAng="5400000"/>
                  <a:lnTo>
                    <a:pt x="991088" y="520506"/>
                  </a:lnTo>
                  <a:lnTo>
                    <a:pt x="0" y="520506"/>
                  </a:lnTo>
                  <a:lnTo>
                    <a:pt x="0" y="83328"/>
                  </a:lnTo>
                  <a:lnTo>
                    <a:pt x="0" y="83328"/>
                  </a:lnTo>
                  <a:arcTo wR="83328" hR="8332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 Same Side Corner Rectangle 46"/>
            <p:cNvSpPr/>
            <p:nvPr/>
          </p:nvSpPr>
          <p:spPr>
            <a:xfrm flipV="1">
              <a:off x="6016680" y="3446280"/>
              <a:ext cx="1106640" cy="1146240"/>
            </a:xfrm>
            <a:custGeom>
              <a:avLst/>
              <a:gdLst>
                <a:gd name="textAreaLeft" fmla="*/ 46080 w 1106640"/>
                <a:gd name="textAreaRight" fmla="*/ 1060560 w 1106640"/>
                <a:gd name="textAreaTop" fmla="*/ 46440 h 1146240"/>
                <a:gd name="textAreaBottom" fmla="*/ 1146960 h 1146240"/>
              </a:gdLst>
              <a:ahLst/>
              <a:rect l="textAreaLeft" t="textAreaTop" r="textAreaRight" b="textAreaBottom"/>
              <a:pathLst>
                <a:path w="991088" h="1026791">
                  <a:moveTo>
                    <a:pt x="141339" y="0"/>
                  </a:moveTo>
                  <a:lnTo>
                    <a:pt x="849749" y="0"/>
                  </a:lnTo>
                  <a:lnTo>
                    <a:pt x="849749" y="0"/>
                  </a:lnTo>
                  <a:arcTo wR="141339" hR="141339" stAng="-5400000" swAng="5400000"/>
                  <a:lnTo>
                    <a:pt x="991088" y="1026791"/>
                  </a:lnTo>
                  <a:lnTo>
                    <a:pt x="0" y="1026791"/>
                  </a:lnTo>
                  <a:lnTo>
                    <a:pt x="0" y="141339"/>
                  </a:lnTo>
                  <a:lnTo>
                    <a:pt x="0" y="141339"/>
                  </a:lnTo>
                  <a:arcTo wR="141339" hR="1413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Box 84"/>
            <p:cNvSpPr/>
            <p:nvPr/>
          </p:nvSpPr>
          <p:spPr>
            <a:xfrm>
              <a:off x="5996160" y="3141720"/>
              <a:ext cx="1021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33" name="TextBox 85"/>
            <p:cNvSpPr/>
            <p:nvPr/>
          </p:nvSpPr>
          <p:spPr>
            <a:xfrm>
              <a:off x="6001560" y="3460680"/>
              <a:ext cx="124704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Interfaces</a:t>
            </a:r>
            <a:endParaRPr b="0" lang="en-US" sz="4400" spc="-1" strike="noStrike">
              <a:solidFill>
                <a:srgbClr val="000000"/>
              </a:solidFill>
              <a:latin typeface="Calibri"/>
            </a:endParaRPr>
          </a:p>
        </p:txBody>
      </p:sp>
      <p:sp>
        <p:nvSpPr>
          <p:cNvPr id="435" name="Rectangle 50"/>
          <p:cNvSpPr/>
          <p:nvPr/>
        </p:nvSpPr>
        <p:spPr>
          <a:xfrm>
            <a:off x="4297320" y="4614840"/>
            <a:ext cx="3059280" cy="155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6" name="Rectangle 49"/>
          <p:cNvSpPr/>
          <p:nvPr/>
        </p:nvSpPr>
        <p:spPr>
          <a:xfrm>
            <a:off x="461880" y="2846520"/>
            <a:ext cx="3059280" cy="155232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437" name="Group 35"/>
          <p:cNvGrpSpPr/>
          <p:nvPr/>
        </p:nvGrpSpPr>
        <p:grpSpPr>
          <a:xfrm>
            <a:off x="533520" y="3166920"/>
            <a:ext cx="1242720" cy="928440"/>
            <a:chOff x="533520" y="3166920"/>
            <a:chExt cx="1242720" cy="928440"/>
          </a:xfrm>
        </p:grpSpPr>
        <p:sp>
          <p:nvSpPr>
            <p:cNvPr id="438" name="Round Same Side Corner Rectangle 4"/>
            <p:cNvSpPr/>
            <p:nvPr/>
          </p:nvSpPr>
          <p:spPr>
            <a:xfrm>
              <a:off x="574560" y="3190680"/>
              <a:ext cx="1103040" cy="584280"/>
            </a:xfrm>
            <a:custGeom>
              <a:avLst/>
              <a:gdLst>
                <a:gd name="textAreaLeft" fmla="*/ 30240 w 1103040"/>
                <a:gd name="textAreaRight" fmla="*/ 1072800 w 1103040"/>
                <a:gd name="textAreaTop" fmla="*/ 27360 h 584280"/>
                <a:gd name="textAreaBottom" fmla="*/ 584640 h 584280"/>
              </a:gdLst>
              <a:ahLst/>
              <a:rect l="textAreaLeft" t="textAreaTop" r="textAreaRight" b="textAreaBottom"/>
              <a:pathLst>
                <a:path w="882841" h="520691">
                  <a:moveTo>
                    <a:pt x="83357" y="0"/>
                  </a:moveTo>
                  <a:lnTo>
                    <a:pt x="799484" y="0"/>
                  </a:lnTo>
                  <a:lnTo>
                    <a:pt x="799484" y="0"/>
                  </a:lnTo>
                  <a:arcTo wR="83357" hR="83357" stAng="-5400000" swAng="5400000"/>
                  <a:lnTo>
                    <a:pt x="882841" y="520691"/>
                  </a:lnTo>
                  <a:lnTo>
                    <a:pt x="0" y="520691"/>
                  </a:lnTo>
                  <a:lnTo>
                    <a:pt x="0" y="83357"/>
                  </a:lnTo>
                  <a:lnTo>
                    <a:pt x="0" y="83357"/>
                  </a:lnTo>
                  <a:arcTo wR="83357" hR="833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ound Same Side Corner Rectangle 5"/>
            <p:cNvSpPr/>
            <p:nvPr/>
          </p:nvSpPr>
          <p:spPr>
            <a:xfrm flipV="1">
              <a:off x="565200" y="3472560"/>
              <a:ext cx="1123920" cy="622440"/>
            </a:xfrm>
            <a:custGeom>
              <a:avLst/>
              <a:gdLst>
                <a:gd name="textAreaLeft" fmla="*/ 28800 w 1123920"/>
                <a:gd name="textAreaRight" fmla="*/ 1095120 w 1123920"/>
                <a:gd name="textAreaTop" fmla="*/ 25560 h 622440"/>
                <a:gd name="textAreaBottom" fmla="*/ 622440 h 622440"/>
              </a:gdLst>
              <a:ahLst/>
              <a:rect l="textAreaLeft" t="textAreaTop" r="textAreaRight" b="textAreaBottom"/>
              <a:pathLst>
                <a:path w="899354" h="554649">
                  <a:moveTo>
                    <a:pt x="79098" y="0"/>
                  </a:moveTo>
                  <a:lnTo>
                    <a:pt x="820256" y="0"/>
                  </a:lnTo>
                  <a:lnTo>
                    <a:pt x="820256" y="0"/>
                  </a:lnTo>
                  <a:arcTo wR="79098" hR="79098" stAng="-5400000" swAng="5400000"/>
                  <a:lnTo>
                    <a:pt x="899354" y="554649"/>
                  </a:lnTo>
                  <a:lnTo>
                    <a:pt x="0" y="554649"/>
                  </a:lnTo>
                  <a:lnTo>
                    <a:pt x="0" y="79098"/>
                  </a:lnTo>
                  <a:lnTo>
                    <a:pt x="0" y="79098"/>
                  </a:lnTo>
                  <a:arcTo wR="79098" hR="7909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Box 84"/>
            <p:cNvSpPr/>
            <p:nvPr/>
          </p:nvSpPr>
          <p:spPr>
            <a:xfrm>
              <a:off x="770760" y="3166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441" name="TextBox 85"/>
            <p:cNvSpPr/>
            <p:nvPr/>
          </p:nvSpPr>
          <p:spPr>
            <a:xfrm>
              <a:off x="533520" y="3483000"/>
              <a:ext cx="12427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442" name="Group 43"/>
          <p:cNvGrpSpPr/>
          <p:nvPr/>
        </p:nvGrpSpPr>
        <p:grpSpPr>
          <a:xfrm>
            <a:off x="2138400" y="3173400"/>
            <a:ext cx="1225440" cy="1095480"/>
            <a:chOff x="2138400" y="3173400"/>
            <a:chExt cx="1225440" cy="1095480"/>
          </a:xfrm>
        </p:grpSpPr>
        <p:sp>
          <p:nvSpPr>
            <p:cNvPr id="443" name="Round Same Side Corner Rectangle 12"/>
            <p:cNvSpPr/>
            <p:nvPr/>
          </p:nvSpPr>
          <p:spPr>
            <a:xfrm>
              <a:off x="2168280" y="31827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2624" h="520804">
                  <a:moveTo>
                    <a:pt x="83376" y="0"/>
                  </a:moveTo>
                  <a:lnTo>
                    <a:pt x="799248" y="0"/>
                  </a:lnTo>
                  <a:lnTo>
                    <a:pt x="799248" y="0"/>
                  </a:lnTo>
                  <a:arcTo wR="83376" hR="83376" stAng="-5400000" swAng="5400000"/>
                  <a:lnTo>
                    <a:pt x="882624" y="520804"/>
                  </a:lnTo>
                  <a:lnTo>
                    <a:pt x="0" y="520804"/>
                  </a:lnTo>
                  <a:lnTo>
                    <a:pt x="0" y="83376"/>
                  </a:lnTo>
                  <a:lnTo>
                    <a:pt x="0" y="83376"/>
                  </a:lnTo>
                  <a:arcTo wR="83376" hR="8337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ound Same Side Corner Rectangle 13"/>
            <p:cNvSpPr/>
            <p:nvPr/>
          </p:nvSpPr>
          <p:spPr>
            <a:xfrm flipV="1">
              <a:off x="2168280" y="3479760"/>
              <a:ext cx="1104840" cy="789120"/>
            </a:xfrm>
            <a:custGeom>
              <a:avLst/>
              <a:gdLst>
                <a:gd name="textAreaLeft" fmla="*/ 36720 w 1104840"/>
                <a:gd name="textAreaRight" fmla="*/ 1068120 w 1104840"/>
                <a:gd name="textAreaTop" fmla="*/ 32760 h 789120"/>
                <a:gd name="textAreaBottom" fmla="*/ 789480 h 789120"/>
              </a:gdLst>
              <a:ahLst/>
              <a:rect l="textAreaLeft" t="textAreaTop" r="textAreaRight" b="textAreaBottom"/>
              <a:pathLst>
                <a:path w="882624" h="703369">
                  <a:moveTo>
                    <a:pt x="100307" y="0"/>
                  </a:moveTo>
                  <a:lnTo>
                    <a:pt x="782317" y="0"/>
                  </a:lnTo>
                  <a:lnTo>
                    <a:pt x="782317" y="0"/>
                  </a:lnTo>
                  <a:arcTo wR="100307" hR="100307" stAng="-5400000" swAng="5400000"/>
                  <a:lnTo>
                    <a:pt x="882624" y="703369"/>
                  </a:lnTo>
                  <a:lnTo>
                    <a:pt x="0" y="703369"/>
                  </a:lnTo>
                  <a:lnTo>
                    <a:pt x="0" y="100307"/>
                  </a:lnTo>
                  <a:lnTo>
                    <a:pt x="0" y="100307"/>
                  </a:lnTo>
                  <a:arcTo wR="100307" hR="1003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84"/>
            <p:cNvSpPr/>
            <p:nvPr/>
          </p:nvSpPr>
          <p:spPr>
            <a:xfrm>
              <a:off x="2183400" y="31734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446" name="TextBox 85"/>
            <p:cNvSpPr/>
            <p:nvPr/>
          </p:nvSpPr>
          <p:spPr>
            <a:xfrm>
              <a:off x="2138400" y="3492360"/>
              <a:ext cx="122544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447" name="Group 30"/>
          <p:cNvGrpSpPr/>
          <p:nvPr/>
        </p:nvGrpSpPr>
        <p:grpSpPr>
          <a:xfrm>
            <a:off x="3724200" y="3176640"/>
            <a:ext cx="1441440" cy="737640"/>
            <a:chOff x="3724200" y="3176640"/>
            <a:chExt cx="1441440" cy="737640"/>
          </a:xfrm>
        </p:grpSpPr>
        <p:sp>
          <p:nvSpPr>
            <p:cNvPr id="448" name="Round Same Side Corner Rectangle 17"/>
            <p:cNvSpPr/>
            <p:nvPr/>
          </p:nvSpPr>
          <p:spPr>
            <a:xfrm>
              <a:off x="3728880" y="3186000"/>
              <a:ext cx="1436760" cy="584280"/>
            </a:xfrm>
            <a:custGeom>
              <a:avLst/>
              <a:gdLst>
                <a:gd name="textAreaLeft" fmla="*/ 27360 w 1436760"/>
                <a:gd name="textAreaRight" fmla="*/ 1409400 w 1436760"/>
                <a:gd name="textAreaTop" fmla="*/ 27360 h 584280"/>
                <a:gd name="textAreaBottom" fmla="*/ 584640 h 584280"/>
              </a:gdLst>
              <a:ahLst/>
              <a:rect l="textAreaLeft" t="textAreaTop" r="textAreaRight" b="textAreaBottom"/>
              <a:pathLst>
                <a:path w="1280037" h="520887">
                  <a:moveTo>
                    <a:pt x="83389" y="0"/>
                  </a:moveTo>
                  <a:lnTo>
                    <a:pt x="1196648" y="0"/>
                  </a:lnTo>
                  <a:lnTo>
                    <a:pt x="1196648" y="0"/>
                  </a:lnTo>
                  <a:arcTo wR="83389" hR="83389" stAng="-5400000" swAng="5400000"/>
                  <a:lnTo>
                    <a:pt x="1280037"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 Same Side Corner Rectangle 18"/>
            <p:cNvSpPr/>
            <p:nvPr/>
          </p:nvSpPr>
          <p:spPr>
            <a:xfrm flipV="1">
              <a:off x="3728880" y="3482280"/>
              <a:ext cx="1436760" cy="431640"/>
            </a:xfrm>
            <a:custGeom>
              <a:avLst/>
              <a:gdLst>
                <a:gd name="textAreaLeft" fmla="*/ 18000 w 1436760"/>
                <a:gd name="textAreaRight" fmla="*/ 1418760 w 1436760"/>
                <a:gd name="textAreaTop" fmla="*/ 17640 h 431640"/>
                <a:gd name="textAreaBottom" fmla="*/ 431640 h 431640"/>
              </a:gdLst>
              <a:ahLst/>
              <a:rect l="textAreaLeft" t="textAreaTop" r="textAreaRight" b="textAreaBottom"/>
              <a:pathLst>
                <a:path w="1280037" h="385003">
                  <a:moveTo>
                    <a:pt x="54905" y="0"/>
                  </a:moveTo>
                  <a:lnTo>
                    <a:pt x="1225132" y="0"/>
                  </a:lnTo>
                  <a:lnTo>
                    <a:pt x="1225132" y="0"/>
                  </a:lnTo>
                  <a:arcTo wR="54905" hR="54905" stAng="-5400000" swAng="5400000"/>
                  <a:lnTo>
                    <a:pt x="1280037" y="385003"/>
                  </a:lnTo>
                  <a:lnTo>
                    <a:pt x="0" y="385003"/>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84"/>
            <p:cNvSpPr/>
            <p:nvPr/>
          </p:nvSpPr>
          <p:spPr>
            <a:xfrm>
              <a:off x="3786480" y="317664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51" name="TextBox 85"/>
            <p:cNvSpPr/>
            <p:nvPr/>
          </p:nvSpPr>
          <p:spPr>
            <a:xfrm>
              <a:off x="3724200" y="3497040"/>
              <a:ext cx="124488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35"/>
          <p:cNvGrpSpPr/>
          <p:nvPr/>
        </p:nvGrpSpPr>
        <p:grpSpPr>
          <a:xfrm>
            <a:off x="4416480" y="4989600"/>
            <a:ext cx="1203120" cy="917640"/>
            <a:chOff x="4416480" y="4989600"/>
            <a:chExt cx="1203120" cy="917640"/>
          </a:xfrm>
        </p:grpSpPr>
        <p:sp>
          <p:nvSpPr>
            <p:cNvPr id="453" name="Round Same Side Corner Rectangle 30"/>
            <p:cNvSpPr/>
            <p:nvPr/>
          </p:nvSpPr>
          <p:spPr>
            <a:xfrm>
              <a:off x="4416480" y="49989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3167" h="519990">
                  <a:moveTo>
                    <a:pt x="83245" y="0"/>
                  </a:moveTo>
                  <a:lnTo>
                    <a:pt x="799922" y="0"/>
                  </a:lnTo>
                  <a:lnTo>
                    <a:pt x="799922" y="0"/>
                  </a:lnTo>
                  <a:arcTo wR="83245" hR="83245" stAng="-5400000" swAng="5400000"/>
                  <a:lnTo>
                    <a:pt x="883167" y="519990"/>
                  </a:lnTo>
                  <a:lnTo>
                    <a:pt x="0" y="519990"/>
                  </a:lnTo>
                  <a:lnTo>
                    <a:pt x="0" y="83245"/>
                  </a:lnTo>
                  <a:lnTo>
                    <a:pt x="0" y="83245"/>
                  </a:lnTo>
                  <a:arcTo wR="83245" hR="8324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ound Same Side Corner Rectangle 31"/>
            <p:cNvSpPr/>
            <p:nvPr/>
          </p:nvSpPr>
          <p:spPr>
            <a:xfrm flipV="1">
              <a:off x="4417920" y="5295960"/>
              <a:ext cx="1103400" cy="611280"/>
            </a:xfrm>
            <a:custGeom>
              <a:avLst/>
              <a:gdLst>
                <a:gd name="textAreaLeft" fmla="*/ 28080 w 1103400"/>
                <a:gd name="textAreaRight" fmla="*/ 1075320 w 1103400"/>
                <a:gd name="textAreaTop" fmla="*/ 25560 h 611280"/>
                <a:gd name="textAreaBottom" fmla="*/ 612000 h 611280"/>
              </a:gdLst>
              <a:ahLst/>
              <a:rect l="textAreaLeft" t="textAreaTop" r="textAreaRight" b="textAreaBottom"/>
              <a:pathLst>
                <a:path w="881898" h="544011">
                  <a:moveTo>
                    <a:pt x="77581" y="0"/>
                  </a:moveTo>
                  <a:lnTo>
                    <a:pt x="804317" y="0"/>
                  </a:lnTo>
                  <a:lnTo>
                    <a:pt x="804317" y="0"/>
                  </a:lnTo>
                  <a:arcTo wR="77581" hR="77581" stAng="-5400000" swAng="5400000"/>
                  <a:lnTo>
                    <a:pt x="881898" y="544011"/>
                  </a:lnTo>
                  <a:lnTo>
                    <a:pt x="0" y="544011"/>
                  </a:lnTo>
                  <a:lnTo>
                    <a:pt x="0" y="77581"/>
                  </a:lnTo>
                  <a:lnTo>
                    <a:pt x="0" y="77581"/>
                  </a:lnTo>
                  <a:arcTo wR="77581" hR="7758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84"/>
            <p:cNvSpPr/>
            <p:nvPr/>
          </p:nvSpPr>
          <p:spPr>
            <a:xfrm>
              <a:off x="4563720" y="498960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56" name="TextBox 85"/>
            <p:cNvSpPr/>
            <p:nvPr/>
          </p:nvSpPr>
          <p:spPr>
            <a:xfrm>
              <a:off x="4425840" y="5303160"/>
              <a:ext cx="1193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57" name="Group 43"/>
          <p:cNvGrpSpPr/>
          <p:nvPr/>
        </p:nvGrpSpPr>
        <p:grpSpPr>
          <a:xfrm>
            <a:off x="5923080" y="5003640"/>
            <a:ext cx="1530360" cy="958680"/>
            <a:chOff x="5923080" y="5003640"/>
            <a:chExt cx="1530360" cy="958680"/>
          </a:xfrm>
        </p:grpSpPr>
        <p:sp>
          <p:nvSpPr>
            <p:cNvPr id="458" name="Round Same Side Corner Rectangle 35"/>
            <p:cNvSpPr/>
            <p:nvPr/>
          </p:nvSpPr>
          <p:spPr>
            <a:xfrm>
              <a:off x="5952960" y="500364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10614" h="520276">
                  <a:moveTo>
                    <a:pt x="83291" y="0"/>
                  </a:moveTo>
                  <a:lnTo>
                    <a:pt x="927323" y="0"/>
                  </a:lnTo>
                  <a:lnTo>
                    <a:pt x="927323" y="0"/>
                  </a:lnTo>
                  <a:arcTo wR="83291" hR="83291" stAng="-5400000" swAng="5400000"/>
                  <a:lnTo>
                    <a:pt x="1010614" y="520276"/>
                  </a:lnTo>
                  <a:lnTo>
                    <a:pt x="0" y="520276"/>
                  </a:lnTo>
                  <a:lnTo>
                    <a:pt x="0" y="83291"/>
                  </a:lnTo>
                  <a:lnTo>
                    <a:pt x="0" y="83291"/>
                  </a:lnTo>
                  <a:arcTo wR="83291" hR="8329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ound Same Side Corner Rectangle 36"/>
            <p:cNvSpPr/>
            <p:nvPr/>
          </p:nvSpPr>
          <p:spPr>
            <a:xfrm flipV="1">
              <a:off x="5952960" y="529992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10614" h="589551">
                  <a:moveTo>
                    <a:pt x="84076" y="0"/>
                  </a:moveTo>
                  <a:lnTo>
                    <a:pt x="926538" y="0"/>
                  </a:lnTo>
                  <a:lnTo>
                    <a:pt x="926538" y="0"/>
                  </a:lnTo>
                  <a:arcTo wR="84076" hR="84076" stAng="-5400000" swAng="5400000"/>
                  <a:lnTo>
                    <a:pt x="1010614"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84"/>
            <p:cNvSpPr/>
            <p:nvPr/>
          </p:nvSpPr>
          <p:spPr>
            <a:xfrm>
              <a:off x="5968440" y="5013000"/>
              <a:ext cx="14850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61" name="TextBox 85"/>
            <p:cNvSpPr/>
            <p:nvPr/>
          </p:nvSpPr>
          <p:spPr>
            <a:xfrm>
              <a:off x="5923080" y="5315760"/>
              <a:ext cx="12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grpSp>
        <p:nvGrpSpPr>
          <p:cNvPr id="462" name="Group 30"/>
          <p:cNvGrpSpPr/>
          <p:nvPr/>
        </p:nvGrpSpPr>
        <p:grpSpPr>
          <a:xfrm>
            <a:off x="7567560" y="4998960"/>
            <a:ext cx="1244520" cy="738360"/>
            <a:chOff x="7567560" y="4998960"/>
            <a:chExt cx="1244520" cy="738360"/>
          </a:xfrm>
        </p:grpSpPr>
        <p:sp>
          <p:nvSpPr>
            <p:cNvPr id="463" name="Round Same Side Corner Rectangle 40"/>
            <p:cNvSpPr/>
            <p:nvPr/>
          </p:nvSpPr>
          <p:spPr>
            <a:xfrm>
              <a:off x="7572240" y="5008320"/>
              <a:ext cx="1104840" cy="584280"/>
            </a:xfrm>
            <a:custGeom>
              <a:avLst/>
              <a:gdLst>
                <a:gd name="textAreaLeft" fmla="*/ 27360 w 1104840"/>
                <a:gd name="textAreaRight" fmla="*/ 1077480 w 1104840"/>
                <a:gd name="textAreaTop" fmla="*/ 27360 h 584280"/>
                <a:gd name="textAreaBottom" fmla="*/ 584640 h 584280"/>
              </a:gdLst>
              <a:ahLst/>
              <a:rect l="textAreaLeft" t="textAreaTop" r="textAreaRight" b="textAreaBottom"/>
              <a:pathLst>
                <a:path w="984455" h="520887">
                  <a:moveTo>
                    <a:pt x="83389" y="0"/>
                  </a:moveTo>
                  <a:lnTo>
                    <a:pt x="901066" y="0"/>
                  </a:lnTo>
                  <a:lnTo>
                    <a:pt x="901066" y="0"/>
                  </a:lnTo>
                  <a:arcTo wR="83389" hR="83389" stAng="-5400000" swAng="5400000"/>
                  <a:lnTo>
                    <a:pt x="984455"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ound Same Side Corner Rectangle 41"/>
            <p:cNvSpPr/>
            <p:nvPr/>
          </p:nvSpPr>
          <p:spPr>
            <a:xfrm flipV="1">
              <a:off x="7572240" y="5305320"/>
              <a:ext cx="1104840" cy="432000"/>
            </a:xfrm>
            <a:custGeom>
              <a:avLst/>
              <a:gdLst>
                <a:gd name="textAreaLeft" fmla="*/ 18000 w 1104840"/>
                <a:gd name="textAreaRight" fmla="*/ 1086840 w 1104840"/>
                <a:gd name="textAreaTop" fmla="*/ 18360 h 432000"/>
                <a:gd name="textAreaBottom" fmla="*/ 432720 h 432000"/>
              </a:gdLst>
              <a:ahLst/>
              <a:rect l="textAreaLeft" t="textAreaTop" r="textAreaRight" b="textAreaBottom"/>
              <a:pathLst>
                <a:path w="984455" h="385004">
                  <a:moveTo>
                    <a:pt x="54905" y="0"/>
                  </a:moveTo>
                  <a:lnTo>
                    <a:pt x="929550" y="0"/>
                  </a:lnTo>
                  <a:lnTo>
                    <a:pt x="929550" y="0"/>
                  </a:lnTo>
                  <a:arcTo wR="54905" hR="54905" stAng="-5400000" swAng="5400000"/>
                  <a:lnTo>
                    <a:pt x="984455" y="385004"/>
                  </a:lnTo>
                  <a:lnTo>
                    <a:pt x="0" y="385004"/>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84"/>
            <p:cNvSpPr/>
            <p:nvPr/>
          </p:nvSpPr>
          <p:spPr>
            <a:xfrm>
              <a:off x="7592760" y="499896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66" name="TextBox 85"/>
            <p:cNvSpPr/>
            <p:nvPr/>
          </p:nvSpPr>
          <p:spPr>
            <a:xfrm>
              <a:off x="7567560" y="5319720"/>
              <a:ext cx="124452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67" name="Straight Arrow Connector 39"/>
          <p:cNvCxnSpPr/>
          <p:nvPr/>
        </p:nvCxnSpPr>
        <p:spPr>
          <a:xfrm flipV="1">
            <a:off x="1881360" y="4440960"/>
            <a:ext cx="3600" cy="605880"/>
          </a:xfrm>
          <a:prstGeom prst="straightConnector1">
            <a:avLst/>
          </a:prstGeom>
          <a:ln w="28440">
            <a:solidFill>
              <a:srgbClr val="ff0000"/>
            </a:solidFill>
            <a:miter/>
            <a:tailEnd len="med" type="triangle" w="med"/>
          </a:ln>
        </p:spPr>
      </p:cxnSp>
      <p:grpSp>
        <p:nvGrpSpPr>
          <p:cNvPr id="468" name="Group 43"/>
          <p:cNvGrpSpPr/>
          <p:nvPr/>
        </p:nvGrpSpPr>
        <p:grpSpPr>
          <a:xfrm>
            <a:off x="1236600" y="5130720"/>
            <a:ext cx="1552680" cy="958680"/>
            <a:chOff x="1236600" y="5130720"/>
            <a:chExt cx="1552680" cy="958680"/>
          </a:xfrm>
        </p:grpSpPr>
        <p:sp>
          <p:nvSpPr>
            <p:cNvPr id="469" name="Round Same Side Corner Rectangle 52"/>
            <p:cNvSpPr/>
            <p:nvPr/>
          </p:nvSpPr>
          <p:spPr>
            <a:xfrm>
              <a:off x="1266480" y="513072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09966" h="520276">
                  <a:moveTo>
                    <a:pt x="83291" y="0"/>
                  </a:moveTo>
                  <a:lnTo>
                    <a:pt x="926675" y="0"/>
                  </a:lnTo>
                  <a:lnTo>
                    <a:pt x="926675" y="0"/>
                  </a:lnTo>
                  <a:arcTo wR="83291" hR="83291" stAng="-5400000" swAng="5400000"/>
                  <a:lnTo>
                    <a:pt x="1009966" y="520276"/>
                  </a:lnTo>
                  <a:lnTo>
                    <a:pt x="0" y="520276"/>
                  </a:lnTo>
                  <a:lnTo>
                    <a:pt x="0" y="83291"/>
                  </a:lnTo>
                  <a:lnTo>
                    <a:pt x="0" y="83291"/>
                  </a:lnTo>
                  <a:arcTo wR="83291" hR="83291"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ound Same Side Corner Rectangle 53"/>
            <p:cNvSpPr/>
            <p:nvPr/>
          </p:nvSpPr>
          <p:spPr>
            <a:xfrm flipV="1">
              <a:off x="1266480" y="542700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09966" h="589551">
                  <a:moveTo>
                    <a:pt x="84076" y="0"/>
                  </a:moveTo>
                  <a:lnTo>
                    <a:pt x="925890" y="0"/>
                  </a:lnTo>
                  <a:lnTo>
                    <a:pt x="925890" y="0"/>
                  </a:lnTo>
                  <a:arcTo wR="84076" hR="84076" stAng="-5400000" swAng="5400000"/>
                  <a:lnTo>
                    <a:pt x="1009966"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84"/>
            <p:cNvSpPr/>
            <p:nvPr/>
          </p:nvSpPr>
          <p:spPr>
            <a:xfrm>
              <a:off x="1303560" y="5130720"/>
              <a:ext cx="1485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472" name="TextBox 85"/>
            <p:cNvSpPr/>
            <p:nvPr/>
          </p:nvSpPr>
          <p:spPr>
            <a:xfrm>
              <a:off x="1236600" y="5442840"/>
              <a:ext cx="122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cxnSp>
        <p:nvCxnSpPr>
          <p:cNvPr id="473" name="Straight Arrow Connector 39"/>
          <p:cNvCxnSpPr/>
          <p:nvPr/>
        </p:nvCxnSpPr>
        <p:spPr>
          <a:xfrm>
            <a:off x="2572920" y="5562720"/>
            <a:ext cx="1637640" cy="2160"/>
          </a:xfrm>
          <a:prstGeom prst="straightConnector1">
            <a:avLst/>
          </a:prstGeom>
          <a:ln w="28440">
            <a:solidFill>
              <a:srgbClr val="ff0000"/>
            </a:solidFill>
            <a:miter/>
            <a:tailEnd len="med" type="triangle" w="med"/>
          </a:ln>
        </p:spPr>
      </p:cxnSp>
      <p:cxnSp>
        <p:nvCxnSpPr>
          <p:cNvPr id="474" name="Elbow Connector 57"/>
          <p:cNvCxnSpPr/>
          <p:nvPr/>
        </p:nvCxnSpPr>
        <p:spPr>
          <a:xfrm rot="5400000">
            <a:off x="1713960" y="2152440"/>
            <a:ext cx="486360" cy="1556640"/>
          </a:xfrm>
          <a:prstGeom prst="bentConnector3">
            <a:avLst>
              <a:gd name="adj1" fmla="val 50000"/>
            </a:avLst>
          </a:prstGeom>
          <a:ln w="28440">
            <a:solidFill>
              <a:srgbClr val="c0504d"/>
            </a:solidFill>
            <a:round/>
            <a:tailEnd len="med" type="triangle" w="med"/>
          </a:ln>
        </p:spPr>
      </p:cxnSp>
      <p:cxnSp>
        <p:nvCxnSpPr>
          <p:cNvPr id="475" name="Elbow Connector 60"/>
          <p:cNvCxnSpPr/>
          <p:nvPr/>
        </p:nvCxnSpPr>
        <p:spPr>
          <a:xfrm flipH="1" rot="16200000">
            <a:off x="3315960" y="2107080"/>
            <a:ext cx="486360" cy="1647000"/>
          </a:xfrm>
          <a:prstGeom prst="bentConnector3">
            <a:avLst>
              <a:gd name="adj1" fmla="val 50000"/>
            </a:avLst>
          </a:prstGeom>
          <a:ln w="28440">
            <a:solidFill>
              <a:srgbClr val="c0504d"/>
            </a:solidFill>
            <a:round/>
            <a:tailEnd len="med" type="triangle" w="med"/>
          </a:ln>
        </p:spPr>
      </p:cxnSp>
      <p:cxnSp>
        <p:nvCxnSpPr>
          <p:cNvPr id="476" name="Straight Arrow Connector 61"/>
          <p:cNvCxnSpPr/>
          <p:nvPr/>
        </p:nvCxnSpPr>
        <p:spPr>
          <a:xfrm flipH="1">
            <a:off x="2734920" y="2642760"/>
            <a:ext cx="2160" cy="524160"/>
          </a:xfrm>
          <a:prstGeom prst="straightConnector1">
            <a:avLst/>
          </a:prstGeom>
          <a:ln w="28440">
            <a:solidFill>
              <a:srgbClr val="c0504d"/>
            </a:solidFill>
            <a:miter/>
            <a:tailEnd len="med" type="triangle" w="med"/>
          </a:ln>
        </p:spPr>
      </p:cxnSp>
      <p:grpSp>
        <p:nvGrpSpPr>
          <p:cNvPr id="477" name="Group 31"/>
          <p:cNvGrpSpPr/>
          <p:nvPr/>
        </p:nvGrpSpPr>
        <p:grpSpPr>
          <a:xfrm>
            <a:off x="2143080" y="1238400"/>
            <a:ext cx="1216080" cy="1458360"/>
            <a:chOff x="2143080" y="1238400"/>
            <a:chExt cx="1216080" cy="1458360"/>
          </a:xfrm>
        </p:grpSpPr>
        <p:sp>
          <p:nvSpPr>
            <p:cNvPr id="478" name="Round Same Side Corner Rectangle 22"/>
            <p:cNvSpPr/>
            <p:nvPr/>
          </p:nvSpPr>
          <p:spPr>
            <a:xfrm>
              <a:off x="2161800" y="1247760"/>
              <a:ext cx="1111320" cy="584280"/>
            </a:xfrm>
            <a:custGeom>
              <a:avLst/>
              <a:gdLst>
                <a:gd name="textAreaLeft" fmla="*/ 27000 w 1111320"/>
                <a:gd name="textAreaRight" fmla="*/ 1084320 w 1111320"/>
                <a:gd name="textAreaTop" fmla="*/ 27360 h 584280"/>
                <a:gd name="textAreaBottom" fmla="*/ 584640 h 584280"/>
              </a:gdLst>
              <a:ahLst/>
              <a:rect l="textAreaLeft" t="textAreaTop" r="textAreaRight" b="textAreaBottom"/>
              <a:pathLst>
                <a:path w="992091" h="520377">
                  <a:moveTo>
                    <a:pt x="83307" y="0"/>
                  </a:moveTo>
                  <a:lnTo>
                    <a:pt x="908784" y="0"/>
                  </a:lnTo>
                  <a:lnTo>
                    <a:pt x="908784" y="0"/>
                  </a:lnTo>
                  <a:arcTo wR="83307" hR="83307" stAng="-5400000" swAng="5400000"/>
                  <a:lnTo>
                    <a:pt x="992091" y="520377"/>
                  </a:lnTo>
                  <a:lnTo>
                    <a:pt x="0" y="520377"/>
                  </a:lnTo>
                  <a:lnTo>
                    <a:pt x="0" y="83307"/>
                  </a:lnTo>
                  <a:lnTo>
                    <a:pt x="0" y="83307"/>
                  </a:lnTo>
                  <a:arcTo wR="83307" hR="833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ound Same Side Corner Rectangle 23"/>
            <p:cNvSpPr/>
            <p:nvPr/>
          </p:nvSpPr>
          <p:spPr>
            <a:xfrm flipV="1">
              <a:off x="2163600" y="1544040"/>
              <a:ext cx="1109880" cy="1152360"/>
            </a:xfrm>
            <a:custGeom>
              <a:avLst/>
              <a:gdLst>
                <a:gd name="textAreaLeft" fmla="*/ 46080 w 1109880"/>
                <a:gd name="textAreaRight" fmla="*/ 1063800 w 1109880"/>
                <a:gd name="textAreaTop" fmla="*/ 46440 h 1152360"/>
                <a:gd name="textAreaBottom" fmla="*/ 1152720 h 1152360"/>
              </a:gdLst>
              <a:ahLst/>
              <a:rect l="textAreaLeft" t="textAreaTop" r="textAreaRight" b="textAreaBottom"/>
              <a:pathLst>
                <a:path w="990673" h="1026613">
                  <a:moveTo>
                    <a:pt x="141280" y="0"/>
                  </a:moveTo>
                  <a:lnTo>
                    <a:pt x="849393" y="0"/>
                  </a:lnTo>
                  <a:lnTo>
                    <a:pt x="849393" y="0"/>
                  </a:lnTo>
                  <a:arcTo wR="141280" hR="141280" stAng="-5400000" swAng="5400000"/>
                  <a:lnTo>
                    <a:pt x="990673" y="1026613"/>
                  </a:lnTo>
                  <a:lnTo>
                    <a:pt x="0" y="1026613"/>
                  </a:lnTo>
                  <a:lnTo>
                    <a:pt x="0" y="141280"/>
                  </a:lnTo>
                  <a:lnTo>
                    <a:pt x="0" y="141280"/>
                  </a:lnTo>
                  <a:arcTo wR="141280" hR="14128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Box 84"/>
            <p:cNvSpPr/>
            <p:nvPr/>
          </p:nvSpPr>
          <p:spPr>
            <a:xfrm>
              <a:off x="2192400" y="1238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81" name="TextBox 85"/>
            <p:cNvSpPr/>
            <p:nvPr/>
          </p:nvSpPr>
          <p:spPr>
            <a:xfrm>
              <a:off x="2143080" y="1536840"/>
              <a:ext cx="1216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82" name="Elbow Connector 62"/>
          <p:cNvCxnSpPr/>
          <p:nvPr/>
        </p:nvCxnSpPr>
        <p:spPr>
          <a:xfrm rot="5400000">
            <a:off x="5572440" y="3970800"/>
            <a:ext cx="486360" cy="1555200"/>
          </a:xfrm>
          <a:prstGeom prst="bentConnector3">
            <a:avLst>
              <a:gd name="adj1" fmla="val 50000"/>
            </a:avLst>
          </a:prstGeom>
          <a:ln w="28440">
            <a:solidFill>
              <a:srgbClr val="c0504d"/>
            </a:solidFill>
            <a:round/>
            <a:tailEnd len="med" type="triangle" w="med"/>
          </a:ln>
        </p:spPr>
      </p:cxnSp>
      <p:cxnSp>
        <p:nvCxnSpPr>
          <p:cNvPr id="483" name="Elbow Connector 63"/>
          <p:cNvCxnSpPr/>
          <p:nvPr/>
        </p:nvCxnSpPr>
        <p:spPr>
          <a:xfrm flipH="1" rot="16200000">
            <a:off x="7127640" y="3970800"/>
            <a:ext cx="486360" cy="1554840"/>
          </a:xfrm>
          <a:prstGeom prst="bentConnector3">
            <a:avLst>
              <a:gd name="adj1" fmla="val 50000"/>
            </a:avLst>
          </a:prstGeom>
          <a:ln w="28440">
            <a:solidFill>
              <a:srgbClr val="c0504d"/>
            </a:solidFill>
            <a:round/>
            <a:tailEnd len="med" type="triangle" w="med"/>
          </a:ln>
        </p:spPr>
      </p:cxnSp>
      <p:grpSp>
        <p:nvGrpSpPr>
          <p:cNvPr id="484" name="Group 31"/>
          <p:cNvGrpSpPr/>
          <p:nvPr/>
        </p:nvGrpSpPr>
        <p:grpSpPr>
          <a:xfrm>
            <a:off x="6029280" y="3060720"/>
            <a:ext cx="1285920" cy="1458360"/>
            <a:chOff x="6029280" y="3060720"/>
            <a:chExt cx="1285920" cy="1458360"/>
          </a:xfrm>
        </p:grpSpPr>
        <p:sp>
          <p:nvSpPr>
            <p:cNvPr id="485" name="Round Same Side Corner Rectangle 58"/>
            <p:cNvSpPr/>
            <p:nvPr/>
          </p:nvSpPr>
          <p:spPr>
            <a:xfrm>
              <a:off x="6049800" y="3070080"/>
              <a:ext cx="1111320" cy="583920"/>
            </a:xfrm>
            <a:custGeom>
              <a:avLst/>
              <a:gdLst>
                <a:gd name="textAreaLeft" fmla="*/ 27360 w 1111320"/>
                <a:gd name="textAreaRight" fmla="*/ 1083960 w 1111320"/>
                <a:gd name="textAreaTop" fmla="*/ 27360 h 583920"/>
                <a:gd name="textAreaBottom" fmla="*/ 584280 h 583920"/>
              </a:gdLst>
              <a:ahLst/>
              <a:rect l="textAreaLeft" t="textAreaTop" r="textAreaRight" b="textAreaBottom"/>
              <a:pathLst>
                <a:path w="991361" h="520503">
                  <a:moveTo>
                    <a:pt x="83327" y="0"/>
                  </a:moveTo>
                  <a:lnTo>
                    <a:pt x="908034" y="0"/>
                  </a:lnTo>
                  <a:lnTo>
                    <a:pt x="908034" y="0"/>
                  </a:lnTo>
                  <a:arcTo wR="83327" hR="83327" stAng="-5400000" swAng="5400000"/>
                  <a:lnTo>
                    <a:pt x="991361" y="520503"/>
                  </a:lnTo>
                  <a:lnTo>
                    <a:pt x="0" y="520503"/>
                  </a:lnTo>
                  <a:lnTo>
                    <a:pt x="0" y="83327"/>
                  </a:lnTo>
                  <a:lnTo>
                    <a:pt x="0" y="83327"/>
                  </a:lnTo>
                  <a:arcTo wR="83327" hR="8332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ound Same Side Corner Rectangle 59"/>
            <p:cNvSpPr/>
            <p:nvPr/>
          </p:nvSpPr>
          <p:spPr>
            <a:xfrm flipV="1">
              <a:off x="6049800" y="3366360"/>
              <a:ext cx="1111320" cy="1152360"/>
            </a:xfrm>
            <a:custGeom>
              <a:avLst/>
              <a:gdLst>
                <a:gd name="textAreaLeft" fmla="*/ 46080 w 1111320"/>
                <a:gd name="textAreaRight" fmla="*/ 1065240 w 1111320"/>
                <a:gd name="textAreaTop" fmla="*/ 46440 h 1152360"/>
                <a:gd name="textAreaBottom" fmla="*/ 1152720 h 1152360"/>
              </a:gdLst>
              <a:ahLst/>
              <a:rect l="textAreaLeft" t="textAreaTop" r="textAreaRight" b="textAreaBottom"/>
              <a:pathLst>
                <a:path w="991361" h="1026861">
                  <a:moveTo>
                    <a:pt x="141378" y="0"/>
                  </a:moveTo>
                  <a:lnTo>
                    <a:pt x="849983" y="0"/>
                  </a:lnTo>
                  <a:lnTo>
                    <a:pt x="849983" y="0"/>
                  </a:lnTo>
                  <a:arcTo wR="141378" hR="141378" stAng="-5400000" swAng="5400000"/>
                  <a:lnTo>
                    <a:pt x="991361" y="1026861"/>
                  </a:lnTo>
                  <a:lnTo>
                    <a:pt x="0" y="1026861"/>
                  </a:lnTo>
                  <a:lnTo>
                    <a:pt x="0" y="141378"/>
                  </a:lnTo>
                  <a:lnTo>
                    <a:pt x="0" y="141378"/>
                  </a:lnTo>
                  <a:arcTo wR="141378" hR="14137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84"/>
            <p:cNvSpPr/>
            <p:nvPr/>
          </p:nvSpPr>
          <p:spPr>
            <a:xfrm>
              <a:off x="6029280" y="3060720"/>
              <a:ext cx="1025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88" name="TextBox 85"/>
            <p:cNvSpPr/>
            <p:nvPr/>
          </p:nvSpPr>
          <p:spPr>
            <a:xfrm>
              <a:off x="6034680" y="3381480"/>
              <a:ext cx="128052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609480" y="1741320"/>
            <a:ext cx="7925040" cy="106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mplementing the Returnable Interface</a:t>
            </a:r>
            <a:br>
              <a:rPr sz="4000"/>
            </a:br>
            <a:endParaRPr b="0" lang="en-US" sz="4000" spc="-1" strike="noStrike">
              <a:solidFill>
                <a:srgbClr val="000000"/>
              </a:solidFill>
              <a:latin typeface="Calibri"/>
            </a:endParaRPr>
          </a:p>
        </p:txBody>
      </p:sp>
      <p:sp>
        <p:nvSpPr>
          <p:cNvPr id="491" name=""/>
          <p:cNvSpPr txBox="1"/>
          <p:nvPr/>
        </p:nvSpPr>
        <p:spPr>
          <a:xfrm>
            <a:off x="609480" y="1740960"/>
            <a:ext cx="7918560" cy="101628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erface Return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492" name="AutoShape 41"/>
          <p:cNvSpPr/>
          <p:nvPr/>
        </p:nvSpPr>
        <p:spPr>
          <a:xfrm>
            <a:off x="4968720" y="1386720"/>
            <a:ext cx="1722600" cy="731520"/>
          </a:xfrm>
          <a:prstGeom prst="wedgeRectCallout">
            <a:avLst>
              <a:gd name="adj1" fmla="val -103402"/>
              <a:gd name="adj2" fmla="val 507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n abstract method, has only the method stub</a:t>
            </a:r>
            <a:endParaRPr b="0" lang="en-US" sz="1400" spc="-1" strike="noStrike">
              <a:solidFill>
                <a:srgbClr val="000000"/>
              </a:solidFill>
              <a:latin typeface="Arial"/>
            </a:endParaRPr>
          </a:p>
        </p:txBody>
      </p:sp>
      <p:sp>
        <p:nvSpPr>
          <p:cNvPr id="493" name="Rectangle 7"/>
          <p:cNvSpPr/>
          <p:nvPr/>
        </p:nvSpPr>
        <p:spPr>
          <a:xfrm>
            <a:off x="600120" y="3348000"/>
            <a:ext cx="7924680" cy="291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a:off x="600120" y="3392640"/>
            <a:ext cx="7918560" cy="276840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 extends Clothing implements Returnabl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br>
              <a:rPr sz="1400"/>
            </a:br>
            <a:r>
              <a:rPr b="0" lang="en-US" sz="1400" spc="-1" strike="noStrike">
                <a:solidFill>
                  <a:srgbClr val="000000"/>
                </a:solidFill>
                <a:latin typeface="Courier New"/>
                <a:ea typeface="ＭＳ Ｐゴシック"/>
              </a:rPr>
              <a:t>                  double price, char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See notes below</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Suit returns must be within 3 days";</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lt; other methods not shown &gt; ...       } // end of class</a:t>
            </a:r>
            <a:endParaRPr b="0" lang="en-US" sz="1400" spc="-1" strike="noStrike">
              <a:solidFill>
                <a:srgbClr val="000000"/>
              </a:solidFill>
              <a:latin typeface="Arial"/>
            </a:endParaRPr>
          </a:p>
        </p:txBody>
      </p:sp>
      <p:sp>
        <p:nvSpPr>
          <p:cNvPr id="495" name="TextBox 8"/>
          <p:cNvSpPr/>
          <p:nvPr/>
        </p:nvSpPr>
        <p:spPr>
          <a:xfrm>
            <a:off x="516600" y="2935440"/>
            <a:ext cx="1471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rt class</a:t>
            </a:r>
            <a:endParaRPr b="0" lang="en-US" sz="2200" spc="-1" strike="noStrike">
              <a:solidFill>
                <a:srgbClr val="000000"/>
              </a:solidFill>
              <a:latin typeface="Arial"/>
            </a:endParaRPr>
          </a:p>
        </p:txBody>
      </p:sp>
      <p:sp>
        <p:nvSpPr>
          <p:cNvPr id="496" name="TextBox 9"/>
          <p:cNvSpPr/>
          <p:nvPr/>
        </p:nvSpPr>
        <p:spPr>
          <a:xfrm>
            <a:off x="509040" y="1317600"/>
            <a:ext cx="2713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urnable Interface</a:t>
            </a:r>
            <a:endParaRPr b="0" lang="en-US" sz="2200" spc="-1" strike="noStrike">
              <a:solidFill>
                <a:srgbClr val="000000"/>
              </a:solidFill>
              <a:latin typeface="Arial"/>
            </a:endParaRPr>
          </a:p>
        </p:txBody>
      </p:sp>
      <p:sp>
        <p:nvSpPr>
          <p:cNvPr id="497" name="Rectangle 5"/>
          <p:cNvSpPr/>
          <p:nvPr/>
        </p:nvSpPr>
        <p:spPr>
          <a:xfrm>
            <a:off x="1087560" y="1989000"/>
            <a:ext cx="2851200" cy="282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5"/>
          <p:cNvSpPr/>
          <p:nvPr/>
        </p:nvSpPr>
        <p:spPr>
          <a:xfrm>
            <a:off x="4675320" y="3395520"/>
            <a:ext cx="23446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1"/>
          <p:cNvSpPr/>
          <p:nvPr/>
        </p:nvSpPr>
        <p:spPr>
          <a:xfrm>
            <a:off x="6888240" y="2125440"/>
            <a:ext cx="1681200" cy="944640"/>
          </a:xfrm>
          <a:prstGeom prst="wedgeRectCallout">
            <a:avLst>
              <a:gd name="adj1" fmla="val -83245"/>
              <a:gd name="adj2" fmla="val 773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Shirt must implement </a:t>
            </a:r>
            <a:br>
              <a:rPr sz="1400"/>
            </a:br>
            <a:r>
              <a:rPr b="0" lang="en-US" sz="1400" spc="-1" strike="noStrike">
                <a:solidFill>
                  <a:srgbClr val="000000"/>
                </a:solidFill>
                <a:latin typeface="Arial"/>
              </a:rPr>
              <a:t>all methods of Returnable</a:t>
            </a:r>
            <a:endParaRPr b="0" lang="en-US" sz="1400" spc="-1" strike="noStrike">
              <a:solidFill>
                <a:srgbClr val="000000"/>
              </a:solidFill>
              <a:latin typeface="Arial"/>
            </a:endParaRPr>
          </a:p>
        </p:txBody>
      </p:sp>
      <p:sp>
        <p:nvSpPr>
          <p:cNvPr id="500" name="Rectangle 5"/>
          <p:cNvSpPr/>
          <p:nvPr/>
        </p:nvSpPr>
        <p:spPr>
          <a:xfrm>
            <a:off x="905040" y="4875120"/>
            <a:ext cx="5406840" cy="103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41"/>
          <p:cNvSpPr/>
          <p:nvPr/>
        </p:nvSpPr>
        <p:spPr>
          <a:xfrm>
            <a:off x="6980400" y="4103280"/>
            <a:ext cx="1307880" cy="1157760"/>
          </a:xfrm>
          <a:prstGeom prst="wedgeRectCallout">
            <a:avLst>
              <a:gd name="adj1" fmla="val -94439"/>
              <a:gd name="adj2" fmla="val 54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clared in the  Returnable interf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 to Object Methods from Interface</a:t>
            </a:r>
            <a:endParaRPr b="0" lang="en-US" sz="4000" spc="-1" strike="noStrike">
              <a:solidFill>
                <a:srgbClr val="000000"/>
              </a:solidFill>
              <a:latin typeface="Calibri"/>
            </a:endParaRPr>
          </a:p>
        </p:txBody>
      </p:sp>
      <p:grpSp>
        <p:nvGrpSpPr>
          <p:cNvPr id="503" name="Group 35"/>
          <p:cNvGrpSpPr/>
          <p:nvPr/>
        </p:nvGrpSpPr>
        <p:grpSpPr>
          <a:xfrm>
            <a:off x="533520" y="1327320"/>
            <a:ext cx="8628120" cy="4136760"/>
            <a:chOff x="533520" y="1327320"/>
            <a:chExt cx="8628120" cy="4136760"/>
          </a:xfrm>
        </p:grpSpPr>
        <p:sp>
          <p:nvSpPr>
            <p:cNvPr id="504" name="Round Same Side Corner Rectangle 11"/>
            <p:cNvSpPr/>
            <p:nvPr/>
          </p:nvSpPr>
          <p:spPr>
            <a:xfrm>
              <a:off x="5278680" y="1992240"/>
              <a:ext cx="1179360" cy="623880"/>
            </a:xfrm>
            <a:custGeom>
              <a:avLst/>
              <a:gdLst>
                <a:gd name="textAreaLeft" fmla="*/ 29160 w 1179360"/>
                <a:gd name="textAreaRight" fmla="*/ 1150200 w 1179360"/>
                <a:gd name="textAreaTop" fmla="*/ 29160 h 623880"/>
                <a:gd name="textAreaBottom" fmla="*/ 624240 h 623880"/>
              </a:gdLst>
              <a:ahLst/>
              <a:rect l="textAreaLeft" t="textAreaTop" r="textAreaRight" b="textAreaBottom"/>
              <a:pathLst>
                <a:path w="984844" h="520973">
                  <a:moveTo>
                    <a:pt x="83403" y="0"/>
                  </a:moveTo>
                  <a:lnTo>
                    <a:pt x="901441" y="0"/>
                  </a:lnTo>
                  <a:lnTo>
                    <a:pt x="901441" y="0"/>
                  </a:lnTo>
                  <a:arcTo wR="83403" hR="83403" stAng="-5400000" swAng="5400000"/>
                  <a:lnTo>
                    <a:pt x="984844" y="520973"/>
                  </a:lnTo>
                  <a:lnTo>
                    <a:pt x="0" y="520973"/>
                  </a:lnTo>
                  <a:lnTo>
                    <a:pt x="0" y="83403"/>
                  </a:lnTo>
                  <a:lnTo>
                    <a:pt x="0" y="83403"/>
                  </a:lnTo>
                  <a:arcTo wR="83403" hR="8340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 Same Side Corner Rectangle 12"/>
            <p:cNvSpPr/>
            <p:nvPr/>
          </p:nvSpPr>
          <p:spPr>
            <a:xfrm flipV="1">
              <a:off x="5278680" y="2309760"/>
              <a:ext cx="1179360" cy="3154320"/>
            </a:xfrm>
            <a:custGeom>
              <a:avLst/>
              <a:gdLst>
                <a:gd name="textAreaLeft" fmla="*/ 48960 w 1179360"/>
                <a:gd name="textAreaRight" fmla="*/ 1130400 w 1179360"/>
                <a:gd name="textAreaTop" fmla="*/ 49320 h 3154320"/>
                <a:gd name="textAreaBottom" fmla="*/ 3155040 h 3154320"/>
              </a:gdLst>
              <a:ahLst/>
              <a:rect l="textAreaLeft" t="textAreaTop" r="textAreaRight" b="textAreaBottom"/>
              <a:pathLst>
                <a:path w="984844" h="2634029">
                  <a:moveTo>
                    <a:pt x="140449" y="0"/>
                  </a:moveTo>
                  <a:lnTo>
                    <a:pt x="844395" y="0"/>
                  </a:lnTo>
                  <a:lnTo>
                    <a:pt x="844395" y="0"/>
                  </a:lnTo>
                  <a:arcTo wR="140449" hR="140449" stAng="-5400000" swAng="5400000"/>
                  <a:lnTo>
                    <a:pt x="984844" y="2634029"/>
                  </a:lnTo>
                  <a:lnTo>
                    <a:pt x="0" y="2634029"/>
                  </a:lnTo>
                  <a:lnTo>
                    <a:pt x="0" y="140449"/>
                  </a:lnTo>
                  <a:lnTo>
                    <a:pt x="0" y="140449"/>
                  </a:lnTo>
                  <a:arcTo wR="140449" hR="14044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84"/>
            <p:cNvSpPr/>
            <p:nvPr/>
          </p:nvSpPr>
          <p:spPr>
            <a:xfrm>
              <a:off x="5434200" y="19828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507" name="TextBox 85"/>
            <p:cNvSpPr/>
            <p:nvPr/>
          </p:nvSpPr>
          <p:spPr>
            <a:xfrm>
              <a:off x="5260320" y="4026600"/>
              <a:ext cx="13078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nvGrpSpPr>
            <p:cNvPr id="508" name="Group 31"/>
            <p:cNvGrpSpPr/>
            <p:nvPr/>
          </p:nvGrpSpPr>
          <p:grpSpPr>
            <a:xfrm>
              <a:off x="2345400" y="2030400"/>
              <a:ext cx="1298520" cy="1556640"/>
              <a:chOff x="2345400" y="2030400"/>
              <a:chExt cx="1298520" cy="1556640"/>
            </a:xfrm>
          </p:grpSpPr>
          <p:sp>
            <p:nvSpPr>
              <p:cNvPr id="509" name="Round Same Side Corner Rectangle 21"/>
              <p:cNvSpPr/>
              <p:nvPr/>
            </p:nvSpPr>
            <p:spPr>
              <a:xfrm>
                <a:off x="2390760" y="2039760"/>
                <a:ext cx="1184400" cy="623880"/>
              </a:xfrm>
              <a:custGeom>
                <a:avLst/>
                <a:gdLst>
                  <a:gd name="textAreaLeft" fmla="*/ 29160 w 1184400"/>
                  <a:gd name="textAreaRight" fmla="*/ 1155240 w 1184400"/>
                  <a:gd name="textAreaTop" fmla="*/ 29160 h 623880"/>
                  <a:gd name="textAreaBottom" fmla="*/ 624240 h 623880"/>
                </a:gdLst>
                <a:ahLst/>
                <a:rect l="textAreaLeft" t="textAreaTop" r="textAreaRight" b="textAreaBottom"/>
                <a:pathLst>
                  <a:path w="990068" h="520845">
                    <a:moveTo>
                      <a:pt x="83382" y="0"/>
                    </a:moveTo>
                    <a:lnTo>
                      <a:pt x="906686" y="0"/>
                    </a:lnTo>
                    <a:lnTo>
                      <a:pt x="906686" y="0"/>
                    </a:lnTo>
                    <a:arcTo wR="83382" hR="83382" stAng="-5400000" swAng="5400000"/>
                    <a:lnTo>
                      <a:pt x="990068" y="520845"/>
                    </a:lnTo>
                    <a:lnTo>
                      <a:pt x="0" y="520845"/>
                    </a:lnTo>
                    <a:lnTo>
                      <a:pt x="0" y="83382"/>
                    </a:lnTo>
                    <a:lnTo>
                      <a:pt x="0" y="83382"/>
                    </a:lnTo>
                    <a:arcTo wR="83382" hR="8338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ound Same Side Corner Rectangle 22"/>
              <p:cNvSpPr/>
              <p:nvPr/>
            </p:nvSpPr>
            <p:spPr>
              <a:xfrm flipV="1">
                <a:off x="2390760" y="2356560"/>
                <a:ext cx="1184400" cy="1230120"/>
              </a:xfrm>
              <a:custGeom>
                <a:avLst/>
                <a:gdLst>
                  <a:gd name="textAreaLeft" fmla="*/ 49320 w 1184400"/>
                  <a:gd name="textAreaRight" fmla="*/ 1135080 w 1184400"/>
                  <a:gd name="textAreaTop" fmla="*/ 49320 h 1230120"/>
                  <a:gd name="textAreaBottom" fmla="*/ 1230480 h 1230120"/>
                </a:gdLst>
                <a:ahLst/>
                <a:rect l="textAreaLeft" t="textAreaTop" r="textAreaRight" b="textAreaBottom"/>
                <a:pathLst>
                  <a:path w="990068" h="1027112">
                    <a:moveTo>
                      <a:pt x="141194" y="0"/>
                    </a:moveTo>
                    <a:lnTo>
                      <a:pt x="848874" y="0"/>
                    </a:lnTo>
                    <a:lnTo>
                      <a:pt x="848874" y="0"/>
                    </a:lnTo>
                    <a:arcTo wR="141194" hR="141194" stAng="-5400000" swAng="5400000"/>
                    <a:lnTo>
                      <a:pt x="990068" y="1027112"/>
                    </a:lnTo>
                    <a:lnTo>
                      <a:pt x="0" y="1027112"/>
                    </a:lnTo>
                    <a:lnTo>
                      <a:pt x="0" y="141194"/>
                    </a:lnTo>
                    <a:lnTo>
                      <a:pt x="0" y="141194"/>
                    </a:lnTo>
                    <a:arcTo wR="141194" hR="14119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4"/>
              <p:cNvSpPr/>
              <p:nvPr/>
            </p:nvSpPr>
            <p:spPr>
              <a:xfrm>
                <a:off x="2500920" y="2030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512" name="TextBox 85"/>
              <p:cNvSpPr/>
              <p:nvPr/>
            </p:nvSpPr>
            <p:spPr>
              <a:xfrm>
                <a:off x="2345400" y="237276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513" name="TextBox 85"/>
            <p:cNvSpPr/>
            <p:nvPr/>
          </p:nvSpPr>
          <p:spPr>
            <a:xfrm>
              <a:off x="5258160" y="237672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514" name="Right Brace 30"/>
            <p:cNvSpPr/>
            <p:nvPr/>
          </p:nvSpPr>
          <p:spPr>
            <a:xfrm>
              <a:off x="6631200" y="2429640"/>
              <a:ext cx="269640" cy="1020600"/>
            </a:xfrm>
            <a:custGeom>
              <a:avLst/>
              <a:gdLst>
                <a:gd name="textAreaLeft" fmla="*/ 0 w 269640"/>
                <a:gd name="textAreaRight" fmla="*/ 97200 w 269640"/>
                <a:gd name="textAreaTop" fmla="*/ 29880 h 1020600"/>
                <a:gd name="textAreaBottom" fmla="*/ 990720 h 10206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5" name="TextBox 31"/>
            <p:cNvSpPr/>
            <p:nvPr/>
          </p:nvSpPr>
          <p:spPr>
            <a:xfrm>
              <a:off x="7030440" y="268272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516" name="TextBox 32"/>
            <p:cNvSpPr/>
            <p:nvPr/>
          </p:nvSpPr>
          <p:spPr>
            <a:xfrm>
              <a:off x="7030440" y="398880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517" name="Right Brace 33"/>
            <p:cNvSpPr/>
            <p:nvPr/>
          </p:nvSpPr>
          <p:spPr>
            <a:xfrm>
              <a:off x="6638760" y="4009680"/>
              <a:ext cx="269640" cy="552960"/>
            </a:xfrm>
            <a:custGeom>
              <a:avLst/>
              <a:gdLst>
                <a:gd name="textAreaLeft" fmla="*/ 0 w 269640"/>
                <a:gd name="textAreaRight" fmla="*/ 97200 w 269640"/>
                <a:gd name="textAreaTop" fmla="*/ 32760 h 552960"/>
                <a:gd name="textAreaBottom" fmla="*/ 520200 h 55296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8" name="TextBox 34"/>
            <p:cNvSpPr/>
            <p:nvPr/>
          </p:nvSpPr>
          <p:spPr>
            <a:xfrm>
              <a:off x="2472840" y="1327320"/>
              <a:ext cx="1064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lass</a:t>
              </a:r>
              <a:br>
                <a:rPr sz="1400"/>
              </a:br>
              <a:r>
                <a:rPr b="0"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519" name="TextBox 35"/>
            <p:cNvSpPr/>
            <p:nvPr/>
          </p:nvSpPr>
          <p:spPr>
            <a:xfrm>
              <a:off x="5464440" y="1443240"/>
              <a:ext cx="697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520" name="Straight Arrow Connector 37"/>
            <p:cNvCxnSpPr/>
            <p:nvPr/>
          </p:nvCxnSpPr>
          <p:spPr>
            <a:xfrm>
              <a:off x="3465000" y="2520720"/>
              <a:ext cx="1679400" cy="2520"/>
            </a:xfrm>
            <a:prstGeom prst="straightConnector1">
              <a:avLst/>
            </a:prstGeom>
            <a:ln w="28440">
              <a:solidFill>
                <a:srgbClr val="000000"/>
              </a:solidFill>
              <a:prstDash val="dash"/>
              <a:miter/>
              <a:tailEnd len="med" type="triangle" w="med"/>
            </a:ln>
          </p:spPr>
        </p:cxnSp>
        <p:cxnSp>
          <p:nvCxnSpPr>
            <p:cNvPr id="521" name="Straight Arrow Connector 38"/>
            <p:cNvCxnSpPr/>
            <p:nvPr/>
          </p:nvCxnSpPr>
          <p:spPr>
            <a:xfrm>
              <a:off x="3467160" y="2746800"/>
              <a:ext cx="1681200" cy="2520"/>
            </a:xfrm>
            <a:prstGeom prst="straightConnector1">
              <a:avLst/>
            </a:prstGeom>
            <a:ln w="28440">
              <a:solidFill>
                <a:srgbClr val="000000"/>
              </a:solidFill>
              <a:prstDash val="dash"/>
              <a:miter/>
              <a:tailEnd len="med" type="triangle" w="med"/>
            </a:ln>
          </p:spPr>
        </p:cxnSp>
        <p:cxnSp>
          <p:nvCxnSpPr>
            <p:cNvPr id="522" name="Straight Arrow Connector 39"/>
            <p:cNvCxnSpPr/>
            <p:nvPr/>
          </p:nvCxnSpPr>
          <p:spPr>
            <a:xfrm>
              <a:off x="3467160" y="2988360"/>
              <a:ext cx="1681200" cy="2520"/>
            </a:xfrm>
            <a:prstGeom prst="straightConnector1">
              <a:avLst/>
            </a:prstGeom>
            <a:ln w="28440">
              <a:solidFill>
                <a:srgbClr val="000000"/>
              </a:solidFill>
              <a:prstDash val="dash"/>
              <a:miter/>
              <a:tailEnd len="med" type="triangle" w="med"/>
            </a:ln>
          </p:spPr>
        </p:cxnSp>
        <p:cxnSp>
          <p:nvCxnSpPr>
            <p:cNvPr id="523" name="Straight Arrow Connector 40"/>
            <p:cNvCxnSpPr/>
            <p:nvPr/>
          </p:nvCxnSpPr>
          <p:spPr>
            <a:xfrm>
              <a:off x="3468960" y="3214440"/>
              <a:ext cx="1681200" cy="2520"/>
            </a:xfrm>
            <a:prstGeom prst="straightConnector1">
              <a:avLst/>
            </a:prstGeom>
            <a:ln w="28440">
              <a:solidFill>
                <a:srgbClr val="000000"/>
              </a:solidFill>
              <a:prstDash val="dash"/>
              <a:miter/>
              <a:tailEnd len="med" type="triangle" w="med"/>
            </a:ln>
          </p:spPr>
        </p:cxnSp>
        <p:cxnSp>
          <p:nvCxnSpPr>
            <p:cNvPr id="524" name="Straight Arrow Connector 41"/>
            <p:cNvCxnSpPr/>
            <p:nvPr/>
          </p:nvCxnSpPr>
          <p:spPr>
            <a:xfrm>
              <a:off x="3457800" y="3412440"/>
              <a:ext cx="1681200" cy="2520"/>
            </a:xfrm>
            <a:prstGeom prst="straightConnector1">
              <a:avLst/>
            </a:prstGeom>
            <a:ln w="28440">
              <a:solidFill>
                <a:srgbClr val="000000"/>
              </a:solidFill>
              <a:prstDash val="dash"/>
              <a:miter/>
              <a:tailEnd len="med" type="triangle" w="med"/>
            </a:ln>
          </p:spPr>
        </p:cxnSp>
        <p:sp>
          <p:nvSpPr>
            <p:cNvPr id="525" name="Right Brace 42"/>
            <p:cNvSpPr/>
            <p:nvPr/>
          </p:nvSpPr>
          <p:spPr>
            <a:xfrm flipH="1">
              <a:off x="1966320" y="2433600"/>
              <a:ext cx="269640" cy="1018800"/>
            </a:xfrm>
            <a:custGeom>
              <a:avLst/>
              <a:gdLst>
                <a:gd name="textAreaLeft" fmla="*/ -360 w 269640"/>
                <a:gd name="textAreaRight" fmla="*/ 96840 w 269640"/>
                <a:gd name="textAreaTop" fmla="*/ 29520 h 1018800"/>
                <a:gd name="textAreaBottom" fmla="*/ 989280 h 10188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26" name="TextBox 43"/>
            <p:cNvSpPr/>
            <p:nvPr/>
          </p:nvSpPr>
          <p:spPr>
            <a:xfrm>
              <a:off x="533520" y="245268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nvGrpSpPr>
            <p:cNvPr id="527" name="Group 31"/>
            <p:cNvGrpSpPr/>
            <p:nvPr/>
          </p:nvGrpSpPr>
          <p:grpSpPr>
            <a:xfrm>
              <a:off x="2328120" y="4496400"/>
              <a:ext cx="1298520" cy="935280"/>
              <a:chOff x="2328120" y="4496400"/>
              <a:chExt cx="1298520" cy="935280"/>
            </a:xfrm>
          </p:grpSpPr>
          <p:sp>
            <p:nvSpPr>
              <p:cNvPr id="528" name="Round Same Side Corner Rectangle 26"/>
              <p:cNvSpPr/>
              <p:nvPr/>
            </p:nvSpPr>
            <p:spPr>
              <a:xfrm>
                <a:off x="2374560" y="4496400"/>
                <a:ext cx="1184400" cy="624240"/>
              </a:xfrm>
              <a:custGeom>
                <a:avLst/>
                <a:gdLst>
                  <a:gd name="textAreaLeft" fmla="*/ 29160 w 1184400"/>
                  <a:gd name="textAreaRight" fmla="*/ 1155240 w 1184400"/>
                  <a:gd name="textAreaTop" fmla="*/ 29160 h 624240"/>
                  <a:gd name="textAreaBottom" fmla="*/ 624600 h 624240"/>
                </a:gdLst>
                <a:ahLst/>
                <a:rect l="textAreaLeft" t="textAreaTop" r="textAreaRight" b="textAreaBottom"/>
                <a:pathLst>
                  <a:path w="990069" h="520813">
                    <a:moveTo>
                      <a:pt x="83377" y="0"/>
                    </a:moveTo>
                    <a:lnTo>
                      <a:pt x="906692" y="0"/>
                    </a:lnTo>
                    <a:lnTo>
                      <a:pt x="906692" y="0"/>
                    </a:lnTo>
                    <a:arcTo wR="83377" hR="83377" stAng="-5400000" swAng="5400000"/>
                    <a:lnTo>
                      <a:pt x="990069" y="520813"/>
                    </a:lnTo>
                    <a:lnTo>
                      <a:pt x="0" y="520813"/>
                    </a:lnTo>
                    <a:lnTo>
                      <a:pt x="0" y="83377"/>
                    </a:lnTo>
                    <a:lnTo>
                      <a:pt x="0" y="83377"/>
                    </a:lnTo>
                    <a:arcTo wR="83377" hR="83377"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ound Same Side Corner Rectangle 27"/>
              <p:cNvSpPr/>
              <p:nvPr/>
            </p:nvSpPr>
            <p:spPr>
              <a:xfrm flipV="1">
                <a:off x="2374560" y="4813920"/>
                <a:ext cx="1184400" cy="617760"/>
              </a:xfrm>
              <a:custGeom>
                <a:avLst/>
                <a:gdLst>
                  <a:gd name="textAreaLeft" fmla="*/ 25560 w 1184400"/>
                  <a:gd name="textAreaRight" fmla="*/ 1158840 w 1184400"/>
                  <a:gd name="textAreaTop" fmla="*/ 25560 h 617760"/>
                  <a:gd name="textAreaBottom" fmla="*/ 618120 h 617760"/>
                </a:gdLst>
                <a:ahLst/>
                <a:rect l="textAreaLeft" t="textAreaTop" r="textAreaRight" b="textAreaBottom"/>
                <a:pathLst>
                  <a:path w="990069" h="515512">
                    <a:moveTo>
                      <a:pt x="73517" y="0"/>
                    </a:moveTo>
                    <a:lnTo>
                      <a:pt x="916552" y="0"/>
                    </a:lnTo>
                    <a:lnTo>
                      <a:pt x="916552" y="0"/>
                    </a:lnTo>
                    <a:arcTo wR="73517" hR="73517" stAng="-5400000" swAng="5400000"/>
                    <a:lnTo>
                      <a:pt x="990069" y="515512"/>
                    </a:lnTo>
                    <a:lnTo>
                      <a:pt x="0" y="515512"/>
                    </a:lnTo>
                    <a:lnTo>
                      <a:pt x="0" y="73517"/>
                    </a:lnTo>
                    <a:lnTo>
                      <a:pt x="0" y="73517"/>
                    </a:lnTo>
                    <a:arcTo wR="73517" hR="7351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84"/>
              <p:cNvSpPr/>
              <p:nvPr/>
            </p:nvSpPr>
            <p:spPr>
              <a:xfrm>
                <a:off x="2467080" y="4503960"/>
                <a:ext cx="977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531" name="TextBox 85"/>
              <p:cNvSpPr/>
              <p:nvPr/>
            </p:nvSpPr>
            <p:spPr>
              <a:xfrm>
                <a:off x="2328120" y="4929480"/>
                <a:ext cx="12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sp>
          <p:nvSpPr>
            <p:cNvPr id="532" name="TextBox 32"/>
            <p:cNvSpPr/>
            <p:nvPr/>
          </p:nvSpPr>
          <p:spPr>
            <a:xfrm>
              <a:off x="7030440" y="4802400"/>
              <a:ext cx="21312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from Interface implemented</a:t>
              </a:r>
              <a:endParaRPr b="0" lang="en-US" sz="1200" spc="-1" strike="noStrike">
                <a:solidFill>
                  <a:srgbClr val="000000"/>
                </a:solidFill>
                <a:latin typeface="Arial"/>
              </a:endParaRPr>
            </a:p>
          </p:txBody>
        </p:sp>
        <p:sp>
          <p:nvSpPr>
            <p:cNvPr id="533" name="Right Brace 33"/>
            <p:cNvSpPr/>
            <p:nvPr/>
          </p:nvSpPr>
          <p:spPr>
            <a:xfrm>
              <a:off x="6638760" y="486720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534" name="Straight Arrow Connector 41"/>
            <p:cNvCxnSpPr/>
            <p:nvPr/>
          </p:nvCxnSpPr>
          <p:spPr>
            <a:xfrm>
              <a:off x="3457800" y="5072040"/>
              <a:ext cx="1681200" cy="2520"/>
            </a:xfrm>
            <a:prstGeom prst="straightConnector1">
              <a:avLst/>
            </a:prstGeom>
            <a:ln w="28440">
              <a:solidFill>
                <a:srgbClr val="000000"/>
              </a:solidFill>
              <a:prstDash val="dash"/>
              <a:miter/>
              <a:tailEnd len="med" type="triangle" w="med"/>
            </a:ln>
          </p:spPr>
        </p:cxnSp>
        <p:sp>
          <p:nvSpPr>
            <p:cNvPr id="535" name="Right Brace 33"/>
            <p:cNvSpPr/>
            <p:nvPr/>
          </p:nvSpPr>
          <p:spPr>
            <a:xfrm flipH="1" flipV="1">
              <a:off x="1892880" y="481752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36" name="TextBox 43"/>
            <p:cNvSpPr/>
            <p:nvPr/>
          </p:nvSpPr>
          <p:spPr>
            <a:xfrm>
              <a:off x="533520" y="450972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is method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38" name="AutoShape 41"/>
          <p:cNvSpPr/>
          <p:nvPr/>
        </p:nvSpPr>
        <p:spPr>
          <a:xfrm>
            <a:off x="404640" y="1188000"/>
            <a:ext cx="2176560" cy="1157760"/>
          </a:xfrm>
          <a:prstGeom prst="wedgeRectCallout">
            <a:avLst>
              <a:gd name="adj1" fmla="val 58449"/>
              <a:gd name="adj2" fmla="val 112541"/>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Arial"/>
              </a:rPr>
              <a:t> is extended from </a:t>
            </a:r>
            <a:r>
              <a:rPr b="0" lang="en-US" sz="1400" spc="-1" strike="noStrike">
                <a:solidFill>
                  <a:srgbClr val="000000"/>
                </a:solidFill>
                <a:latin typeface="Courier New"/>
                <a:ea typeface="Courier New"/>
              </a:rPr>
              <a:t>AbstractList</a:t>
            </a:r>
            <a:r>
              <a:rPr b="0" lang="en-US" sz="1400" spc="-1" strike="noStrike">
                <a:solidFill>
                  <a:srgbClr val="000000"/>
                </a:solidFill>
                <a:latin typeface="Arial"/>
              </a:rPr>
              <a:t>, which is in turn extended from </a:t>
            </a:r>
            <a:r>
              <a:rPr b="0" lang="en-US" sz="1400" spc="-1" strike="noStrike">
                <a:solidFill>
                  <a:srgbClr val="000000"/>
                </a:solidFill>
                <a:latin typeface="Courier New"/>
                <a:ea typeface="Courier New"/>
              </a:rPr>
              <a:t>AbstractCollection</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9" name="Rectangle 5"/>
          <p:cNvSpPr/>
          <p:nvPr/>
        </p:nvSpPr>
        <p:spPr>
          <a:xfrm>
            <a:off x="2975040" y="2962440"/>
            <a:ext cx="1528560" cy="39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
          <p:cNvSpPr/>
          <p:nvPr/>
        </p:nvSpPr>
        <p:spPr>
          <a:xfrm>
            <a:off x="2925720" y="3549600"/>
            <a:ext cx="3338640" cy="211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41"/>
          <p:cNvSpPr/>
          <p:nvPr/>
        </p:nvSpPr>
        <p:spPr>
          <a:xfrm>
            <a:off x="6746760" y="2247840"/>
            <a:ext cx="1289160" cy="944640"/>
          </a:xfrm>
          <a:prstGeom prst="wedgeRectCallout">
            <a:avLst>
              <a:gd name="adj1" fmla="val -138050"/>
              <a:gd name="adj2" fmla="val 825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List implements a number of interfaces. </a:t>
            </a:r>
            <a:endParaRPr b="0" lang="en-US" sz="1400" spc="-1" strike="noStrike">
              <a:solidFill>
                <a:srgbClr val="000000"/>
              </a:solidFill>
              <a:latin typeface="Arial"/>
            </a:endParaRPr>
          </a:p>
        </p:txBody>
      </p:sp>
      <p:sp>
        <p:nvSpPr>
          <p:cNvPr id="542" name="Rectangle 8"/>
          <p:cNvSpPr/>
          <p:nvPr/>
        </p:nvSpPr>
        <p:spPr>
          <a:xfrm>
            <a:off x="2773440" y="4635360"/>
            <a:ext cx="4541760" cy="50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41"/>
          <p:cNvSpPr/>
          <p:nvPr/>
        </p:nvSpPr>
        <p:spPr>
          <a:xfrm>
            <a:off x="677880" y="5040360"/>
            <a:ext cx="1863720" cy="944640"/>
          </a:xfrm>
          <a:prstGeom prst="wedgeRectCallout">
            <a:avLst>
              <a:gd name="adj1" fmla="val 60638"/>
              <a:gd name="adj2" fmla="val -674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st interface is principally what is used when working with ArrayList. </a:t>
            </a:r>
            <a:endParaRPr b="0" lang="en-US" sz="1400" spc="-1" strike="noStrike">
              <a:solidFill>
                <a:srgbClr val="000000"/>
              </a:solidFill>
              <a:latin typeface="Arial"/>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rray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st Interface</a:t>
            </a:r>
            <a:endParaRPr b="0" lang="en-US" sz="4400" spc="-1" strike="noStrike">
              <a:solidFill>
                <a:srgbClr val="000000"/>
              </a:solidFill>
              <a:latin typeface="Calibri"/>
            </a:endParaRPr>
          </a:p>
        </p:txBody>
      </p:sp>
      <p:pic>
        <p:nvPicPr>
          <p:cNvPr id="546" name="Picture 2" descr=""/>
          <p:cNvPicPr/>
          <p:nvPr/>
        </p:nvPicPr>
        <p:blipFill>
          <a:blip r:embed="rId1"/>
          <a:stretch/>
        </p:blipFill>
        <p:spPr>
          <a:xfrm>
            <a:off x="1519200" y="1589040"/>
            <a:ext cx="4710240" cy="3543480"/>
          </a:xfrm>
          <a:prstGeom prst="rect">
            <a:avLst/>
          </a:prstGeom>
          <a:ln w="12600">
            <a:solidFill>
              <a:srgbClr val="000000"/>
            </a:solidFill>
            <a:miter/>
          </a:ln>
        </p:spPr>
      </p:pic>
      <p:sp>
        <p:nvSpPr>
          <p:cNvPr id="547" name="AutoShape 41"/>
          <p:cNvSpPr/>
          <p:nvPr/>
        </p:nvSpPr>
        <p:spPr>
          <a:xfrm>
            <a:off x="6961320" y="2333520"/>
            <a:ext cx="1393560" cy="944640"/>
          </a:xfrm>
          <a:prstGeom prst="wedgeRectCallout">
            <a:avLst>
              <a:gd name="adj1" fmla="val -100615"/>
              <a:gd name="adj2" fmla="val 11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classes implementing the List interface </a:t>
            </a:r>
            <a:endParaRPr b="0" lang="en-US" sz="1400" spc="-1" strike="noStrike">
              <a:solidFill>
                <a:srgbClr val="000000"/>
              </a:solidFill>
              <a:latin typeface="Arial"/>
            </a:endParaRPr>
          </a:p>
        </p:txBody>
      </p:sp>
      <p:sp>
        <p:nvSpPr>
          <p:cNvPr id="548" name="Rectangle 5"/>
          <p:cNvSpPr/>
          <p:nvPr/>
        </p:nvSpPr>
        <p:spPr>
          <a:xfrm>
            <a:off x="1763640" y="3854520"/>
            <a:ext cx="441972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50"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Overview of inheritance</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Working with superclasses and subclass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Polymorphism and overrid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Object 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52" name="AutoShape 41"/>
          <p:cNvSpPr/>
          <p:nvPr/>
        </p:nvSpPr>
        <p:spPr>
          <a:xfrm>
            <a:off x="650880" y="3501720"/>
            <a:ext cx="1738440" cy="518040"/>
          </a:xfrm>
          <a:prstGeom prst="wedgeRectCallout">
            <a:avLst>
              <a:gd name="adj1" fmla="val 70472"/>
              <a:gd name="adj2" fmla="val -14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Object</a:t>
            </a:r>
            <a:r>
              <a:rPr b="0" lang="en-US" sz="1400" spc="-1" strike="noStrike">
                <a:solidFill>
                  <a:srgbClr val="000000"/>
                </a:solidFill>
                <a:latin typeface="Arial"/>
              </a:rPr>
              <a:t> class is the base class.</a:t>
            </a:r>
            <a:endParaRPr b="0" lang="en-US" sz="1400" spc="-1" strike="noStrike">
              <a:solidFill>
                <a:srgbClr val="000000"/>
              </a:solidFill>
              <a:latin typeface="Arial"/>
            </a:endParaRPr>
          </a:p>
        </p:txBody>
      </p:sp>
      <p:sp>
        <p:nvSpPr>
          <p:cNvPr id="553" name="Rectangle 5"/>
          <p:cNvSpPr/>
          <p:nvPr/>
        </p:nvSpPr>
        <p:spPr>
          <a:xfrm>
            <a:off x="2770200" y="2801880"/>
            <a:ext cx="830160" cy="181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ＭＳ Ｐゴシック"/>
              </a:rPr>
              <a:t>Object</a:t>
            </a:r>
            <a:r>
              <a:rPr b="0" lang="en-US" sz="4400" spc="-1" strike="noStrike">
                <a:solidFill>
                  <a:srgbClr val="000000"/>
                </a:solidFill>
                <a:latin typeface="Calibri"/>
                <a:ea typeface="ＭＳ Ｐゴシック"/>
              </a:rPr>
              <a:t> Class</a:t>
            </a:r>
            <a:endParaRPr b="0" lang="en-US" sz="4400" spc="-1" strike="noStrike">
              <a:solidFill>
                <a:srgbClr val="000000"/>
              </a:solidFill>
              <a:latin typeface="Calibri"/>
            </a:endParaRPr>
          </a:p>
        </p:txBody>
      </p:sp>
      <p:pic>
        <p:nvPicPr>
          <p:cNvPr id="555" name="Picture 2" descr=""/>
          <p:cNvPicPr/>
          <p:nvPr/>
        </p:nvPicPr>
        <p:blipFill>
          <a:blip r:embed="rId2"/>
          <a:stretch/>
        </p:blipFill>
        <p:spPr>
          <a:xfrm>
            <a:off x="3325680" y="3475080"/>
            <a:ext cx="4640400" cy="2149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
          <p:cNvPicPr/>
          <p:nvPr/>
        </p:nvPicPr>
        <p:blipFill>
          <a:blip r:embed="rId1"/>
          <a:stretch/>
        </p:blipFill>
        <p:spPr>
          <a:xfrm>
            <a:off x="3005280" y="1393920"/>
            <a:ext cx="5211720" cy="3292560"/>
          </a:xfrm>
          <a:prstGeom prst="rect">
            <a:avLst/>
          </a:prstGeom>
          <a:ln w="12600">
            <a:solidFill>
              <a:srgbClr val="000000"/>
            </a:solidFill>
            <a:miter/>
          </a:ln>
        </p:spPr>
      </p:pic>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lling the </a:t>
            </a:r>
            <a:r>
              <a:rPr b="0" lang="en-US" sz="4400" spc="-1" strike="noStrike">
                <a:solidFill>
                  <a:srgbClr val="000000"/>
                </a:solidFill>
                <a:latin typeface="Courier New"/>
                <a:ea typeface="ＭＳ Ｐゴシック"/>
              </a:rPr>
              <a:t>toString()</a:t>
            </a:r>
            <a:r>
              <a:rPr b="0" lang="en-US" sz="4400" spc="-1" strike="noStrike">
                <a:solidFill>
                  <a:srgbClr val="000000"/>
                </a:solidFill>
                <a:latin typeface="Calibri"/>
                <a:ea typeface="ＭＳ Ｐゴシック"/>
              </a:rPr>
              <a:t> Method</a:t>
            </a:r>
            <a:endParaRPr b="0" lang="en-US" sz="4400" spc="-1" strike="noStrike">
              <a:solidFill>
                <a:srgbClr val="000000"/>
              </a:solidFill>
              <a:latin typeface="Calibri"/>
            </a:endParaRPr>
          </a:p>
        </p:txBody>
      </p:sp>
      <p:sp>
        <p:nvSpPr>
          <p:cNvPr id="558" name="AutoShape 41"/>
          <p:cNvSpPr/>
          <p:nvPr/>
        </p:nvSpPr>
        <p:spPr>
          <a:xfrm>
            <a:off x="720720" y="1163880"/>
            <a:ext cx="1644480" cy="731520"/>
          </a:xfrm>
          <a:prstGeom prst="wedgeRectCallout">
            <a:avLst>
              <a:gd name="adj1" fmla="val 131699"/>
              <a:gd name="adj2" fmla="val 5624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a:t>
            </a:r>
            <a:r>
              <a:rPr b="0" lang="en-US" sz="1400" spc="-1" strike="noStrike">
                <a:solidFill>
                  <a:srgbClr val="000000"/>
                </a:solidFill>
                <a:latin typeface="Courier New"/>
                <a:ea typeface="Courier New"/>
              </a:rPr>
              <a:t>toString()</a:t>
            </a:r>
            <a:br>
              <a:rPr sz="1400"/>
            </a:br>
            <a:r>
              <a:rPr b="0" lang="en-US" sz="1400" spc="-1" strike="noStrike">
                <a:solidFill>
                  <a:srgbClr val="000000"/>
                </a:solidFill>
                <a:latin typeface="Arial"/>
              </a:rPr>
              <a:t>is used.</a:t>
            </a:r>
            <a:endParaRPr b="0" lang="en-US" sz="1400" spc="-1" strike="noStrike">
              <a:solidFill>
                <a:srgbClr val="000000"/>
              </a:solidFill>
              <a:latin typeface="Arial"/>
            </a:endParaRPr>
          </a:p>
        </p:txBody>
      </p:sp>
      <p:sp>
        <p:nvSpPr>
          <p:cNvPr id="559" name="Rectangle 5"/>
          <p:cNvSpPr/>
          <p:nvPr/>
        </p:nvSpPr>
        <p:spPr>
          <a:xfrm>
            <a:off x="3798720" y="2206800"/>
            <a:ext cx="431676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6"/>
          <p:cNvSpPr/>
          <p:nvPr/>
        </p:nvSpPr>
        <p:spPr>
          <a:xfrm>
            <a:off x="3790800" y="1817640"/>
            <a:ext cx="2221200" cy="297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41"/>
          <p:cNvSpPr/>
          <p:nvPr/>
        </p:nvSpPr>
        <p:spPr>
          <a:xfrm>
            <a:off x="723960" y="2007720"/>
            <a:ext cx="1646280" cy="792720"/>
          </a:xfrm>
          <a:prstGeom prst="wedgeRectCallout">
            <a:avLst>
              <a:gd name="adj1" fmla="val 133777"/>
              <a:gd name="adj2" fmla="val -23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Builder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2" name="Rectangle 9"/>
          <p:cNvSpPr/>
          <p:nvPr/>
        </p:nvSpPr>
        <p:spPr>
          <a:xfrm>
            <a:off x="3794040" y="2620800"/>
            <a:ext cx="390996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
          <p:cNvSpPr/>
          <p:nvPr/>
        </p:nvSpPr>
        <p:spPr>
          <a:xfrm>
            <a:off x="3798720" y="3048120"/>
            <a:ext cx="3908520" cy="304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1"/>
          <p:cNvSpPr/>
          <p:nvPr/>
        </p:nvSpPr>
        <p:spPr>
          <a:xfrm>
            <a:off x="723960" y="2795040"/>
            <a:ext cx="1646280" cy="792720"/>
          </a:xfrm>
          <a:prstGeom prst="wedgeRectCallout">
            <a:avLst>
              <a:gd name="adj1" fmla="val 133074"/>
              <a:gd name="adj2" fmla="val -58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herit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5" name="AutoShape 41"/>
          <p:cNvSpPr/>
          <p:nvPr/>
        </p:nvSpPr>
        <p:spPr>
          <a:xfrm>
            <a:off x="727200" y="3752280"/>
            <a:ext cx="1646280" cy="792720"/>
          </a:xfrm>
          <a:prstGeom prst="wedgeRectCallout">
            <a:avLst>
              <a:gd name="adj1" fmla="val 133777"/>
              <a:gd name="adj2" fmla="val -126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Rectangle 15"/>
          <p:cNvSpPr/>
          <p:nvPr/>
        </p:nvSpPr>
        <p:spPr>
          <a:xfrm>
            <a:off x="3178080" y="3970440"/>
            <a:ext cx="3930840" cy="52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41"/>
          <p:cNvSpPr/>
          <p:nvPr/>
        </p:nvSpPr>
        <p:spPr>
          <a:xfrm>
            <a:off x="5668920" y="5403960"/>
            <a:ext cx="2220840" cy="731520"/>
          </a:xfrm>
          <a:prstGeom prst="wedgeRectCallout">
            <a:avLst>
              <a:gd name="adj1" fmla="val -46662"/>
              <a:gd name="adj2" fmla="val -156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ut for the calls to the </a:t>
            </a:r>
            <a:r>
              <a:rPr b="0" lang="en-US" sz="1400" spc="-1" strike="noStrike">
                <a:solidFill>
                  <a:srgbClr val="000000"/>
                </a:solidFill>
                <a:latin typeface="Courier New"/>
                <a:ea typeface="Courier New"/>
              </a:rPr>
              <a:t>toString()</a:t>
            </a:r>
            <a:r>
              <a:rPr b="0" lang="en-US" sz="1400" spc="-1" strike="noStrike">
                <a:solidFill>
                  <a:srgbClr val="000000"/>
                </a:solidFill>
                <a:latin typeface="Arial"/>
              </a:rPr>
              <a:t> method of each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55" name="Elbow Connector 29"/>
          <p:cNvCxnSpPr>
            <a:stCxn id="56" idx="3"/>
            <a:endCxn id="57" idx="0"/>
          </p:cNvCxnSpPr>
          <p:nvPr/>
        </p:nvCxnSpPr>
        <p:spPr>
          <a:xfrm rot="5400000">
            <a:off x="3716640" y="2570760"/>
            <a:ext cx="376920" cy="1715040"/>
          </a:xfrm>
          <a:prstGeom prst="bentConnector3">
            <a:avLst>
              <a:gd name="adj1" fmla="val 50000"/>
            </a:avLst>
          </a:prstGeom>
          <a:ln w="28440">
            <a:solidFill>
              <a:srgbClr val="c0504d"/>
            </a:solidFill>
            <a:round/>
            <a:tailEnd len="med" type="triangle" w="med"/>
          </a:ln>
        </p:spPr>
      </p:cxnSp>
      <p:cxnSp>
        <p:nvCxnSpPr>
          <p:cNvPr id="58" name="Elbow Connector 31"/>
          <p:cNvCxnSpPr>
            <a:stCxn id="56" idx="3"/>
            <a:endCxn id="59" idx="3"/>
          </p:cNvCxnSpPr>
          <p:nvPr/>
        </p:nvCxnSpPr>
        <p:spPr>
          <a:xfrm flipH="1" rot="16200000">
            <a:off x="5430600" y="2571120"/>
            <a:ext cx="384840" cy="1721520"/>
          </a:xfrm>
          <a:prstGeom prst="bentConnector3">
            <a:avLst>
              <a:gd name="adj1" fmla="val 50000"/>
            </a:avLst>
          </a:prstGeom>
          <a:ln w="28440">
            <a:solidFill>
              <a:srgbClr val="c0504d"/>
            </a:solidFill>
            <a:round/>
            <a:tailEnd len="med" type="triangle" w="med"/>
          </a:ln>
        </p:spPr>
      </p:cxnSp>
      <p:cxnSp>
        <p:nvCxnSpPr>
          <p:cNvPr id="60" name="Straight Arrow Connector 39"/>
          <p:cNvCxnSpPr/>
          <p:nvPr/>
        </p:nvCxnSpPr>
        <p:spPr>
          <a:xfrm flipH="1">
            <a:off x="4761720" y="2090880"/>
            <a:ext cx="2520" cy="390960"/>
          </a:xfrm>
          <a:prstGeom prst="straightConnector1">
            <a:avLst/>
          </a:prstGeom>
          <a:ln w="28440">
            <a:solidFill>
              <a:srgbClr val="ff0000"/>
            </a:solidFill>
            <a:miter/>
            <a:tailEnd len="med" type="triangle" w="med"/>
          </a:ln>
        </p:spPr>
      </p:cxn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lass Hierarchies</a:t>
            </a:r>
            <a:endParaRPr b="0" lang="en-US" sz="4400" spc="-1" strike="noStrike">
              <a:solidFill>
                <a:srgbClr val="000000"/>
              </a:solidFill>
              <a:latin typeface="Calibri"/>
            </a:endParaRPr>
          </a:p>
        </p:txBody>
      </p:sp>
      <p:pic>
        <p:nvPicPr>
          <p:cNvPr id="62" name="Picture 4" descr="C:\DOCUME~1\kennys\LOCALS~1\Temp\SNAGHTML326d0cc.PNG"/>
          <p:cNvPicPr/>
          <p:nvPr/>
        </p:nvPicPr>
        <p:blipFill>
          <a:blip r:embed="rId1"/>
          <a:stretch/>
        </p:blipFill>
        <p:spPr>
          <a:xfrm>
            <a:off x="5583240" y="4195800"/>
            <a:ext cx="1928880" cy="1722240"/>
          </a:xfrm>
          <a:prstGeom prst="rect">
            <a:avLst/>
          </a:prstGeom>
          <a:ln w="0">
            <a:noFill/>
          </a:ln>
        </p:spPr>
      </p:pic>
      <p:pic>
        <p:nvPicPr>
          <p:cNvPr id="63" name="Picture 6" descr="C:\DOCUME~1\kennys\LOCALS~1\Temp\SNAGHTML32723fd.PNG"/>
          <p:cNvPicPr/>
          <p:nvPr/>
        </p:nvPicPr>
        <p:blipFill>
          <a:blip r:embed="rId2"/>
          <a:stretch/>
        </p:blipFill>
        <p:spPr>
          <a:xfrm>
            <a:off x="1219320" y="4670280"/>
            <a:ext cx="3790800" cy="1086120"/>
          </a:xfrm>
          <a:prstGeom prst="rect">
            <a:avLst/>
          </a:prstGeom>
          <a:ln w="0">
            <a:noFill/>
          </a:ln>
        </p:spPr>
      </p:pic>
      <p:grpSp>
        <p:nvGrpSpPr>
          <p:cNvPr id="64" name="Group 58"/>
          <p:cNvGrpSpPr/>
          <p:nvPr/>
        </p:nvGrpSpPr>
        <p:grpSpPr>
          <a:xfrm>
            <a:off x="4092480" y="1349280"/>
            <a:ext cx="1382760" cy="750960"/>
            <a:chOff x="4092480" y="1349280"/>
            <a:chExt cx="1382760" cy="750960"/>
          </a:xfrm>
        </p:grpSpPr>
        <p:sp>
          <p:nvSpPr>
            <p:cNvPr id="65" name="Round Same Side Corner Rectangle 59"/>
            <p:cNvSpPr/>
            <p:nvPr/>
          </p:nvSpPr>
          <p:spPr>
            <a:xfrm>
              <a:off x="4092480" y="1357200"/>
              <a:ext cx="1379880" cy="520920"/>
            </a:xfrm>
            <a:custGeom>
              <a:avLst/>
              <a:gdLst>
                <a:gd name="textAreaLeft" fmla="*/ 24120 w 1379880"/>
                <a:gd name="textAreaRight" fmla="*/ 1355760 w 1379880"/>
                <a:gd name="textAreaTop" fmla="*/ 24120 h 520920"/>
                <a:gd name="textAreaBottom" fmla="*/ 521280 h 520920"/>
              </a:gdLst>
              <a:ahLst/>
              <a:rect l="textAreaLeft" t="textAreaTop" r="textAreaRight" b="textAreaBottom"/>
              <a:pathLst>
                <a:path w="1378496" h="520746">
                  <a:moveTo>
                    <a:pt x="83366" y="0"/>
                  </a:moveTo>
                  <a:lnTo>
                    <a:pt x="1295130" y="0"/>
                  </a:lnTo>
                  <a:lnTo>
                    <a:pt x="1295130" y="0"/>
                  </a:lnTo>
                  <a:arcTo wR="83366" hR="83366" stAng="-5400000" swAng="5400000"/>
                  <a:lnTo>
                    <a:pt x="1378496"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ound Same Side Corner Rectangle 60"/>
            <p:cNvSpPr/>
            <p:nvPr/>
          </p:nvSpPr>
          <p:spPr>
            <a:xfrm flipV="1">
              <a:off x="4092480" y="1622160"/>
              <a:ext cx="1379880" cy="478080"/>
            </a:xfrm>
            <a:custGeom>
              <a:avLst/>
              <a:gdLst>
                <a:gd name="textAreaLeft" fmla="*/ 19800 w 1379880"/>
                <a:gd name="textAreaRight" fmla="*/ 1360080 w 1379880"/>
                <a:gd name="textAreaTop" fmla="*/ 19800 h 478080"/>
                <a:gd name="textAreaBottom" fmla="*/ 478440 h 478080"/>
              </a:gdLst>
              <a:ahLst/>
              <a:rect l="textAreaLeft" t="textAreaTop" r="textAreaRight" b="textAreaBottom"/>
              <a:pathLst>
                <a:path w="1378496" h="477881">
                  <a:moveTo>
                    <a:pt x="68151" y="0"/>
                  </a:moveTo>
                  <a:lnTo>
                    <a:pt x="1310345" y="0"/>
                  </a:lnTo>
                  <a:lnTo>
                    <a:pt x="1310345" y="0"/>
                  </a:lnTo>
                  <a:arcTo wR="68151" hR="68151" stAng="-5400000" swAng="5400000"/>
                  <a:lnTo>
                    <a:pt x="1378496"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61"/>
            <p:cNvSpPr/>
            <p:nvPr/>
          </p:nvSpPr>
          <p:spPr>
            <a:xfrm>
              <a:off x="4172400" y="1349280"/>
              <a:ext cx="8406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mmal</a:t>
              </a:r>
              <a:endParaRPr b="0" lang="en-US" sz="1200" spc="-1" strike="noStrike">
                <a:solidFill>
                  <a:srgbClr val="000000"/>
                </a:solidFill>
                <a:latin typeface="Arial"/>
              </a:endParaRPr>
            </a:p>
          </p:txBody>
        </p:sp>
        <p:sp>
          <p:nvSpPr>
            <p:cNvPr id="68" name="TextBox 62"/>
            <p:cNvSpPr/>
            <p:nvPr/>
          </p:nvSpPr>
          <p:spPr>
            <a:xfrm>
              <a:off x="4092480" y="1635480"/>
              <a:ext cx="1382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blooded</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s air</a:t>
              </a:r>
              <a:endParaRPr b="0" lang="en-US" sz="1200" spc="-1" strike="noStrike">
                <a:solidFill>
                  <a:srgbClr val="000000"/>
                </a:solidFill>
                <a:latin typeface="Arial"/>
              </a:endParaRPr>
            </a:p>
          </p:txBody>
        </p:sp>
      </p:grpSp>
      <p:grpSp>
        <p:nvGrpSpPr>
          <p:cNvPr id="69" name="Group 63"/>
          <p:cNvGrpSpPr/>
          <p:nvPr/>
        </p:nvGrpSpPr>
        <p:grpSpPr>
          <a:xfrm>
            <a:off x="4073400" y="2489040"/>
            <a:ext cx="1378080" cy="750960"/>
            <a:chOff x="4073400" y="2489040"/>
            <a:chExt cx="1378080" cy="750960"/>
          </a:xfrm>
        </p:grpSpPr>
        <p:sp>
          <p:nvSpPr>
            <p:cNvPr id="70" name="Round Same Side Corner Rectangle 64"/>
            <p:cNvSpPr/>
            <p:nvPr/>
          </p:nvSpPr>
          <p:spPr>
            <a:xfrm>
              <a:off x="4073400" y="2496960"/>
              <a:ext cx="1378080" cy="520920"/>
            </a:xfrm>
            <a:custGeom>
              <a:avLst/>
              <a:gdLst>
                <a:gd name="textAreaLeft" fmla="*/ 24120 w 1378080"/>
                <a:gd name="textAreaRight" fmla="*/ 1353960 w 1378080"/>
                <a:gd name="textAreaTop" fmla="*/ 24120 h 520920"/>
                <a:gd name="textAreaBottom" fmla="*/ 521280 h 520920"/>
              </a:gdLst>
              <a:ahLst/>
              <a:rect l="textAreaLeft" t="textAreaTop" r="textAreaRight" b="textAreaBottom"/>
              <a:pathLst>
                <a:path w="1378458" h="520746">
                  <a:moveTo>
                    <a:pt x="83366" y="0"/>
                  </a:moveTo>
                  <a:lnTo>
                    <a:pt x="1295092" y="0"/>
                  </a:lnTo>
                  <a:lnTo>
                    <a:pt x="1295092" y="0"/>
                  </a:lnTo>
                  <a:arcTo wR="83366" hR="83366" stAng="-5400000" swAng="5400000"/>
                  <a:lnTo>
                    <a:pt x="1378458"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ound Same Side Corner Rectangle 65"/>
            <p:cNvSpPr/>
            <p:nvPr/>
          </p:nvSpPr>
          <p:spPr>
            <a:xfrm flipV="1">
              <a:off x="4073400" y="2761920"/>
              <a:ext cx="1378080" cy="478080"/>
            </a:xfrm>
            <a:custGeom>
              <a:avLst/>
              <a:gdLst>
                <a:gd name="textAreaLeft" fmla="*/ 19800 w 1378080"/>
                <a:gd name="textAreaRight" fmla="*/ 1358280 w 1378080"/>
                <a:gd name="textAreaTop" fmla="*/ 19800 h 478080"/>
                <a:gd name="textAreaBottom" fmla="*/ 478440 h 478080"/>
              </a:gdLst>
              <a:ahLst/>
              <a:rect l="textAreaLeft" t="textAreaTop" r="textAreaRight" b="textAreaBottom"/>
              <a:pathLst>
                <a:path w="1378458" h="477881">
                  <a:moveTo>
                    <a:pt x="68151" y="0"/>
                  </a:moveTo>
                  <a:lnTo>
                    <a:pt x="1310307" y="0"/>
                  </a:lnTo>
                  <a:lnTo>
                    <a:pt x="1310307" y="0"/>
                  </a:lnTo>
                  <a:arcTo wR="68151" hR="68151" stAng="-5400000" swAng="5400000"/>
                  <a:lnTo>
                    <a:pt x="1378458"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66"/>
            <p:cNvSpPr/>
            <p:nvPr/>
          </p:nvSpPr>
          <p:spPr>
            <a:xfrm>
              <a:off x="4153320" y="2489040"/>
              <a:ext cx="8398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le</a:t>
              </a:r>
              <a:endParaRPr b="0" lang="en-US" sz="1200" spc="-1" strike="noStrike">
                <a:solidFill>
                  <a:srgbClr val="000000"/>
                </a:solidFill>
                <a:latin typeface="Arial"/>
              </a:endParaRPr>
            </a:p>
          </p:txBody>
        </p:sp>
        <p:sp>
          <p:nvSpPr>
            <p:cNvPr id="72" name="TextBox 67"/>
            <p:cNvSpPr/>
            <p:nvPr/>
          </p:nvSpPr>
          <p:spPr>
            <a:xfrm>
              <a:off x="4155480" y="2775240"/>
              <a:ext cx="1076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ke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pers</a:t>
              </a:r>
              <a:endParaRPr b="0" lang="en-US" sz="1200" spc="-1" strike="noStrike">
                <a:solidFill>
                  <a:srgbClr val="000000"/>
                </a:solidFill>
                <a:latin typeface="Arial"/>
              </a:endParaRPr>
            </a:p>
          </p:txBody>
        </p:sp>
      </p:grpSp>
      <p:grpSp>
        <p:nvGrpSpPr>
          <p:cNvPr id="73" name="Group 63"/>
          <p:cNvGrpSpPr/>
          <p:nvPr/>
        </p:nvGrpSpPr>
        <p:grpSpPr>
          <a:xfrm>
            <a:off x="2427120" y="3616200"/>
            <a:ext cx="1260720" cy="621000"/>
            <a:chOff x="2427120" y="3616200"/>
            <a:chExt cx="1260720" cy="621000"/>
          </a:xfrm>
        </p:grpSpPr>
        <p:sp>
          <p:nvSpPr>
            <p:cNvPr id="74" name="Round Same Side Corner Rectangle 18"/>
            <p:cNvSpPr/>
            <p:nvPr/>
          </p:nvSpPr>
          <p:spPr>
            <a:xfrm>
              <a:off x="2427120" y="3624120"/>
              <a:ext cx="1260720" cy="520920"/>
            </a:xfrm>
            <a:custGeom>
              <a:avLst/>
              <a:gdLst>
                <a:gd name="textAreaLeft" fmla="*/ 21960 w 1260720"/>
                <a:gd name="textAreaRight" fmla="*/ 1238760 w 1260720"/>
                <a:gd name="textAreaTop" fmla="*/ 24120 h 520920"/>
                <a:gd name="textAreaBottom" fmla="*/ 521280 h 520920"/>
              </a:gdLst>
              <a:ahLst/>
              <a:rect l="textAreaLeft" t="textAreaTop" r="textAreaRight" b="textAreaBottom"/>
              <a:pathLst>
                <a:path w="1378458" h="520169">
                  <a:moveTo>
                    <a:pt x="83274" y="0"/>
                  </a:moveTo>
                  <a:lnTo>
                    <a:pt x="1295184" y="0"/>
                  </a:lnTo>
                  <a:lnTo>
                    <a:pt x="1295184" y="0"/>
                  </a:lnTo>
                  <a:arcTo wR="83274" hR="83274" stAng="-5400000" swAng="5400000"/>
                  <a:lnTo>
                    <a:pt x="1378458" y="520169"/>
                  </a:lnTo>
                  <a:lnTo>
                    <a:pt x="0" y="520169"/>
                  </a:lnTo>
                  <a:lnTo>
                    <a:pt x="0" y="83274"/>
                  </a:lnTo>
                  <a:lnTo>
                    <a:pt x="0" y="83274"/>
                  </a:lnTo>
                  <a:arcTo wR="83274" hR="832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ound Same Side Corner Rectangle 19"/>
            <p:cNvSpPr/>
            <p:nvPr/>
          </p:nvSpPr>
          <p:spPr>
            <a:xfrm flipV="1">
              <a:off x="2427120" y="3889440"/>
              <a:ext cx="1260720" cy="347760"/>
            </a:xfrm>
            <a:custGeom>
              <a:avLst/>
              <a:gdLst>
                <a:gd name="textAreaLeft" fmla="*/ 12960 w 1260720"/>
                <a:gd name="textAreaRight" fmla="*/ 1247760 w 1260720"/>
                <a:gd name="textAreaTop" fmla="*/ 14400 h 347760"/>
                <a:gd name="textAreaBottom" fmla="*/ 347760 h 347760"/>
              </a:gdLst>
              <a:ahLst/>
              <a:rect l="textAreaLeft" t="textAreaTop" r="textAreaRight" b="textAreaBottom"/>
              <a:pathLst>
                <a:path w="1378458" h="347308">
                  <a:moveTo>
                    <a:pt x="49530" y="0"/>
                  </a:moveTo>
                  <a:lnTo>
                    <a:pt x="1328928" y="0"/>
                  </a:lnTo>
                  <a:lnTo>
                    <a:pt x="1328928" y="0"/>
                  </a:lnTo>
                  <a:arcTo wR="49530" hR="49530" stAng="-5400000" swAng="5400000"/>
                  <a:lnTo>
                    <a:pt x="1378458" y="347308"/>
                  </a:lnTo>
                  <a:lnTo>
                    <a:pt x="0" y="347308"/>
                  </a:lnTo>
                  <a:lnTo>
                    <a:pt x="0" y="49530"/>
                  </a:lnTo>
                  <a:lnTo>
                    <a:pt x="0" y="49530"/>
                  </a:lnTo>
                  <a:arcTo wR="49530" hR="495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66"/>
            <p:cNvSpPr/>
            <p:nvPr/>
          </p:nvSpPr>
          <p:spPr>
            <a:xfrm>
              <a:off x="2500200" y="3616200"/>
              <a:ext cx="1094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ue Whale</a:t>
              </a:r>
              <a:endParaRPr b="0" lang="en-US" sz="1200" spc="-1" strike="noStrike">
                <a:solidFill>
                  <a:srgbClr val="000000"/>
                </a:solidFill>
                <a:latin typeface="Arial"/>
              </a:endParaRPr>
            </a:p>
          </p:txBody>
        </p:sp>
        <p:sp>
          <p:nvSpPr>
            <p:cNvPr id="76" name="TextBox 67"/>
            <p:cNvSpPr/>
            <p:nvPr/>
          </p:nvSpPr>
          <p:spPr>
            <a:xfrm>
              <a:off x="2502000" y="3902760"/>
              <a:ext cx="984960" cy="2466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63"/>
          <p:cNvGrpSpPr/>
          <p:nvPr/>
        </p:nvGrpSpPr>
        <p:grpSpPr>
          <a:xfrm>
            <a:off x="5643720" y="3616200"/>
            <a:ext cx="2022480" cy="618840"/>
            <a:chOff x="5643720" y="3616200"/>
            <a:chExt cx="2022480" cy="618840"/>
          </a:xfrm>
        </p:grpSpPr>
        <p:sp>
          <p:nvSpPr>
            <p:cNvPr id="59" name="Round Same Side Corner Rectangle 23"/>
            <p:cNvSpPr/>
            <p:nvPr/>
          </p:nvSpPr>
          <p:spPr>
            <a:xfrm>
              <a:off x="5643720" y="3624120"/>
              <a:ext cx="1677960" cy="520920"/>
            </a:xfrm>
            <a:custGeom>
              <a:avLst/>
              <a:gdLst>
                <a:gd name="textAreaLeft" fmla="*/ 29520 w 1677960"/>
                <a:gd name="textAreaRight" fmla="*/ 1648440 w 1677960"/>
                <a:gd name="textAreaTop" fmla="*/ 24120 h 520920"/>
                <a:gd name="textAreaBottom" fmla="*/ 521280 h 520920"/>
              </a:gdLst>
              <a:ahLst/>
              <a:rect l="textAreaLeft" t="textAreaTop" r="textAreaRight" b="textAreaBottom"/>
              <a:pathLst>
                <a:path w="1378765" h="521503">
                  <a:moveTo>
                    <a:pt x="83487" y="0"/>
                  </a:moveTo>
                  <a:lnTo>
                    <a:pt x="1295278" y="0"/>
                  </a:lnTo>
                  <a:lnTo>
                    <a:pt x="1295278" y="0"/>
                  </a:lnTo>
                  <a:arcTo wR="83487" hR="83487" stAng="-5400000" swAng="5400000"/>
                  <a:lnTo>
                    <a:pt x="1378765" y="521503"/>
                  </a:lnTo>
                  <a:lnTo>
                    <a:pt x="0" y="521503"/>
                  </a:lnTo>
                  <a:lnTo>
                    <a:pt x="0" y="83487"/>
                  </a:lnTo>
                  <a:lnTo>
                    <a:pt x="0" y="83487"/>
                  </a:lnTo>
                  <a:arcTo wR="83487" hR="834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ound Same Side Corner Rectangle 24"/>
            <p:cNvSpPr/>
            <p:nvPr/>
          </p:nvSpPr>
          <p:spPr>
            <a:xfrm flipV="1">
              <a:off x="5643720" y="3888720"/>
              <a:ext cx="1677960" cy="345960"/>
            </a:xfrm>
            <a:custGeom>
              <a:avLst/>
              <a:gdLst>
                <a:gd name="textAreaLeft" fmla="*/ 17280 w 1677960"/>
                <a:gd name="textAreaRight" fmla="*/ 1660680 w 1677960"/>
                <a:gd name="textAreaTop" fmla="*/ 14040 h 345960"/>
                <a:gd name="textAreaBottom" fmla="*/ 345960 h 345960"/>
              </a:gdLst>
              <a:ahLst/>
              <a:rect l="textAreaLeft" t="textAreaTop" r="textAreaRight" b="textAreaBottom"/>
              <a:pathLst>
                <a:path w="1378765" h="346609">
                  <a:moveTo>
                    <a:pt x="49430" y="0"/>
                  </a:moveTo>
                  <a:lnTo>
                    <a:pt x="1329335" y="0"/>
                  </a:lnTo>
                  <a:lnTo>
                    <a:pt x="1329335" y="0"/>
                  </a:lnTo>
                  <a:arcTo wR="49430" hR="49430" stAng="-5400000" swAng="5400000"/>
                  <a:lnTo>
                    <a:pt x="1378765" y="346609"/>
                  </a:lnTo>
                  <a:lnTo>
                    <a:pt x="0" y="346609"/>
                  </a:lnTo>
                  <a:lnTo>
                    <a:pt x="0" y="49430"/>
                  </a:lnTo>
                  <a:lnTo>
                    <a:pt x="0" y="49430"/>
                  </a:lnTo>
                  <a:arcTo wR="49430" hR="494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6"/>
            <p:cNvSpPr/>
            <p:nvPr/>
          </p:nvSpPr>
          <p:spPr>
            <a:xfrm>
              <a:off x="5740920" y="3616200"/>
              <a:ext cx="19252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pbackWhale</a:t>
              </a:r>
              <a:endParaRPr b="0" lang="en-US" sz="1200" spc="-1" strike="noStrike">
                <a:solidFill>
                  <a:srgbClr val="000000"/>
                </a:solidFill>
                <a:latin typeface="Arial"/>
              </a:endParaRPr>
            </a:p>
          </p:txBody>
        </p:sp>
        <p:sp>
          <p:nvSpPr>
            <p:cNvPr id="80" name="TextBox 67"/>
            <p:cNvSpPr/>
            <p:nvPr/>
          </p:nvSpPr>
          <p:spPr>
            <a:xfrm>
              <a:off x="5743440" y="3902040"/>
              <a:ext cx="1310760" cy="2458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569" name=""/>
          <p:cNvSpPr txBox="1"/>
          <p:nvPr/>
        </p:nvSpPr>
        <p:spPr>
          <a:xfrm>
            <a:off x="609480" y="1447920"/>
            <a:ext cx="7918560" cy="3139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ich methods of an object can be accessed via an interface that it implement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super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s declared in the interface</a:t>
            </a:r>
            <a:endParaRPr b="0" lang="en-US" sz="2600" spc="-1" strike="noStrike">
              <a:solidFill>
                <a:srgbClr val="000000"/>
              </a:solidFill>
              <a:latin typeface="Calibri"/>
            </a:endParaRPr>
          </a:p>
          <a:p>
            <a:pPr lvl="1" marL="566640" indent="-449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mmary</a:t>
            </a:r>
            <a:endParaRPr b="0" lang="en-US" sz="4400" spc="-1" strike="noStrike">
              <a:solidFill>
                <a:srgbClr val="000000"/>
              </a:solidFill>
              <a:latin typeface="Calibri"/>
            </a:endParaRPr>
          </a:p>
        </p:txBody>
      </p:sp>
      <p:sp>
        <p:nvSpPr>
          <p:cNvPr id="572" name=""/>
          <p:cNvSpPr txBox="1"/>
          <p:nvPr/>
        </p:nvSpPr>
        <p:spPr>
          <a:xfrm>
            <a:off x="609480" y="1447560"/>
            <a:ext cx="7918560" cy="4562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In this lesson, you should have learned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class hierarchies with subclasses and superclasses helps to create extensible and maintainable code b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Generalizing and abstracting code that may otherwise be duplica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ing polymorphism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llows you to link classes in different object hierarchies by their common behavio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e an Interface reference type in your</a:t>
            </a:r>
            <a:br>
              <a:rPr sz="2000"/>
            </a:br>
            <a:r>
              <a:rPr b="0" lang="en-US" sz="2000" spc="-1" strike="noStrike">
                <a:solidFill>
                  <a:srgbClr val="000000"/>
                </a:solidFill>
                <a:latin typeface="Calibri"/>
                <a:ea typeface="ＭＳ Ｐゴシック"/>
              </a:rPr>
              <a:t>code so that the implementing class can</a:t>
            </a:r>
            <a:br>
              <a:rPr sz="2000"/>
            </a:br>
            <a:r>
              <a:rPr b="0" lang="en-US" sz="2000" spc="-1" strike="noStrike">
                <a:solidFill>
                  <a:srgbClr val="000000"/>
                </a:solidFill>
                <a:latin typeface="Calibri"/>
                <a:ea typeface="ＭＳ Ｐゴシック"/>
              </a:rPr>
              <a:t>be changed more easily.</a:t>
            </a:r>
            <a:endParaRPr b="0" lang="en-US" sz="2000" spc="-1" strike="noStrike">
              <a:solidFill>
                <a:srgbClr val="000000"/>
              </a:solidFill>
              <a:latin typeface="Calibri"/>
            </a:endParaRPr>
          </a:p>
        </p:txBody>
      </p:sp>
      <p:pic>
        <p:nvPicPr>
          <p:cNvPr id="573"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11 Overview: </a:t>
            </a:r>
            <a:br>
              <a:rPr sz="4000"/>
            </a:br>
            <a:endParaRPr b="0" lang="en-US" sz="4000" spc="-1" strike="noStrike">
              <a:solidFill>
                <a:srgbClr val="000000"/>
              </a:solidFill>
              <a:latin typeface="Calibri"/>
            </a:endParaRPr>
          </a:p>
        </p:txBody>
      </p:sp>
      <p:sp>
        <p:nvSpPr>
          <p:cNvPr id="575" name=""/>
          <p:cNvSpPr txBox="1"/>
          <p:nvPr/>
        </p:nvSpPr>
        <p:spPr>
          <a:xfrm>
            <a:off x="609480" y="1447560"/>
            <a:ext cx="7918560" cy="3927240"/>
          </a:xfrm>
          <a:prstGeom prst="rect">
            <a:avLst/>
          </a:prstGeom>
          <a:noFill/>
          <a:ln w="0">
            <a:noFill/>
          </a:ln>
        </p:spPr>
        <p:txBody>
          <a:bodyPr anchor="t">
            <a:normAutofit/>
          </a:bodyPr>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design and then create a class hierarchy that will form the basis for an Employee Tracking System of the Marketing department in the Duke’s Choice company. </a:t>
            </a:r>
            <a:endParaRPr b="0" lang="en-US" sz="2400" spc="-1" strike="noStrike">
              <a:solidFill>
                <a:srgbClr val="000000"/>
              </a:solidFill>
              <a:latin typeface="Calibri"/>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 simple design model for the class hierarchy</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the actual classes and test them</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create an interface. 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n interface called Printable and implement it within the class hierarchy that you built in Practice 11-1</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amine and run another small application that uses the same Printable interface</a:t>
            </a:r>
            <a:endParaRPr b="0" lang="en-US" sz="2200" spc="-1" strike="noStrike">
              <a:solidFill>
                <a:srgbClr val="000000"/>
              </a:solidFill>
              <a:latin typeface="Calibri"/>
            </a:endParaRPr>
          </a:p>
          <a:p>
            <a:pPr lv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6" name="Picture 3" descr="Duke-Practise-Overview.gif"/>
          <p:cNvPicPr/>
          <p:nvPr/>
        </p:nvPicPr>
        <p:blipFill>
          <a:blip r:embed="rId1"/>
          <a:stretch/>
        </p:blipFill>
        <p:spPr>
          <a:xfrm>
            <a:off x="7566120" y="5222880"/>
            <a:ext cx="1455480" cy="149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8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1295280" y="1547640"/>
          <a:ext cx="6629400" cy="4408560"/>
        </p:xfrm>
        <a:graphic>
          <a:graphicData uri="http://schemas.openxmlformats.org/drawingml/2006/table">
            <a:tbl>
              <a:tblPr/>
              <a:tblGrid>
                <a:gridCol w="3316320"/>
                <a:gridCol w="3313080"/>
              </a:tblGrid>
              <a:tr h="509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Trouser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5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79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4" name="Rectangle 5"/>
          <p:cNvSpPr/>
          <p:nvPr/>
        </p:nvSpPr>
        <p:spPr>
          <a:xfrm>
            <a:off x="609480" y="439560"/>
            <a:ext cx="7918560" cy="87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mmon Behavior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de Duplication</a:t>
            </a:r>
            <a:br>
              <a:rPr sz="4000"/>
            </a:br>
            <a:endParaRPr b="0" lang="en-US" sz="4000" spc="-1" strike="noStrike">
              <a:solidFill>
                <a:srgbClr val="000000"/>
              </a:solidFill>
              <a:latin typeface="Calibri"/>
            </a:endParaRPr>
          </a:p>
        </p:txBody>
      </p:sp>
      <p:grpSp>
        <p:nvGrpSpPr>
          <p:cNvPr id="87" name="Group 18"/>
          <p:cNvGrpSpPr/>
          <p:nvPr/>
        </p:nvGrpSpPr>
        <p:grpSpPr>
          <a:xfrm>
            <a:off x="2257560" y="3811680"/>
            <a:ext cx="4638600" cy="1904760"/>
            <a:chOff x="2257560" y="3811680"/>
            <a:chExt cx="4638600" cy="1904760"/>
          </a:xfrm>
        </p:grpSpPr>
        <p:pic>
          <p:nvPicPr>
            <p:cNvPr id="88" name="Picture 5" descr="C:\DOCUME~1\kennys\LOCALS~1\Temp\SNAGHTML38521aca.PNG"/>
            <p:cNvPicPr/>
            <p:nvPr/>
          </p:nvPicPr>
          <p:blipFill>
            <a:blip r:embed="rId1"/>
            <a:stretch/>
          </p:blipFill>
          <p:spPr>
            <a:xfrm>
              <a:off x="2257560" y="4019400"/>
              <a:ext cx="896760" cy="1488960"/>
            </a:xfrm>
            <a:prstGeom prst="rect">
              <a:avLst/>
            </a:prstGeom>
            <a:ln w="0">
              <a:noFill/>
            </a:ln>
          </p:spPr>
        </p:pic>
        <p:pic>
          <p:nvPicPr>
            <p:cNvPr id="89" name="Picture 7" descr="C:\work\Java_fundamentals\lessons\les_06_vars\socks.gif"/>
            <p:cNvPicPr/>
            <p:nvPr/>
          </p:nvPicPr>
          <p:blipFill>
            <a:blip r:embed="rId2"/>
            <a:stretch/>
          </p:blipFill>
          <p:spPr>
            <a:xfrm>
              <a:off x="6353280" y="4125960"/>
              <a:ext cx="542880" cy="1276200"/>
            </a:xfrm>
            <a:prstGeom prst="rect">
              <a:avLst/>
            </a:prstGeom>
            <a:ln w="0">
              <a:noFill/>
            </a:ln>
          </p:spPr>
        </p:pic>
        <p:pic>
          <p:nvPicPr>
            <p:cNvPr id="90" name="Picture 10" descr="C:\DOCUME~1\kennys\LOCALS~1\Temp\SNAGHTML3853fc4b.PNG"/>
            <p:cNvPicPr/>
            <p:nvPr/>
          </p:nvPicPr>
          <p:blipFill>
            <a:blip r:embed="rId3"/>
            <a:stretch/>
          </p:blipFill>
          <p:spPr>
            <a:xfrm>
              <a:off x="4249800" y="3811680"/>
              <a:ext cx="1095120" cy="1904760"/>
            </a:xfrm>
            <a:prstGeom prst="rect">
              <a:avLst/>
            </a:prstGeom>
            <a:ln w="0">
              <a:noFill/>
            </a:ln>
          </p:spPr>
        </p:pic>
      </p:grpSp>
      <p:sp>
        <p:nvSpPr>
          <p:cNvPr id="91" name="Round Same Side Corner Rectangle 82"/>
          <p:cNvSpPr/>
          <p:nvPr/>
        </p:nvSpPr>
        <p:spPr>
          <a:xfrm>
            <a:off x="2158920" y="1704960"/>
            <a:ext cx="1166760" cy="615960"/>
          </a:xfrm>
          <a:custGeom>
            <a:avLst/>
            <a:gdLst>
              <a:gd name="textAreaLeft" fmla="*/ 28800 w 1166760"/>
              <a:gd name="textAreaRight" fmla="*/ 1137960 w 1166760"/>
              <a:gd name="textAreaTop" fmla="*/ 28800 h 615960"/>
              <a:gd name="textAreaBottom" fmla="*/ 616320 h 615960"/>
            </a:gdLst>
            <a:ahLst/>
            <a:rect l="textAreaLeft" t="textAreaTop" r="textAreaRight" b="textAreaBottom"/>
            <a:pathLst>
              <a:path w="1166813" h="615950">
                <a:moveTo>
                  <a:pt x="98607" y="0"/>
                </a:moveTo>
                <a:lnTo>
                  <a:pt x="1068206" y="0"/>
                </a:lnTo>
                <a:lnTo>
                  <a:pt x="1068206" y="0"/>
                </a:lnTo>
                <a:arcTo wR="98607" hR="98607" stAng="-5400000" swAng="5400000"/>
                <a:lnTo>
                  <a:pt x="1166813" y="615950"/>
                </a:lnTo>
                <a:lnTo>
                  <a:pt x="0" y="615950"/>
                </a:lnTo>
                <a:lnTo>
                  <a:pt x="0" y="98607"/>
                </a:lnTo>
                <a:lnTo>
                  <a:pt x="0" y="98607"/>
                </a:lnTo>
                <a:arcTo wR="98607" hR="986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 Same Side Corner Rectangle 83"/>
          <p:cNvSpPr/>
          <p:nvPr/>
        </p:nvSpPr>
        <p:spPr>
          <a:xfrm flipV="1">
            <a:off x="2158920" y="2017800"/>
            <a:ext cx="1166760" cy="1644480"/>
          </a:xfrm>
          <a:custGeom>
            <a:avLst/>
            <a:gdLst>
              <a:gd name="textAreaLeft" fmla="*/ 48600 w 1166760"/>
              <a:gd name="textAreaRight" fmla="*/ 1118160 w 1166760"/>
              <a:gd name="textAreaTop" fmla="*/ 48600 h 1644480"/>
              <a:gd name="textAreaBottom" fmla="*/ 1644840 h 1644480"/>
            </a:gdLst>
            <a:ahLst/>
            <a:rect l="textAreaLeft" t="textAreaTop" r="textAreaRight" b="textAreaBottom"/>
            <a:pathLst>
              <a:path w="1166813" h="1644650">
                <a:moveTo>
                  <a:pt x="166399" y="0"/>
                </a:moveTo>
                <a:lnTo>
                  <a:pt x="1000414" y="0"/>
                </a:lnTo>
                <a:lnTo>
                  <a:pt x="1000414" y="0"/>
                </a:lnTo>
                <a:arcTo wR="166399" hR="166399" stAng="-5400000" swAng="5400000"/>
                <a:lnTo>
                  <a:pt x="1166813" y="1644650"/>
                </a:lnTo>
                <a:lnTo>
                  <a:pt x="0" y="1644650"/>
                </a:lnTo>
                <a:lnTo>
                  <a:pt x="0" y="166399"/>
                </a:lnTo>
                <a:lnTo>
                  <a:pt x="0" y="166399"/>
                </a:lnTo>
                <a:arcTo wR="166399" hR="16639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84"/>
          <p:cNvSpPr/>
          <p:nvPr/>
        </p:nvSpPr>
        <p:spPr>
          <a:xfrm>
            <a:off x="2179800" y="169560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94" name="TextBox 85"/>
          <p:cNvSpPr/>
          <p:nvPr/>
        </p:nvSpPr>
        <p:spPr>
          <a:xfrm>
            <a:off x="2185920" y="2104920"/>
            <a:ext cx="124164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sp>
        <p:nvSpPr>
          <p:cNvPr id="95" name="Round Same Side Corner Rectangle 44"/>
          <p:cNvSpPr/>
          <p:nvPr/>
        </p:nvSpPr>
        <p:spPr>
          <a:xfrm>
            <a:off x="4130640" y="1709640"/>
            <a:ext cx="1165320" cy="617760"/>
          </a:xfrm>
          <a:custGeom>
            <a:avLst/>
            <a:gdLst>
              <a:gd name="textAreaLeft" fmla="*/ 28800 w 1165320"/>
              <a:gd name="textAreaRight" fmla="*/ 1136520 w 1165320"/>
              <a:gd name="textAreaTop" fmla="*/ 28800 h 617760"/>
              <a:gd name="textAreaBottom" fmla="*/ 618120 h 617760"/>
            </a:gdLst>
            <a:ahLst/>
            <a:rect l="textAreaLeft" t="textAreaTop" r="textAreaRight" b="textAreaBottom"/>
            <a:pathLst>
              <a:path w="1165225" h="617537">
                <a:moveTo>
                  <a:pt x="98861" y="0"/>
                </a:moveTo>
                <a:lnTo>
                  <a:pt x="1066364" y="0"/>
                </a:lnTo>
                <a:lnTo>
                  <a:pt x="1066364" y="0"/>
                </a:lnTo>
                <a:arcTo wR="98861" hR="98861" stAng="-5400000" swAng="5400000"/>
                <a:lnTo>
                  <a:pt x="1165225" y="617537"/>
                </a:lnTo>
                <a:lnTo>
                  <a:pt x="0" y="617537"/>
                </a:lnTo>
                <a:lnTo>
                  <a:pt x="0" y="98861"/>
                </a:lnTo>
                <a:lnTo>
                  <a:pt x="0" y="98861"/>
                </a:lnTo>
                <a:arcTo wR="98861" hR="9886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 Same Side Corner Rectangle 45"/>
          <p:cNvSpPr/>
          <p:nvPr/>
        </p:nvSpPr>
        <p:spPr>
          <a:xfrm flipV="1">
            <a:off x="4130640" y="2023200"/>
            <a:ext cx="1165320" cy="1793880"/>
          </a:xfrm>
          <a:custGeom>
            <a:avLst/>
            <a:gdLst>
              <a:gd name="textAreaLeft" fmla="*/ 48600 w 1165320"/>
              <a:gd name="textAreaRight" fmla="*/ 1116720 w 1165320"/>
              <a:gd name="textAreaTop" fmla="*/ 48600 h 1793880"/>
              <a:gd name="textAreaBottom" fmla="*/ 1794240 h 1793880"/>
            </a:gdLst>
            <a:ahLst/>
            <a:rect l="textAreaLeft" t="textAreaTop" r="textAreaRight" b="textAreaBottom"/>
            <a:pathLst>
              <a:path w="1165225" h="1793875">
                <a:moveTo>
                  <a:pt x="166173" y="0"/>
                </a:moveTo>
                <a:lnTo>
                  <a:pt x="999052" y="0"/>
                </a:lnTo>
                <a:lnTo>
                  <a:pt x="999052" y="0"/>
                </a:lnTo>
                <a:arcTo wR="166173" hR="166173" stAng="-5400000" swAng="5400000"/>
                <a:lnTo>
                  <a:pt x="1165225" y="1793875"/>
                </a:lnTo>
                <a:lnTo>
                  <a:pt x="0" y="1793875"/>
                </a:lnTo>
                <a:lnTo>
                  <a:pt x="0" y="166173"/>
                </a:lnTo>
                <a:lnTo>
                  <a:pt x="0" y="166173"/>
                </a:lnTo>
                <a:arcTo wR="166173" hR="16617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84"/>
          <p:cNvSpPr/>
          <p:nvPr/>
        </p:nvSpPr>
        <p:spPr>
          <a:xfrm>
            <a:off x="4146120" y="1700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98" name="TextBox 85"/>
          <p:cNvSpPr/>
          <p:nvPr/>
        </p:nvSpPr>
        <p:spPr>
          <a:xfrm>
            <a:off x="4141800" y="2138400"/>
            <a:ext cx="129204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99" name="Group 48"/>
          <p:cNvGrpSpPr/>
          <p:nvPr/>
        </p:nvGrpSpPr>
        <p:grpSpPr>
          <a:xfrm>
            <a:off x="5973840" y="1704960"/>
            <a:ext cx="1314360" cy="1538280"/>
            <a:chOff x="5973840" y="1704960"/>
            <a:chExt cx="1314360" cy="1538280"/>
          </a:xfrm>
        </p:grpSpPr>
        <p:sp>
          <p:nvSpPr>
            <p:cNvPr id="100" name="Round Same Side Corner Rectangle 49"/>
            <p:cNvSpPr/>
            <p:nvPr/>
          </p:nvSpPr>
          <p:spPr>
            <a:xfrm>
              <a:off x="5979960" y="1714320"/>
              <a:ext cx="1165320" cy="615960"/>
            </a:xfrm>
            <a:custGeom>
              <a:avLst/>
              <a:gdLst>
                <a:gd name="textAreaLeft" fmla="*/ 32040 w 1165320"/>
                <a:gd name="textAreaRight" fmla="*/ 1133280 w 1165320"/>
                <a:gd name="textAreaTop" fmla="*/ 28800 h 615960"/>
                <a:gd name="textAreaBottom" fmla="*/ 616320 h 615960"/>
              </a:gdLst>
              <a:ahLst/>
              <a:rect l="textAreaLeft" t="textAreaTop" r="textAreaRight" b="textAreaBottom"/>
              <a:pathLst>
                <a:path w="881709" h="520474">
                  <a:moveTo>
                    <a:pt x="83323" y="0"/>
                  </a:moveTo>
                  <a:lnTo>
                    <a:pt x="798386" y="0"/>
                  </a:lnTo>
                  <a:lnTo>
                    <a:pt x="798386" y="0"/>
                  </a:lnTo>
                  <a:arcTo wR="83323" hR="83323" stAng="-5400000" swAng="5400000"/>
                  <a:lnTo>
                    <a:pt x="881709" y="520474"/>
                  </a:lnTo>
                  <a:lnTo>
                    <a:pt x="0" y="520474"/>
                  </a:lnTo>
                  <a:lnTo>
                    <a:pt x="0" y="83323"/>
                  </a:lnTo>
                  <a:lnTo>
                    <a:pt x="0" y="83323"/>
                  </a:lnTo>
                  <a:arcTo wR="83323" hR="833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 Same Side Corner Rectangle 50"/>
            <p:cNvSpPr/>
            <p:nvPr/>
          </p:nvSpPr>
          <p:spPr>
            <a:xfrm flipV="1">
              <a:off x="5979960" y="2028600"/>
              <a:ext cx="1165320" cy="1214640"/>
            </a:xfrm>
            <a:custGeom>
              <a:avLst/>
              <a:gdLst>
                <a:gd name="textAreaLeft" fmla="*/ 48600 w 1165320"/>
                <a:gd name="textAreaRight" fmla="*/ 1116720 w 1165320"/>
                <a:gd name="textAreaTop" fmla="*/ 43560 h 1214640"/>
                <a:gd name="textAreaBottom" fmla="*/ 1215000 h 1214640"/>
              </a:gdLst>
              <a:ahLst/>
              <a:rect l="textAreaLeft" t="textAreaTop" r="textAreaRight" b="textAreaBottom"/>
              <a:pathLst>
                <a:path w="881709" h="1026194">
                  <a:moveTo>
                    <a:pt x="125741" y="0"/>
                  </a:moveTo>
                  <a:lnTo>
                    <a:pt x="755968" y="0"/>
                  </a:lnTo>
                  <a:lnTo>
                    <a:pt x="755968" y="0"/>
                  </a:lnTo>
                  <a:arcTo wR="125741" hR="125741" stAng="-5400000" swAng="5400000"/>
                  <a:lnTo>
                    <a:pt x="881709" y="1026194"/>
                  </a:lnTo>
                  <a:lnTo>
                    <a:pt x="0" y="1026194"/>
                  </a:lnTo>
                  <a:lnTo>
                    <a:pt x="0" y="125741"/>
                  </a:lnTo>
                  <a:lnTo>
                    <a:pt x="0" y="125741"/>
                  </a:lnTo>
                  <a:arcTo wR="125741" hR="125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84"/>
            <p:cNvSpPr/>
            <p:nvPr/>
          </p:nvSpPr>
          <p:spPr>
            <a:xfrm>
              <a:off x="5998320" y="17049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03" name="TextBox 85"/>
            <p:cNvSpPr/>
            <p:nvPr/>
          </p:nvSpPr>
          <p:spPr>
            <a:xfrm>
              <a:off x="5973840" y="2043000"/>
              <a:ext cx="1314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38"/>
          <p:cNvGrpSpPr/>
          <p:nvPr/>
        </p:nvGrpSpPr>
        <p:grpSpPr>
          <a:xfrm>
            <a:off x="1835280" y="1227240"/>
            <a:ext cx="5759280" cy="3277800"/>
            <a:chOff x="1835280" y="1227240"/>
            <a:chExt cx="5759280" cy="3277800"/>
          </a:xfrm>
        </p:grpSpPr>
        <p:cxnSp>
          <p:nvCxnSpPr>
            <p:cNvPr id="105" name="Straight Arrow Connector 35"/>
            <p:cNvCxnSpPr/>
            <p:nvPr/>
          </p:nvCxnSpPr>
          <p:spPr>
            <a:xfrm flipH="1">
              <a:off x="4713840" y="2741040"/>
              <a:ext cx="2520" cy="670680"/>
            </a:xfrm>
            <a:prstGeom prst="straightConnector1">
              <a:avLst/>
            </a:prstGeom>
            <a:ln w="28440">
              <a:solidFill>
                <a:srgbClr val="c0504d"/>
              </a:solidFill>
              <a:miter/>
              <a:tailEnd len="med" type="triangle" w="med"/>
            </a:ln>
          </p:spPr>
        </p:cxnSp>
        <p:grpSp>
          <p:nvGrpSpPr>
            <p:cNvPr id="106" name="Group 35"/>
            <p:cNvGrpSpPr/>
            <p:nvPr/>
          </p:nvGrpSpPr>
          <p:grpSpPr>
            <a:xfrm>
              <a:off x="1835280" y="3406680"/>
              <a:ext cx="1404360" cy="858960"/>
              <a:chOff x="1835280" y="3406680"/>
              <a:chExt cx="1404360" cy="858960"/>
            </a:xfrm>
          </p:grpSpPr>
          <p:sp>
            <p:nvSpPr>
              <p:cNvPr id="107" name="Round Same Side Corner Rectangle 82"/>
              <p:cNvSpPr/>
              <p:nvPr/>
            </p:nvSpPr>
            <p:spPr>
              <a:xfrm>
                <a:off x="1881000" y="3416400"/>
                <a:ext cx="1247760" cy="660600"/>
              </a:xfrm>
              <a:custGeom>
                <a:avLst/>
                <a:gdLst>
                  <a:gd name="textAreaLeft" fmla="*/ 34200 w 1247760"/>
                  <a:gd name="textAreaRight" fmla="*/ 1213560 w 1247760"/>
                  <a:gd name="textAreaTop" fmla="*/ 30960 h 660600"/>
                  <a:gd name="textAreaBottom" fmla="*/ 660960 h 660600"/>
                </a:gdLst>
                <a:ahLst/>
                <a:rect l="textAreaLeft" t="textAreaTop" r="textAreaRight" b="textAreaBottom"/>
                <a:pathLst>
                  <a:path w="883551" h="520907">
                    <a:moveTo>
                      <a:pt x="83392" y="0"/>
                    </a:moveTo>
                    <a:lnTo>
                      <a:pt x="800159" y="0"/>
                    </a:lnTo>
                    <a:lnTo>
                      <a:pt x="800159" y="0"/>
                    </a:lnTo>
                    <a:arcTo wR="83392" hR="83392" stAng="-5400000" swAng="5400000"/>
                    <a:lnTo>
                      <a:pt x="883551" y="520907"/>
                    </a:lnTo>
                    <a:lnTo>
                      <a:pt x="0" y="520907"/>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ound Same Side Corner Rectangle 83"/>
              <p:cNvSpPr/>
              <p:nvPr/>
            </p:nvSpPr>
            <p:spPr>
              <a:xfrm flipV="1">
                <a:off x="1882800" y="3752280"/>
                <a:ext cx="1245960" cy="513000"/>
              </a:xfrm>
              <a:custGeom>
                <a:avLst/>
                <a:gdLst>
                  <a:gd name="textAreaLeft" fmla="*/ 23760 w 1245960"/>
                  <a:gd name="textAreaRight" fmla="*/ 1222200 w 1245960"/>
                  <a:gd name="textAreaTop" fmla="*/ 21240 h 513000"/>
                  <a:gd name="textAreaBottom" fmla="*/ 513360 h 513000"/>
                </a:gdLst>
                <a:ahLst/>
                <a:rect l="textAreaLeft" t="textAreaTop" r="textAreaRight" b="textAreaBottom"/>
                <a:pathLst>
                  <a:path w="882427" h="404455">
                    <a:moveTo>
                      <a:pt x="57679" y="0"/>
                    </a:moveTo>
                    <a:lnTo>
                      <a:pt x="824748" y="0"/>
                    </a:lnTo>
                    <a:lnTo>
                      <a:pt x="824748" y="0"/>
                    </a:lnTo>
                    <a:arcTo wR="57679" hR="57679" stAng="-5400000" swAng="5400000"/>
                    <a:lnTo>
                      <a:pt x="882427" y="404455"/>
                    </a:lnTo>
                    <a:lnTo>
                      <a:pt x="0" y="404455"/>
                    </a:lnTo>
                    <a:lnTo>
                      <a:pt x="0" y="57679"/>
                    </a:lnTo>
                    <a:lnTo>
                      <a:pt x="0" y="57679"/>
                    </a:lnTo>
                    <a:arcTo wR="57679" hR="5767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84"/>
              <p:cNvSpPr/>
              <p:nvPr/>
            </p:nvSpPr>
            <p:spPr>
              <a:xfrm>
                <a:off x="190404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10" name="TextBox 85"/>
              <p:cNvSpPr/>
              <p:nvPr/>
            </p:nvSpPr>
            <p:spPr>
              <a:xfrm>
                <a:off x="1835280" y="3769200"/>
                <a:ext cx="140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111" name="Group 43"/>
            <p:cNvGrpSpPr/>
            <p:nvPr/>
          </p:nvGrpSpPr>
          <p:grpSpPr>
            <a:xfrm>
              <a:off x="4036680" y="3412800"/>
              <a:ext cx="1384200" cy="1092240"/>
              <a:chOff x="4036680" y="3412800"/>
              <a:chExt cx="1384200" cy="1092240"/>
            </a:xfrm>
          </p:grpSpPr>
          <p:sp>
            <p:nvSpPr>
              <p:cNvPr id="112" name="Round Same Side Corner Rectangle 44"/>
              <p:cNvSpPr/>
              <p:nvPr/>
            </p:nvSpPr>
            <p:spPr>
              <a:xfrm>
                <a:off x="4071600" y="3422520"/>
                <a:ext cx="1245960" cy="660240"/>
              </a:xfrm>
              <a:custGeom>
                <a:avLst/>
                <a:gdLst>
                  <a:gd name="textAreaLeft" fmla="*/ 34200 w 1245960"/>
                  <a:gd name="textAreaRight" fmla="*/ 1211760 w 1245960"/>
                  <a:gd name="textAreaTop" fmla="*/ 30960 h 660240"/>
                  <a:gd name="textAreaBottom" fmla="*/ 660600 h 660240"/>
                </a:gdLst>
                <a:ahLst/>
                <a:rect l="textAreaLeft" t="textAreaTop" r="textAreaRight" b="textAreaBottom"/>
                <a:pathLst>
                  <a:path w="881191" h="520877">
                    <a:moveTo>
                      <a:pt x="83387" y="0"/>
                    </a:moveTo>
                    <a:lnTo>
                      <a:pt x="797804" y="0"/>
                    </a:lnTo>
                    <a:lnTo>
                      <a:pt x="797804" y="0"/>
                    </a:lnTo>
                    <a:arcTo wR="83387" hR="83387" stAng="-5400000" swAng="5400000"/>
                    <a:lnTo>
                      <a:pt x="881191" y="520877"/>
                    </a:lnTo>
                    <a:lnTo>
                      <a:pt x="0" y="520877"/>
                    </a:lnTo>
                    <a:lnTo>
                      <a:pt x="0" y="83387"/>
                    </a:lnTo>
                    <a:lnTo>
                      <a:pt x="0" y="83387"/>
                    </a:lnTo>
                    <a:arcTo wR="83387" hR="833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 Same Side Corner Rectangle 45"/>
              <p:cNvSpPr/>
              <p:nvPr/>
            </p:nvSpPr>
            <p:spPr>
              <a:xfrm flipV="1">
                <a:off x="4071600" y="3758400"/>
                <a:ext cx="1245960" cy="746280"/>
              </a:xfrm>
              <a:custGeom>
                <a:avLst/>
                <a:gdLst>
                  <a:gd name="textAreaLeft" fmla="*/ 34560 w 1245960"/>
                  <a:gd name="textAreaRight" fmla="*/ 1211400 w 1245960"/>
                  <a:gd name="textAreaTop" fmla="*/ 30600 h 746280"/>
                  <a:gd name="textAreaBottom" fmla="*/ 746280 h 746280"/>
                </a:gdLst>
                <a:ahLst/>
                <a:rect l="textAreaLeft" t="textAreaTop" r="textAreaRight" b="textAreaBottom"/>
                <a:pathLst>
                  <a:path w="881191" h="588491">
                    <a:moveTo>
                      <a:pt x="83925" y="0"/>
                    </a:moveTo>
                    <a:lnTo>
                      <a:pt x="797266" y="0"/>
                    </a:lnTo>
                    <a:lnTo>
                      <a:pt x="797266" y="0"/>
                    </a:lnTo>
                    <a:arcTo wR="83925" hR="83925" stAng="-5400000" swAng="5400000"/>
                    <a:lnTo>
                      <a:pt x="881191" y="588491"/>
                    </a:lnTo>
                    <a:lnTo>
                      <a:pt x="0" y="588491"/>
                    </a:lnTo>
                    <a:lnTo>
                      <a:pt x="0" y="83925"/>
                    </a:lnTo>
                    <a:lnTo>
                      <a:pt x="0" y="83925"/>
                    </a:lnTo>
                    <a:arcTo wR="83925" hR="8392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84"/>
              <p:cNvSpPr/>
              <p:nvPr/>
            </p:nvSpPr>
            <p:spPr>
              <a:xfrm>
                <a:off x="4087440" y="34128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15" name="TextBox 85"/>
              <p:cNvSpPr/>
              <p:nvPr/>
            </p:nvSpPr>
            <p:spPr>
              <a:xfrm>
                <a:off x="4036680" y="3774960"/>
                <a:ext cx="13842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16" name="Group 30"/>
            <p:cNvGrpSpPr/>
            <p:nvPr/>
          </p:nvGrpSpPr>
          <p:grpSpPr>
            <a:xfrm>
              <a:off x="6188040" y="3416760"/>
              <a:ext cx="1406520" cy="833040"/>
              <a:chOff x="6188040" y="3416760"/>
              <a:chExt cx="1406520" cy="833040"/>
            </a:xfrm>
          </p:grpSpPr>
          <p:sp>
            <p:nvSpPr>
              <p:cNvPr id="117" name="Round Same Side Corner Rectangle 49"/>
              <p:cNvSpPr/>
              <p:nvPr/>
            </p:nvSpPr>
            <p:spPr>
              <a:xfrm>
                <a:off x="6194160" y="3425760"/>
                <a:ext cx="1247760" cy="660600"/>
              </a:xfrm>
              <a:custGeom>
                <a:avLst/>
                <a:gdLst>
                  <a:gd name="textAreaLeft" fmla="*/ 30960 w 1247760"/>
                  <a:gd name="textAreaRight" fmla="*/ 1216800 w 1247760"/>
                  <a:gd name="textAreaTop" fmla="*/ 30960 h 660600"/>
                  <a:gd name="textAreaBottom" fmla="*/ 660960 h 660600"/>
                </a:gdLst>
                <a:ahLst/>
                <a:rect l="textAreaLeft" t="textAreaTop" r="textAreaRight" b="textAreaBottom"/>
                <a:pathLst>
                  <a:path w="983678" h="521726">
                    <a:moveTo>
                      <a:pt x="83523" y="0"/>
                    </a:moveTo>
                    <a:lnTo>
                      <a:pt x="900155" y="0"/>
                    </a:lnTo>
                    <a:lnTo>
                      <a:pt x="900155" y="0"/>
                    </a:lnTo>
                    <a:arcTo wR="83523" hR="83523" stAng="-5400000" swAng="5400000"/>
                    <a:lnTo>
                      <a:pt x="983678" y="521726"/>
                    </a:lnTo>
                    <a:lnTo>
                      <a:pt x="0" y="521726"/>
                    </a:lnTo>
                    <a:lnTo>
                      <a:pt x="0" y="83523"/>
                    </a:lnTo>
                    <a:lnTo>
                      <a:pt x="0" y="83523"/>
                    </a:lnTo>
                    <a:arcTo wR="83523" hR="835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ound Same Side Corner Rectangle 50"/>
              <p:cNvSpPr/>
              <p:nvPr/>
            </p:nvSpPr>
            <p:spPr>
              <a:xfrm flipV="1">
                <a:off x="6194160" y="3762360"/>
                <a:ext cx="1247760" cy="487440"/>
              </a:xfrm>
              <a:custGeom>
                <a:avLst/>
                <a:gdLst>
                  <a:gd name="textAreaLeft" fmla="*/ 20160 w 1247760"/>
                  <a:gd name="textAreaRight" fmla="*/ 1227600 w 1247760"/>
                  <a:gd name="textAreaTop" fmla="*/ 20520 h 487440"/>
                  <a:gd name="textAreaBottom" fmla="*/ 488160 h 487440"/>
                </a:gdLst>
                <a:ahLst/>
                <a:rect l="textAreaLeft" t="textAreaTop" r="textAreaRight" b="textAreaBottom"/>
                <a:pathLst>
                  <a:path w="983678" h="385024">
                    <a:moveTo>
                      <a:pt x="54908" y="0"/>
                    </a:moveTo>
                    <a:lnTo>
                      <a:pt x="928770" y="0"/>
                    </a:lnTo>
                    <a:lnTo>
                      <a:pt x="928770" y="0"/>
                    </a:lnTo>
                    <a:arcTo wR="54908" hR="54908" stAng="-5400000" swAng="5400000"/>
                    <a:lnTo>
                      <a:pt x="983678" y="385024"/>
                    </a:lnTo>
                    <a:lnTo>
                      <a:pt x="0" y="385024"/>
                    </a:lnTo>
                    <a:lnTo>
                      <a:pt x="0" y="54908"/>
                    </a:lnTo>
                    <a:lnTo>
                      <a:pt x="0" y="54908"/>
                    </a:lnTo>
                    <a:arcTo wR="54908" hR="5490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4"/>
              <p:cNvSpPr/>
              <p:nvPr/>
            </p:nvSpPr>
            <p:spPr>
              <a:xfrm>
                <a:off x="6213960" y="34167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20" name="TextBox 85"/>
              <p:cNvSpPr/>
              <p:nvPr/>
            </p:nvSpPr>
            <p:spPr>
              <a:xfrm>
                <a:off x="6188040" y="3778560"/>
                <a:ext cx="14065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31"/>
            <p:cNvGrpSpPr/>
            <p:nvPr/>
          </p:nvGrpSpPr>
          <p:grpSpPr>
            <a:xfrm>
              <a:off x="4041720" y="1227240"/>
              <a:ext cx="1374480" cy="1647720"/>
              <a:chOff x="4041720" y="1227240"/>
              <a:chExt cx="1374480" cy="1647720"/>
            </a:xfrm>
          </p:grpSpPr>
          <p:sp>
            <p:nvSpPr>
              <p:cNvPr id="122" name="Round Same Side Corner Rectangle 32"/>
              <p:cNvSpPr/>
              <p:nvPr/>
            </p:nvSpPr>
            <p:spPr>
              <a:xfrm>
                <a:off x="4089240" y="1236600"/>
                <a:ext cx="1254240" cy="660600"/>
              </a:xfrm>
              <a:custGeom>
                <a:avLst/>
                <a:gdLst>
                  <a:gd name="textAreaLeft" fmla="*/ 30600 w 1254240"/>
                  <a:gd name="textAreaRight" fmla="*/ 1223640 w 1254240"/>
                  <a:gd name="textAreaTop" fmla="*/ 30960 h 660600"/>
                  <a:gd name="textAreaBottom" fmla="*/ 660960 h 660600"/>
                </a:gdLst>
                <a:ahLst/>
                <a:rect l="textAreaLeft" t="textAreaTop" r="textAreaRight" b="textAreaBottom"/>
                <a:pathLst>
                  <a:path w="990589" h="520837">
                    <a:moveTo>
                      <a:pt x="83381" y="0"/>
                    </a:moveTo>
                    <a:lnTo>
                      <a:pt x="907208" y="0"/>
                    </a:lnTo>
                    <a:lnTo>
                      <a:pt x="907208" y="0"/>
                    </a:lnTo>
                    <a:arcTo wR="83381" hR="83381" stAng="-5400000" swAng="5400000"/>
                    <a:lnTo>
                      <a:pt x="990589" y="520837"/>
                    </a:lnTo>
                    <a:lnTo>
                      <a:pt x="0" y="520837"/>
                    </a:lnTo>
                    <a:lnTo>
                      <a:pt x="0" y="83381"/>
                    </a:lnTo>
                    <a:lnTo>
                      <a:pt x="0" y="83381"/>
                    </a:lnTo>
                    <a:arcTo wR="83381" hR="8338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ound Same Side Corner Rectangle 33"/>
              <p:cNvSpPr/>
              <p:nvPr/>
            </p:nvSpPr>
            <p:spPr>
              <a:xfrm flipV="1">
                <a:off x="4089240" y="1572480"/>
                <a:ext cx="1254240" cy="1302120"/>
              </a:xfrm>
              <a:custGeom>
                <a:avLst/>
                <a:gdLst>
                  <a:gd name="textAreaLeft" fmla="*/ 52200 w 1254240"/>
                  <a:gd name="textAreaRight" fmla="*/ 1202040 w 1254240"/>
                  <a:gd name="textAreaTop" fmla="*/ 52200 h 1302120"/>
                  <a:gd name="textAreaBottom" fmla="*/ 1302480 h 1302120"/>
                </a:gdLst>
                <a:ahLst/>
                <a:rect l="textAreaLeft" t="textAreaTop" r="textAreaRight" b="textAreaBottom"/>
                <a:pathLst>
                  <a:path w="990589" h="1026650">
                    <a:moveTo>
                      <a:pt x="141268" y="0"/>
                    </a:moveTo>
                    <a:lnTo>
                      <a:pt x="849321" y="0"/>
                    </a:lnTo>
                    <a:lnTo>
                      <a:pt x="849321" y="0"/>
                    </a:lnTo>
                    <a:arcTo wR="141268" hR="141268" stAng="-5400000" swAng="5400000"/>
                    <a:lnTo>
                      <a:pt x="990589" y="1026650"/>
                    </a:lnTo>
                    <a:lnTo>
                      <a:pt x="0" y="1026650"/>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84"/>
              <p:cNvSpPr/>
              <p:nvPr/>
            </p:nvSpPr>
            <p:spPr>
              <a:xfrm>
                <a:off x="4121640" y="12272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25" name="TextBox 85"/>
              <p:cNvSpPr/>
              <p:nvPr/>
            </p:nvSpPr>
            <p:spPr>
              <a:xfrm>
                <a:off x="4041720" y="1589760"/>
                <a:ext cx="13744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126" name="Elbow Connector 36"/>
            <p:cNvCxnSpPr>
              <a:stCxn id="123" idx="3"/>
              <a:endCxn id="107" idx="3"/>
            </p:cNvCxnSpPr>
            <p:nvPr/>
          </p:nvCxnSpPr>
          <p:spPr>
            <a:xfrm rot="5400000">
              <a:off x="3339720" y="2039760"/>
              <a:ext cx="541800" cy="2212200"/>
            </a:xfrm>
            <a:prstGeom prst="bentConnector3">
              <a:avLst>
                <a:gd name="adj1" fmla="val 50000"/>
              </a:avLst>
            </a:prstGeom>
            <a:ln w="28440">
              <a:solidFill>
                <a:srgbClr val="c0504d"/>
              </a:solidFill>
              <a:round/>
              <a:tailEnd len="med" type="triangle" w="med"/>
            </a:ln>
          </p:spPr>
        </p:cxnSp>
        <p:cxnSp>
          <p:nvCxnSpPr>
            <p:cNvPr id="127" name="Elbow Connector 37"/>
            <p:cNvCxnSpPr>
              <a:stCxn id="123" idx="3"/>
              <a:endCxn id="117" idx="3"/>
            </p:cNvCxnSpPr>
            <p:nvPr/>
          </p:nvCxnSpPr>
          <p:spPr>
            <a:xfrm flipH="1" rot="16200000">
              <a:off x="5492160" y="2099520"/>
              <a:ext cx="551520" cy="2101680"/>
            </a:xfrm>
            <a:prstGeom prst="bentConnector3">
              <a:avLst>
                <a:gd name="adj1" fmla="val 49967"/>
              </a:avLst>
            </a:prstGeom>
            <a:ln w="28440">
              <a:solidFill>
                <a:srgbClr val="c0504d"/>
              </a:solidFill>
              <a:round/>
              <a:tailEnd len="med" type="triangle" w="med"/>
            </a:ln>
          </p:spPr>
        </p:cxnSp>
      </p:gr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heritance</a:t>
            </a:r>
            <a:br>
              <a:rPr sz="4000"/>
            </a:br>
            <a:endParaRPr b="0" lang="en-US" sz="4000" spc="-1" strike="noStrike">
              <a:solidFill>
                <a:srgbClr val="000000"/>
              </a:solidFill>
              <a:latin typeface="Calibri"/>
            </a:endParaRPr>
          </a:p>
        </p:txBody>
      </p:sp>
      <p:grpSp>
        <p:nvGrpSpPr>
          <p:cNvPr id="129" name="Group 29"/>
          <p:cNvGrpSpPr/>
          <p:nvPr/>
        </p:nvGrpSpPr>
        <p:grpSpPr>
          <a:xfrm>
            <a:off x="2035080" y="4359240"/>
            <a:ext cx="5173920" cy="1905120"/>
            <a:chOff x="2035080" y="4359240"/>
            <a:chExt cx="5173920" cy="1905120"/>
          </a:xfrm>
        </p:grpSpPr>
        <p:pic>
          <p:nvPicPr>
            <p:cNvPr id="130" name="Picture 5" descr="C:\DOCUME~1\kennys\LOCALS~1\Temp\SNAGHTML38521aca.PNG"/>
            <p:cNvPicPr/>
            <p:nvPr/>
          </p:nvPicPr>
          <p:blipFill>
            <a:blip r:embed="rId1"/>
            <a:stretch/>
          </p:blipFill>
          <p:spPr>
            <a:xfrm>
              <a:off x="2035080" y="4566960"/>
              <a:ext cx="896760" cy="1489320"/>
            </a:xfrm>
            <a:prstGeom prst="rect">
              <a:avLst/>
            </a:prstGeom>
            <a:ln w="0">
              <a:noFill/>
            </a:ln>
          </p:spPr>
        </p:pic>
        <p:pic>
          <p:nvPicPr>
            <p:cNvPr id="131" name="Picture 7" descr="C:\work\Java_fundamentals\lessons\les_06_vars\socks.gif"/>
            <p:cNvPicPr/>
            <p:nvPr/>
          </p:nvPicPr>
          <p:blipFill>
            <a:blip r:embed="rId2"/>
            <a:stretch/>
          </p:blipFill>
          <p:spPr>
            <a:xfrm>
              <a:off x="6666120" y="4673520"/>
              <a:ext cx="542880" cy="1276560"/>
            </a:xfrm>
            <a:prstGeom prst="rect">
              <a:avLst/>
            </a:prstGeom>
            <a:ln w="0">
              <a:noFill/>
            </a:ln>
          </p:spPr>
        </p:pic>
        <p:pic>
          <p:nvPicPr>
            <p:cNvPr id="132" name="Picture 10" descr="C:\DOCUME~1\kennys\LOCALS~1\Temp\SNAGHTML3853fc4b.PNG"/>
            <p:cNvPicPr/>
            <p:nvPr/>
          </p:nvPicPr>
          <p:blipFill>
            <a:blip r:embed="rId3"/>
            <a:stretch/>
          </p:blipFill>
          <p:spPr>
            <a:xfrm>
              <a:off x="4228200" y="4359240"/>
              <a:ext cx="1095120" cy="19051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Overriding Superclass Methods</a:t>
            </a:r>
            <a:endParaRPr b="0" lang="en-US" sz="4400" spc="-1" strike="noStrike">
              <a:solidFill>
                <a:srgbClr val="000000"/>
              </a:solidFill>
              <a:latin typeface="Calibri"/>
            </a:endParaRPr>
          </a:p>
        </p:txBody>
      </p:sp>
      <p:sp>
        <p:nvSpPr>
          <p:cNvPr id="134" name=""/>
          <p:cNvSpPr txBox="1"/>
          <p:nvPr/>
        </p:nvSpPr>
        <p:spPr>
          <a:xfrm>
            <a:off x="609480" y="1447920"/>
            <a:ext cx="7918560" cy="191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Methods that exist in the superclass can b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Not 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perclass is used at run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bclass is used at run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22:42:25Z</dcterms:created>
  <dc:creator>Nikhila</dc:creator>
  <dc:description>Oracle University Production Services</dc:description>
  <dc:language>en-US</dc:language>
  <cp:lastModifiedBy>vgrinyak</cp:lastModifiedBy>
  <cp:lastPrinted>2011-07-11T07:17:54Z</cp:lastPrinted>
  <dcterms:modified xsi:type="dcterms:W3CDTF">2013-10-01T22:12:21Z</dcterms:modified>
  <cp:revision>574</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